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llowing information to complete the lecture handou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morrow’s quiz, you will be expected t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the atomic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 scientists to their experiments and discov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the models in chronologic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nucleus surrounded by negative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ed to explain presence of specific colors in hydrogen’s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c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Bohr (19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ary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move in circular orbits within specific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-lin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in specified energy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: region around the nucleus where e- are likely to be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 (19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 Model (orbi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represent probability of finding an e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ctual elec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particles in the nucleus of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liot-Curi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their 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Chadwick (19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sion of Rutherford’s Nuclear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critus (400 B.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that matter was composed of tiny indivisibl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based on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: ato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hemy (next 200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xture of science and mysticis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 procedures were developed, but alchemists did not perform controlled experiments like true scient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 (180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School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his theory on others’ experimenta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ard Bal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i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lton’s Four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are composed of small indivisible particles called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are identical.  Atoms of different elements are diffe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combine together in simple proportions to create a comp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hemical reaction, atoms are rearranged, but not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 Becquerel (189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radio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emission of radiation from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ha () - 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a () -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() -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ode Ray Tub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of negativ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particles within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J. Thomson (19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m-pudding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sphere (pudding)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lectrons (plums) dispersed throug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nest Rutherford (19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Foil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, positive charge in the center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514-BD44-419D-9DAB-9C1332B5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0A2-2D7D-438F-B188-3614C11D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1D5-2668-494C-A526-0BE00741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6E0-EE99-4ED2-A9CB-C4538134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0FCB-3210-4CE8-8C01-2CB1E2B1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61F6-7884-46CB-8444-580FDAAC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795F-8F9C-437A-A1EF-31A9D793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E007-661C-47CC-B112-3B37663A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E3BC-6B5A-43C5-9F9C-99827F55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6053-BEC7-43DA-91E2-CE413A6C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A7D8-DB0A-41E2-9BF9-D531180F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77E-4470-4C52-AB10-CD161E4F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638F-F02A-4D9C-BD15-8D9C4BFC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F6C0-3489-4D73-BFEE-8DF2F01F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4B12-DFC3-40D3-A34F-68599BCE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58D7-BC81-4807-90B9-615EC7CB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D4E7-D88A-49B4-AAE9-FF73BEDE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210-1C8A-42B1-B8B7-15D45C4F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A2D-E2DC-47E3-B53D-1A9DA59E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71F-0CC0-440C-8D51-D1D2C05C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0CF-5763-4B9F-93C8-B26B8A5B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AC7-96D0-4F99-8E22-3E49A88E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254-B6DA-449F-A1EA-F95B0BEE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9BA-BC74-4C8A-99B5-D8C0F200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86C3-2134-482F-A4CC-7805754D6B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CD1D-CE8E-494F-AD31-3F21BF673C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Atomic Structure Timeline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3480" y="3033720"/>
            <a:ext cx="7817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following information to complete the lecture handout.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 tomorrow’s quiz, you will be expected to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the atomic mod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tch scientists to their experiments and discover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lace the models in chronological ord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3600" y="5305320"/>
            <a:ext cx="661680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nucleus surrounded by negative electr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5" descr="C:\My Documents\Christy's Stuff\Teaching Stuff\01-02 School Year\Chemistry\Lessons\Atomic Structure\Atomic Structure Timeline\atom_pic3.jpg"/>
          <p:cNvPicPr/>
          <p:nvPr/>
        </p:nvPicPr>
        <p:blipFill>
          <a:blip r:embed="rId1"/>
          <a:stretch/>
        </p:blipFill>
        <p:spPr>
          <a:xfrm>
            <a:off x="1428840" y="1992240"/>
            <a:ext cx="628632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Picture 3" descr="C:\My Documents\Christy's Stuff\Teaching Stuff\00-01 School Year\Both Classes\Atomic Structure Timeline\Bohr.jpg"/>
          <p:cNvPicPr/>
          <p:nvPr/>
        </p:nvPicPr>
        <p:blipFill>
          <a:blip r:embed="rId1"/>
          <a:stretch/>
        </p:blipFill>
        <p:spPr>
          <a:xfrm>
            <a:off x="355680" y="2486160"/>
            <a:ext cx="3024000" cy="370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5800" y="2238480"/>
            <a:ext cx="51829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ied to explain presence of specific colors in hydrogen’s spectru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c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Niels Boh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5800" y="4141800"/>
            <a:ext cx="5182920" cy="22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netary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ctrons move in circular orbits within specific energy lev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atom_movie4.avi" descr=""/>
          <p:cNvPicPr/>
          <p:nvPr/>
        </p:nvPicPr>
        <p:blipFill>
          <a:blip r:embed="rId1"/>
          <a:stretch/>
        </p:blipFill>
        <p:spPr>
          <a:xfrm>
            <a:off x="455760" y="3687840"/>
            <a:ext cx="3049560" cy="297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My Documents\Christy's Stuff\Teaching Stuff\01-02 School Year\Chemistry\Lessons\Atomic Structure\Atomic Structure Timeline\atom_pic6.jpg"/>
          <p:cNvPicPr/>
          <p:nvPr/>
        </p:nvPicPr>
        <p:blipFill>
          <a:blip r:embed="rId2"/>
          <a:stretch/>
        </p:blipFill>
        <p:spPr>
          <a:xfrm>
            <a:off x="1938240" y="2036880"/>
            <a:ext cx="5267520" cy="752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1"/>
          <p:cNvSpPr/>
          <p:nvPr/>
        </p:nvSpPr>
        <p:spPr>
          <a:xfrm>
            <a:off x="1981080" y="2770200"/>
            <a:ext cx="51832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ght-line spec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Quantum mechanics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lectrons can only exist in specified energy st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Arial"/>
              </a:rPr>
              <a:t>orbital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: region around the nucleus where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are likely to be f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Picture 4" descr="C:\My Documents\Christy's Stuff\Teaching Stuff\00-01 School Year\Both Classes\Atomic Structure Timeline\Schrodinger.jpg"/>
          <p:cNvPicPr/>
          <p:nvPr/>
        </p:nvPicPr>
        <p:blipFill>
          <a:blip r:embed="rId1"/>
          <a:stretch/>
        </p:blipFill>
        <p:spPr>
          <a:xfrm>
            <a:off x="355680" y="2486160"/>
            <a:ext cx="2997000" cy="41400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win Schrödinger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2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5154120"/>
            <a:ext cx="9144000" cy="11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lectron Cloud Model (orbita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257040" indent="-25704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ots represent probability of finding an e</a:t>
            </a:r>
            <a:r>
              <a:rPr b="0" lang="en-US" sz="2800" spc="-1" strike="noStrike" baseline="30000">
                <a:solidFill>
                  <a:srgbClr val="ffcc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actual electron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Electron Cloud.avi" descr=""/>
          <p:cNvPicPr/>
          <p:nvPr/>
        </p:nvPicPr>
        <p:blipFill>
          <a:blip r:embed="rId1"/>
          <a:stretch/>
        </p:blipFill>
        <p:spPr>
          <a:xfrm>
            <a:off x="2239920" y="2151000"/>
            <a:ext cx="4660920" cy="293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4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6" name="Picture 3" descr="C:\My Documents\Christy's Stuff\Teaching Stuff\00-01 School Year\Both Classes\Atomic Structure Timeline\CHADWICK.GIF"/>
          <p:cNvPicPr/>
          <p:nvPr/>
        </p:nvPicPr>
        <p:blipFill>
          <a:blip r:embed="rId1"/>
          <a:srcRect l="0" t="0" r="0" b="12923"/>
          <a:stretch/>
        </p:blipFill>
        <p:spPr>
          <a:xfrm>
            <a:off x="355680" y="2486160"/>
            <a:ext cx="2898720" cy="38145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iscovered neu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utral particles in the nucleus of an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oliot-Curi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their experimental evid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ames Chadwick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32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0" name="Picture 3" descr="C:\My Documents\Christy's Stuff\Teaching Stuff\00-01 School Year\Chemistry\Lessons\Atomic Structure\Atomic Structure Timeline\atom_pic1.jpg"/>
          <p:cNvPicPr/>
          <p:nvPr/>
        </p:nvPicPr>
        <p:blipFill>
          <a:blip r:embed="rId1"/>
          <a:stretch/>
        </p:blipFill>
        <p:spPr>
          <a:xfrm>
            <a:off x="1998720" y="2203560"/>
            <a:ext cx="514332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0400" y="5686560"/>
            <a:ext cx="7424640" cy="11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Neutron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vision of Rutherford’s Nuclear Model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Democritus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400 B.C.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3548" t="5862" r="77108" b="62766"/>
          <a:stretch/>
        </p:blipFill>
        <p:spPr>
          <a:xfrm>
            <a:off x="355680" y="2486160"/>
            <a:ext cx="3011400" cy="3662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65616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roposed that matter was composed of tiny indivisible partic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ot based on experimental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"/>
              </a:rPr>
              <a:t>Greek: atom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lchemy </a:t>
            </a:r>
            <a:r>
              <a:rPr b="0" i="1" lang="en-US" sz="4000" spc="-1" strike="noStrike">
                <a:solidFill>
                  <a:srgbClr val="ffcc66"/>
                </a:solidFill>
                <a:latin typeface="Arial"/>
              </a:rPr>
              <a:t>(next 2000 years)</a:t>
            </a:r>
            <a:endParaRPr b="1" i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409680" y="4125960"/>
            <a:ext cx="2266920" cy="188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086280" y="3468600"/>
            <a:ext cx="3098520" cy="320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6595920" y="3479760"/>
            <a:ext cx="2138400" cy="3181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8240" y="20732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xture of science and mysticism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ab procedures were developed, but alchemists did not perform controlled experiments like true scientis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07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rcRect l="7753" t="5448" r="60308" b="43342"/>
          <a:stretch/>
        </p:blipFill>
        <p:spPr>
          <a:xfrm>
            <a:off x="341280" y="2676600"/>
            <a:ext cx="2916360" cy="3504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60680" y="2485800"/>
            <a:ext cx="537840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ritish Schoolteac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ed his theory on others’ experimental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Billiard Ball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tom is a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niform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lid sp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Picture 5" descr="C:\My Documents\Christy's Stuff\Teaching Stuff\01-02 School Year\Chemistry\Lessons\Atomic Structure\Atomic Structure Timeline\atom_pic2.jpg"/>
          <p:cNvPicPr/>
          <p:nvPr/>
        </p:nvPicPr>
        <p:blipFill>
          <a:blip r:embed="rId2"/>
          <a:stretch/>
        </p:blipFill>
        <p:spPr>
          <a:xfrm>
            <a:off x="6627960" y="4684680"/>
            <a:ext cx="2133360" cy="20592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ohn Dalton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088360" y="198612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Dalton’s Four Postul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25320" y="2687760"/>
            <a:ext cx="795024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ements are composed of small indivisible particles called ato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the same element are identical.  Atoms of different elements are diffe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s of different elements combine together in simple proportions to create a compou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 chemical reaction, atoms are rearranged, but not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Henri Becquerel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896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66159" t="51357" r="5241" b="4474"/>
          <a:stretch/>
        </p:blipFill>
        <p:spPr>
          <a:xfrm>
            <a:off x="355680" y="2486160"/>
            <a:ext cx="3029040" cy="3508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radio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pontaneous emission of radiation from the nucle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ree typ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lph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posi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t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gativ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gamma (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 - neut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Picture 1027" descr=""/>
          <p:cNvPicPr/>
          <p:nvPr/>
        </p:nvPicPr>
        <p:blipFill>
          <a:blip r:embed="rId1"/>
          <a:srcRect l="0" t="0" r="80041" b="66314"/>
          <a:stretch/>
        </p:blipFill>
        <p:spPr>
          <a:xfrm>
            <a:off x="357120" y="2482920"/>
            <a:ext cx="3025800" cy="3828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2371320"/>
            <a:ext cx="5183280" cy="42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thode Ray Tube Experim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eam of negative partic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Electr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particles within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J. J. Thomson 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(1903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322880" y="3231720"/>
            <a:ext cx="4618080" cy="29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um-pudding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ositive sphere (pudding) wit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egative electrons (plums) dispersed through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1030" descr="C:\My Documents\Christy's Stuff\Teaching Stuff\01-02 School Year\Chemistry\Lessons\Atomic Structure\Atomic Structure Timeline\atom_pic4.jpg"/>
          <p:cNvPicPr/>
          <p:nvPr/>
        </p:nvPicPr>
        <p:blipFill>
          <a:blip r:embed="rId1"/>
          <a:stretch/>
        </p:blipFill>
        <p:spPr>
          <a:xfrm>
            <a:off x="304920" y="2397240"/>
            <a:ext cx="3809880" cy="40194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Ernest Rutherford</a:t>
            </a:r>
            <a:r>
              <a:rPr b="0" i="1" lang="en-US" sz="4400" spc="-1" strike="noStrike">
                <a:solidFill>
                  <a:srgbClr val="ffcc66"/>
                </a:solidFill>
                <a:latin typeface="Arial"/>
              </a:rPr>
              <a:t> (1911)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Picture 1027" descr=""/>
          <p:cNvPicPr/>
          <p:nvPr/>
        </p:nvPicPr>
        <p:blipFill>
          <a:blip r:embed="rId1"/>
          <a:srcRect l="4321" t="5708" r="75878" b="60150"/>
          <a:stretch/>
        </p:blipFill>
        <p:spPr>
          <a:xfrm>
            <a:off x="355680" y="2486160"/>
            <a:ext cx="3049560" cy="3952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55800" y="2486160"/>
            <a:ext cx="518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ld Foil Experi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scovered the nucle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ense, positive charge in the center of the ato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uclear Mod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osn</dc:creator>
  <dc:description/>
  <dc:language>en-US</dc:language>
  <cp:lastModifiedBy>LEGION</cp:lastModifiedBy>
  <dcterms:modified xsi:type="dcterms:W3CDTF">2017-01-26T09:34:23Z</dcterms:modified>
  <cp:revision>56</cp:revision>
  <dc:subject/>
  <dc:title>Atomic Structure Timeline</dc:title>
</cp:coreProperties>
</file>