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10.png" ContentType="image/png"/>
  <Override PartName="/ppt/media/drumroll.wav" ContentType="audio/x-wav"/>
  <Override PartName="/ppt/media/applause.wav" ContentType="audio/x-wav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11BD-07D3-4E10-8A88-792B576525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ND ATOMIC STRUCTUR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  Nucleus  Proton  Neutron  Elec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S AND ATOMIC STRUCTUR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  Nucleus  Proton  Neutron  Electr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T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unit of an e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sts of a central nucleus surrounded by one or more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ATO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mallest unit of an ele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sts of a central nucleus surrounded by one or more electr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NUCLE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part of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protons and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ains most of an atom's mas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NUCLE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entral part of an ato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osed of protons and neutr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ins most of an atom's mas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PROT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ly charged parti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within an atomic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PROT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ly charged partic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nd within an atomic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NEUTR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charged parti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within an atomic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NEUTR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charged partic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nd within an atomic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ELECTR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ly charged parti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in shells that surround an atom's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ELECTR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ly charged partic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cated in shells that surround an atom's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lcome to MATTERVILLE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elcome to MATTERVILLE 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5BDB-27FF-4AD8-BD49-A735D25E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6198-A477-4317-A4B5-5157A60F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2ADD-D188-4990-92B1-4EAF0DCF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0CA9-7619-49A7-92D9-2FEA4E80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F093-452C-4718-8841-791BB16F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8F13-05A4-41DC-A4A6-E24148FE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9FB4-F790-4847-8AAB-B9883062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74F2-3496-4FC5-B960-8E04632C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C50F-6FA0-40BF-A780-4A8402C5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9FC0-FF2D-4AB4-8C31-F2435F48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F4B3-0E8F-4084-B05B-15ECEE8F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5D88-5CC0-4DB0-9641-3C8E457D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7BD7-F7FC-4CE9-972F-EC2BB8D6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FAF3-BA78-4A2D-8596-A3FAAF73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8556-0218-4707-805D-B15F41DB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0A35-4549-4D7F-97B5-9000DD9F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29E3-DCA9-43D5-BC89-BD16746E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2C1F-ECAD-4C43-9E17-94FA3807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3A4B-635F-4FF8-88CD-CA94E010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8E04-C302-4585-9722-4AF5B209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1A5E-E007-43A9-B3F0-82DD7884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4A71-6EAC-49EA-BDC9-3AC1BBD7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6329-3B32-4944-A638-819E624B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3734-7E27-4653-B41B-FE58DDB1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E468-BC31-4015-9F9B-0434E5B95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F173-D9E4-4C7A-A086-FC2C5B7150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drumroll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ATOMS AND ATOMIC STRUCTURE</a:t>
            </a:r>
            <a:br>
              <a:rPr sz="4000"/>
            </a:br>
            <a:br>
              <a:rPr sz="9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om  Nucleus  Proton  Neutron  Electr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8" descr="atom_animation"/>
          <p:cNvPicPr/>
          <p:nvPr/>
        </p:nvPicPr>
        <p:blipFill>
          <a:blip r:embed="rId1"/>
          <a:stretch/>
        </p:blipFill>
        <p:spPr>
          <a:xfrm>
            <a:off x="2971800" y="32767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N ATO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5410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smallest unit of an eleme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sists of a central nucleus surrounded by one or more electro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7" descr="Atom1"/>
          <p:cNvPicPr/>
          <p:nvPr/>
        </p:nvPicPr>
        <p:blipFill>
          <a:blip r:embed="rId1"/>
          <a:stretch/>
        </p:blipFill>
        <p:spPr>
          <a:xfrm>
            <a:off x="5607000" y="2057400"/>
            <a:ext cx="3344760" cy="38862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THE NUCLEU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9000" y="160020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central part of an ato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osed of protons and neutro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ains most of an atom's mas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nucleus1"/>
          <p:cNvPicPr/>
          <p:nvPr/>
        </p:nvPicPr>
        <p:blipFill>
          <a:blip r:embed="rId1"/>
          <a:stretch/>
        </p:blipFill>
        <p:spPr>
          <a:xfrm>
            <a:off x="228600" y="2057400"/>
            <a:ext cx="3048120" cy="30160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 PROT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5181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sitively charged partic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und within an atomic nucleus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7" descr="proton1"/>
          <p:cNvPicPr/>
          <p:nvPr/>
        </p:nvPicPr>
        <p:blipFill>
          <a:blip r:embed="rId1"/>
          <a:stretch/>
        </p:blipFill>
        <p:spPr>
          <a:xfrm>
            <a:off x="6095880" y="23623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 NEUTR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290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ncharged partic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und within an atomic nucleu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7" descr="neutron1"/>
          <p:cNvPicPr/>
          <p:nvPr/>
        </p:nvPicPr>
        <p:blipFill>
          <a:blip r:embed="rId1"/>
          <a:stretch/>
        </p:blipFill>
        <p:spPr>
          <a:xfrm>
            <a:off x="533520" y="22860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N ELECTR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gatively charged partic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ocated in shells that surround an atom's nucleu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7" descr="electron1"/>
          <p:cNvPicPr/>
          <p:nvPr/>
        </p:nvPicPr>
        <p:blipFill>
          <a:blip r:embed="rId1"/>
          <a:stretch/>
        </p:blipFill>
        <p:spPr>
          <a:xfrm>
            <a:off x="6019920" y="28954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elcome to MATTERVILLE 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23" descr="atompicture3"/>
          <p:cNvPicPr/>
          <p:nvPr/>
        </p:nvPicPr>
        <p:blipFill>
          <a:blip r:embed="rId1"/>
          <a:stretch/>
        </p:blipFill>
        <p:spPr>
          <a:xfrm>
            <a:off x="2543040" y="593640"/>
            <a:ext cx="4057920" cy="410544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02:09:13Z</dcterms:created>
  <dc:creator>Shutty</dc:creator>
  <dc:description/>
  <dc:language>en-US</dc:language>
  <cp:lastModifiedBy>LEGION</cp:lastModifiedBy>
  <dcterms:modified xsi:type="dcterms:W3CDTF">2017-01-26T09:32:58Z</dcterms:modified>
  <cp:revision>5</cp:revision>
  <dc:subject/>
  <dc:title>Slide 1</dc:title>
</cp:coreProperties>
</file>