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drumroll.wav" ContentType="audio/x-wav"/>
  <Override PartName="/ppt/media/applause.wav" ContentType="audio/x-wav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EEE2-F323-4957-AC02-91193B98DE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ND ATOMIC STRUCTUR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  Nucleus  Proton  Neutron  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AND ATOMIC STRUCTUR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  Nucleus  Proton  Neutron  Electr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unit of an e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sts of a central nucleus surrounded by one or mor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ATO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mallest unit of an ele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sts of a central nucleus surrounded by one or more electr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NUCLE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part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protons and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s most of an atom's ma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NUCLE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ntral part of an ato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ed of protons and neutr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most of an atom's mas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PROT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ly 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within an atomic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PROT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ly 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within an atomic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NEUT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within an atomic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NEUTR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within an atomic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ELECT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ly 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in shells that surround an atom's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ELECTR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ly 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ted in shells that surround an atom's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lcome to MATTERVILLE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elcome to MATTERVILLE 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481A-90A4-4A2F-81C6-0F66CC48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7CA-20A0-45BF-B872-AA9AA6F9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3C3-A59C-488A-A5F0-FFA6378A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D2C4-5032-42EE-AFA3-11347DC0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1F45-9139-4B02-84FD-ED280627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13FF-E36C-4923-A520-934AA850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3ADB-3287-4EE3-ABB7-59030CED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D5BC-51FD-4517-9E73-F08ABD8E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C1F1-421D-4582-B53C-7AFA97C6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308D-56EE-4034-AF61-5E8E30D0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C14C-DA70-4D00-9DAA-BA4DA925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8B52-1430-4226-A531-D4A22286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6689-15F2-43FE-AE4A-DEFD3F95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1ECE-DD02-49A3-BA52-ABEF6BB1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3ADD-DF9F-4899-BDA6-BD151B42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0366-EC08-45C3-B951-8A40C66A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6EBD-6DC3-4F68-B287-7E452CBD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5472-044F-4C8C-B8D8-BD24C4AA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8FD4-02A8-4FEF-B9A3-BC888E70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F24-8D3E-4F5B-8FF0-1973B4B1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93DE-80AD-4A0B-AACD-35FEAEA3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F11D-61B9-4DCF-B5AF-1661A734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AFFB-5504-4452-A988-7D2E0B69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771-EC5D-470E-988C-00164107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C590-2653-483C-9DE9-B5D219CFE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3CB7-E7D0-4659-AFAF-633570007D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drumroll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TOMS AND ATOMIC STRUCTURE</a:t>
            </a:r>
            <a:br>
              <a:rPr sz="4000"/>
            </a:br>
            <a:br>
              <a:rPr sz="9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om  Nucleus  Proton  Neutron  Electr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atom_animation"/>
          <p:cNvPicPr/>
          <p:nvPr/>
        </p:nvPicPr>
        <p:blipFill>
          <a:blip r:embed="rId1"/>
          <a:stretch/>
        </p:blipFill>
        <p:spPr>
          <a:xfrm>
            <a:off x="2971800" y="32767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N AT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54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smallest unit of an ele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sists of a central nucleus surrounded by one or more electr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Atom1"/>
          <p:cNvPicPr/>
          <p:nvPr/>
        </p:nvPicPr>
        <p:blipFill>
          <a:blip r:embed="rId1"/>
          <a:stretch/>
        </p:blipFill>
        <p:spPr>
          <a:xfrm>
            <a:off x="5607000" y="2057400"/>
            <a:ext cx="3344760" cy="38862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THE NUCLE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9000" y="160020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central part of an ato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osed of protons and neutr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ins most of an atom's mas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nucleus1"/>
          <p:cNvPicPr/>
          <p:nvPr/>
        </p:nvPicPr>
        <p:blipFill>
          <a:blip r:embed="rId1"/>
          <a:stretch/>
        </p:blipFill>
        <p:spPr>
          <a:xfrm>
            <a:off x="228600" y="2057400"/>
            <a:ext cx="3048120" cy="30160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 PROT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sitively 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und within an atomic nucleus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7" descr="proton1"/>
          <p:cNvPicPr/>
          <p:nvPr/>
        </p:nvPicPr>
        <p:blipFill>
          <a:blip r:embed="rId1"/>
          <a:stretch/>
        </p:blipFill>
        <p:spPr>
          <a:xfrm>
            <a:off x="6095880" y="23623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 NEUTR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90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und within an atomic nucleu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7" descr="neutron1"/>
          <p:cNvPicPr/>
          <p:nvPr/>
        </p:nvPicPr>
        <p:blipFill>
          <a:blip r:embed="rId1"/>
          <a:stretch/>
        </p:blipFill>
        <p:spPr>
          <a:xfrm>
            <a:off x="533520" y="22860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N ELECTR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gatively 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cated in shells that surround an atom's nucleu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7" descr="electron1"/>
          <p:cNvPicPr/>
          <p:nvPr/>
        </p:nvPicPr>
        <p:blipFill>
          <a:blip r:embed="rId1"/>
          <a:stretch/>
        </p:blipFill>
        <p:spPr>
          <a:xfrm>
            <a:off x="6019920" y="28954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elcome to MATTERVILLE 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3" descr="atompicture3"/>
          <p:cNvPicPr/>
          <p:nvPr/>
        </p:nvPicPr>
        <p:blipFill>
          <a:blip r:embed="rId1"/>
          <a:stretch/>
        </p:blipFill>
        <p:spPr>
          <a:xfrm>
            <a:off x="2543040" y="593640"/>
            <a:ext cx="4057920" cy="410544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2:09:13Z</dcterms:created>
  <dc:creator>Shutty</dc:creator>
  <dc:description/>
  <dc:language>en-US</dc:language>
  <cp:lastModifiedBy>LEGION</cp:lastModifiedBy>
  <dcterms:modified xsi:type="dcterms:W3CDTF">2017-01-26T09:32:58Z</dcterms:modified>
  <cp:revision>5</cp:revision>
  <dc:subject/>
  <dc:title>Slide 1</dc:title>
</cp:coreProperties>
</file>