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dt" idx="13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6672F-5048-4A37-BCF3-BF26B2092D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Chemical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 by adjusting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2 +    H2     NH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 by adjusting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 +    H2     NH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 by adjusting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ClO3     KCl +   O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 by adjusting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ClO3     KCl +  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2H6 +   O2    CO2 +  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O2    CO2 +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e +   O2     Fe2O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+   O2     Fe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emical equation - Describes a chemical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arts of an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hat is a chemical equation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 - Describes a chemical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n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equ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- The chemical(s) you start with before the rea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ritten on left side of equ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- The new chemical(s) formed by the rea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ight side of equ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s and Produ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- The chemical(s) you start with before the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on left side of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- The new chemical(s) formed by the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ide of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 and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ubscript - shows how many atoms of an element are in a molecu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: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atoms of hydrogen (H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atom of oxygen (O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efficient - shows how many molecules there are of a particular chemic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: 3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eans there are 3 water molecul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ubscripts and Coeffic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pt - shows how many atoms of an element are in a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toms of hydrogen (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atom of oxygen (O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- shows how many molecules there are of a particular chem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3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there are 3 water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pts and Coeffic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H2 + O2  2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Chemical Re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H2 + O2 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a chem. rxn, matter is neither created nor destroy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other words, the number and type of atoms going INTO a rxn must be the same as the number and type of atoms coming OU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f an equation obeys the Law of Conservation, it is balanc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aw of Conservation of M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hem. rxn, matter is neither created n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ther words, the number and type of atoms going INTO a rxn must be the same as the number and type of atoms coming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ation obeys the Law of Conservation, it is bal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4 + O2  CO2 +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n Unbalanced Eq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+ O2  CO2 +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balanc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Balanced Eq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4 + 2O2  CO2 + 2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lanc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+ 2O2  CO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. Matter cannot be created or destroy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. Subscripts cannot be added, removed, or 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. You can only change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. Coefficients can only go in front of chem. formulas...NEVER in the middle of a formul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few extra tip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ry balancing big formulas first; save free elements for las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f the same polyatomic ion appears on both sides of the equation, it’s usually okay to treat it as one uni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here is no one particular way to balance equations.  Some equations are harder to balance than others and might require some creativity to solv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ules of the G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atter cannot b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ubscripts cannot be added, removed, or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You can only change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Coefficients can only go in front of chem. formulas...NEVER in the middle of a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tra tip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balancing big formulas first; save free elements for 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ame polyatomic ion appears on both sides of the equation, it’s usually okay to treat it as one un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one particular way to balance equations.  Some equations are harder to balance than others and might require some creativity to 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of the 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67D-ADD6-4C06-9481-10DDA3A7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178-454E-4BA5-91FD-F6AC30EF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4C0-7183-4926-97C4-108D371E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40D-11FF-4C21-B745-A0ABB9C9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65920-F3AD-42E5-998F-6CE9B806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57D1B-93E0-4661-994C-00387E5E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FFEAA-65ED-4752-8887-E93F6013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72355-AB8D-422F-B246-04ECA8D0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91FCA-E323-41D5-85B7-2A1DB1E8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0BE4F-1BDA-4AFA-9F52-29930DB8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0B7B5-6702-49F9-A671-52E8EE76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6E1-6CC8-4B16-87F1-EB2E2DA5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A3C47-2BE8-494D-8115-8289B4B8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5CB4C-9F6B-40A0-8674-B9A7527B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D1554-DF78-4159-AF04-12E4C6B2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D5A22-FF78-4735-8606-4C8E9CA2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A2FB4-B6AC-4EE0-BED0-16687596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C9291-B4CF-421C-BDE3-C705D647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1C451-AFB8-4CC9-AE5E-A8F15C52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E003D-8815-413E-AF04-DEB2F381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4D239-9345-4BA4-8FD7-6DC5F152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E6F25-C6AF-468A-8917-06DB7713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DB1-49AA-4A75-94C0-E3D333EC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DEAD0-2162-42DF-9A40-9AA21A72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1F4EE-DF07-43F7-B679-096D63FB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AD357-DB12-48EC-ADD1-892CCE22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C6DD0-FA27-411A-8015-8DCB0204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CAE16-2725-4C37-B861-91414B91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63143-D312-440E-BBB6-3638C82F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04662-4166-4E07-B1EA-82F7249E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2F3E22-9230-41F0-B873-5D0E0855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00821D-0C0D-4928-A433-1A1C237A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34FF9F-69C1-4402-B5BE-6625F2C8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072D-C28E-464A-A653-5123C5EB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914C52-E58F-4A2D-B8E1-3670E4EB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97B83D-334F-4F65-B010-6762B18A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7997E4-9377-4142-A636-64CDC65F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79FEDF-79B2-4A3E-B22F-7B6DFD4C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E73378-F205-447B-8BE7-D25E5DBD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16F0E7-F6C0-4F83-9B6F-4508E387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D0E30C-85FF-4DA4-8148-DABD3091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F5D388-B0EC-4126-88BE-CD4ECCAA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393E57-FFE9-4AFD-A398-344E28AD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737-146A-47BA-80D2-71732E34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ACB-A1D9-4281-8865-CFCC7C3A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C59-7502-483B-A09C-CE82148C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51E6-39F9-4914-A000-635EAC9E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93E-8AAF-4430-95A3-4F122118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2E93D-F18A-4DE3-8384-036E41B815A1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612800" y="3913200"/>
            <a:ext cx="327672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5191200" y="3913200"/>
            <a:ext cx="327636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5005440" y="3887640"/>
            <a:ext cx="50760" cy="4932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-15480" bIns="-15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E9759-3FD4-4387-AEB9-990BFB6E1151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755640" y="5419800"/>
            <a:ext cx="873756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0723C-E860-4113-8507-BB0DE8BC7C71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620640" y="2403360"/>
            <a:ext cx="413244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5241960" y="2403360"/>
            <a:ext cx="413208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9FB9F-38DE-4B01-9395-DCADC645D01D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1" descr=""/>
          <p:cNvPicPr/>
          <p:nvPr/>
        </p:nvPicPr>
        <p:blipFill>
          <a:blip r:embed="rId1"/>
          <a:stretch/>
        </p:blipFill>
        <p:spPr>
          <a:xfrm>
            <a:off x="255600" y="298440"/>
            <a:ext cx="9321840" cy="15732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02920" y="1768320"/>
            <a:ext cx="9070920" cy="97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 by adjusting coefficients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3"/>
          <p:cNvGrpSpPr/>
          <p:nvPr/>
        </p:nvGrpSpPr>
        <p:grpSpPr>
          <a:xfrm>
            <a:off x="1023840" y="4114800"/>
            <a:ext cx="2773080" cy="2284560"/>
            <a:chOff x="1023840" y="4114800"/>
            <a:chExt cx="2773080" cy="2284560"/>
          </a:xfrm>
        </p:grpSpPr>
        <p:sp>
          <p:nvSpPr>
            <p:cNvPr id="261" name="Line 4"/>
            <p:cNvSpPr/>
            <p:nvPr/>
          </p:nvSpPr>
          <p:spPr>
            <a:xfrm>
              <a:off x="2395440" y="4114800"/>
              <a:ext cx="1080" cy="228456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1025280" y="4571640"/>
              <a:ext cx="2739960" cy="108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6"/>
            <p:cNvSpPr/>
            <p:nvPr/>
          </p:nvSpPr>
          <p:spPr>
            <a:xfrm>
              <a:off x="1023840" y="4138200"/>
              <a:ext cx="1369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7"/>
            <p:cNvSpPr/>
            <p:nvPr/>
          </p:nvSpPr>
          <p:spPr>
            <a:xfrm>
              <a:off x="2427120" y="4138200"/>
              <a:ext cx="1369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>
              <a:off x="1025280" y="5423400"/>
              <a:ext cx="2739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9"/>
            <p:cNvSpPr/>
            <p:nvPr/>
          </p:nvSpPr>
          <p:spPr>
            <a:xfrm>
              <a:off x="1025280" y="6396120"/>
              <a:ext cx="2739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Text Box 10"/>
          <p:cNvSpPr/>
          <p:nvPr/>
        </p:nvSpPr>
        <p:spPr>
          <a:xfrm>
            <a:off x="506520" y="468000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06520" y="568800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4692600" y="2948040"/>
            <a:ext cx="4343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NH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1398600" y="469260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1398600" y="562932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2730600" y="469260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2766960" y="562932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730260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2666880" y="46926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2666880" y="562932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20"/>
          <p:cNvSpPr/>
          <p:nvPr/>
        </p:nvSpPr>
        <p:spPr>
          <a:xfrm>
            <a:off x="561168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1374840" y="5629320"/>
            <a:ext cx="60624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Group 22"/>
          <p:cNvGrpSpPr/>
          <p:nvPr/>
        </p:nvGrpSpPr>
        <p:grpSpPr>
          <a:xfrm>
            <a:off x="4343400" y="4114800"/>
            <a:ext cx="5176440" cy="2741760"/>
            <a:chOff x="4343400" y="4114800"/>
            <a:chExt cx="5176440" cy="2741760"/>
          </a:xfrm>
        </p:grpSpPr>
        <p:sp>
          <p:nvSpPr>
            <p:cNvPr id="280" name="AutoShape 23"/>
            <p:cNvSpPr/>
            <p:nvPr/>
          </p:nvSpPr>
          <p:spPr>
            <a:xfrm>
              <a:off x="434340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AutoShape 24"/>
            <p:cNvSpPr/>
            <p:nvPr/>
          </p:nvSpPr>
          <p:spPr>
            <a:xfrm>
              <a:off x="700632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25"/>
            <p:cNvSpPr/>
            <p:nvPr/>
          </p:nvSpPr>
          <p:spPr>
            <a:xfrm>
              <a:off x="5028840" y="457164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26"/>
            <p:cNvSpPr/>
            <p:nvPr/>
          </p:nvSpPr>
          <p:spPr>
            <a:xfrm>
              <a:off x="5316120" y="464292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27"/>
            <p:cNvSpPr/>
            <p:nvPr/>
          </p:nvSpPr>
          <p:spPr>
            <a:xfrm>
              <a:off x="5281200" y="5844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28"/>
            <p:cNvSpPr/>
            <p:nvPr/>
          </p:nvSpPr>
          <p:spPr>
            <a:xfrm>
              <a:off x="5425200" y="577260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29"/>
            <p:cNvSpPr/>
            <p:nvPr/>
          </p:nvSpPr>
          <p:spPr>
            <a:xfrm>
              <a:off x="6109560" y="598860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30"/>
            <p:cNvSpPr/>
            <p:nvPr/>
          </p:nvSpPr>
          <p:spPr>
            <a:xfrm>
              <a:off x="6073200" y="5844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31"/>
            <p:cNvSpPr/>
            <p:nvPr/>
          </p:nvSpPr>
          <p:spPr>
            <a:xfrm>
              <a:off x="6288840" y="5125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32"/>
            <p:cNvSpPr/>
            <p:nvPr/>
          </p:nvSpPr>
          <p:spPr>
            <a:xfrm>
              <a:off x="6325560" y="526968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3"/>
            <p:cNvSpPr/>
            <p:nvPr/>
          </p:nvSpPr>
          <p:spPr>
            <a:xfrm>
              <a:off x="7907400" y="583128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4"/>
            <p:cNvSpPr/>
            <p:nvPr/>
          </p:nvSpPr>
          <p:spPr>
            <a:xfrm>
              <a:off x="7980480" y="487296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5"/>
            <p:cNvSpPr/>
            <p:nvPr/>
          </p:nvSpPr>
          <p:spPr>
            <a:xfrm>
              <a:off x="8413920" y="4909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6"/>
            <p:cNvSpPr/>
            <p:nvPr/>
          </p:nvSpPr>
          <p:spPr>
            <a:xfrm>
              <a:off x="8088480" y="464292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7"/>
            <p:cNvSpPr/>
            <p:nvPr/>
          </p:nvSpPr>
          <p:spPr>
            <a:xfrm>
              <a:off x="8124840" y="5017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38"/>
            <p:cNvSpPr/>
            <p:nvPr/>
          </p:nvSpPr>
          <p:spPr>
            <a:xfrm>
              <a:off x="8196480" y="5736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39"/>
            <p:cNvSpPr/>
            <p:nvPr/>
          </p:nvSpPr>
          <p:spPr>
            <a:xfrm>
              <a:off x="7872480" y="602496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0"/>
            <p:cNvSpPr/>
            <p:nvPr/>
          </p:nvSpPr>
          <p:spPr>
            <a:xfrm>
              <a:off x="8269560" y="60980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Місце для нижнього колонтитула 3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 by adjusting coefficients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0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"/>
          <p:cNvSpPr/>
          <p:nvPr/>
        </p:nvSpPr>
        <p:spPr>
          <a:xfrm>
            <a:off x="4513320" y="2948040"/>
            <a:ext cx="51372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KCl +   O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54"/>
          <p:cNvGrpSpPr/>
          <p:nvPr/>
        </p:nvGrpSpPr>
        <p:grpSpPr>
          <a:xfrm>
            <a:off x="1023840" y="3611520"/>
            <a:ext cx="2776680" cy="3246480"/>
            <a:chOff x="1023840" y="3611520"/>
            <a:chExt cx="2776680" cy="3246480"/>
          </a:xfrm>
        </p:grpSpPr>
        <p:sp>
          <p:nvSpPr>
            <p:cNvPr id="303" name="Line 4"/>
            <p:cNvSpPr/>
            <p:nvPr/>
          </p:nvSpPr>
          <p:spPr>
            <a:xfrm>
              <a:off x="2397240" y="3611520"/>
              <a:ext cx="1440" cy="324648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5"/>
            <p:cNvSpPr/>
            <p:nvPr/>
          </p:nvSpPr>
          <p:spPr>
            <a:xfrm>
              <a:off x="1025640" y="4068720"/>
              <a:ext cx="2743200" cy="180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1023840" y="3633840"/>
              <a:ext cx="1371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7"/>
            <p:cNvSpPr/>
            <p:nvPr/>
          </p:nvSpPr>
          <p:spPr>
            <a:xfrm>
              <a:off x="2428920" y="3633840"/>
              <a:ext cx="1371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1025640" y="4957920"/>
              <a:ext cx="274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1025640" y="5929200"/>
              <a:ext cx="2743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1025640" y="6829560"/>
              <a:ext cx="274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Text Box 11"/>
          <p:cNvSpPr/>
          <p:nvPr/>
        </p:nvSpPr>
        <p:spPr>
          <a:xfrm>
            <a:off x="506520" y="417672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433440" y="5184720"/>
            <a:ext cx="6364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433440" y="6156360"/>
            <a:ext cx="6364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1398600" y="422424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1398600" y="5160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2730600" y="422424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2766960" y="5160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1398600" y="609588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2766960" y="609588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20"/>
          <p:cNvGrpSpPr/>
          <p:nvPr/>
        </p:nvGrpSpPr>
        <p:grpSpPr>
          <a:xfrm>
            <a:off x="4064040" y="2928960"/>
            <a:ext cx="4557600" cy="657360"/>
            <a:chOff x="4064040" y="2928960"/>
            <a:chExt cx="4557600" cy="657360"/>
          </a:xfrm>
        </p:grpSpPr>
        <p:sp>
          <p:nvSpPr>
            <p:cNvPr id="320" name="Text Box 21"/>
            <p:cNvSpPr/>
            <p:nvPr/>
          </p:nvSpPr>
          <p:spPr>
            <a:xfrm>
              <a:off x="7935840" y="2928960"/>
              <a:ext cx="6858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 Box 22"/>
            <p:cNvSpPr/>
            <p:nvPr/>
          </p:nvSpPr>
          <p:spPr>
            <a:xfrm>
              <a:off x="4064040" y="2928960"/>
              <a:ext cx="6858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Text Box 23"/>
          <p:cNvSpPr/>
          <p:nvPr/>
        </p:nvSpPr>
        <p:spPr>
          <a:xfrm>
            <a:off x="1371600" y="516564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1376280" y="42354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1371600" y="610236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774880" y="610236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2739960" y="516564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2774880" y="41940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1196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Group 30"/>
          <p:cNvGrpSpPr/>
          <p:nvPr/>
        </p:nvGrpSpPr>
        <p:grpSpPr>
          <a:xfrm>
            <a:off x="4343400" y="4114800"/>
            <a:ext cx="5176440" cy="2741760"/>
            <a:chOff x="4343400" y="4114800"/>
            <a:chExt cx="5176440" cy="2741760"/>
          </a:xfrm>
        </p:grpSpPr>
        <p:sp>
          <p:nvSpPr>
            <p:cNvPr id="330" name="AutoShape 31"/>
            <p:cNvSpPr/>
            <p:nvPr/>
          </p:nvSpPr>
          <p:spPr>
            <a:xfrm>
              <a:off x="434340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AutoShape 32"/>
            <p:cNvSpPr/>
            <p:nvPr/>
          </p:nvSpPr>
          <p:spPr>
            <a:xfrm>
              <a:off x="700632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5173200" y="5363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4776480" y="52920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957560" y="53269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5138280" y="508896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4884480" y="557892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6109560" y="512532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180840" y="54000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5784120" y="532692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5965200" y="536328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5892120" y="561564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7441200" y="451440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7296480" y="47527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8232840" y="451440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8088480" y="47527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7260120" y="5974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7512120" y="6082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8554680" y="5471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8843760" y="5471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51"/>
            <p:cNvSpPr/>
            <p:nvPr/>
          </p:nvSpPr>
          <p:spPr>
            <a:xfrm>
              <a:off x="8304480" y="611856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52"/>
            <p:cNvSpPr/>
            <p:nvPr/>
          </p:nvSpPr>
          <p:spPr>
            <a:xfrm>
              <a:off x="8554680" y="6226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Місце для нижнього колонтитула 4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C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6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+   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fefac9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C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+  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54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925560" y="2255760"/>
            <a:ext cx="4114800" cy="546120"/>
            <a:chOff x="925560" y="2255760"/>
            <a:chExt cx="4114800" cy="546120"/>
          </a:xfrm>
        </p:grpSpPr>
        <p:sp>
          <p:nvSpPr>
            <p:cNvPr id="356" name="Text Box 4"/>
            <p:cNvSpPr/>
            <p:nvPr/>
          </p:nvSpPr>
          <p:spPr>
            <a:xfrm>
              <a:off x="3211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 Box 5"/>
            <p:cNvSpPr/>
            <p:nvPr/>
          </p:nvSpPr>
          <p:spPr>
            <a:xfrm>
              <a:off x="4354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6"/>
            <p:cNvSpPr/>
            <p:nvPr/>
          </p:nvSpPr>
          <p:spPr>
            <a:xfrm>
              <a:off x="222084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Text Box 7"/>
            <p:cNvSpPr/>
            <p:nvPr/>
          </p:nvSpPr>
          <p:spPr>
            <a:xfrm>
              <a:off x="925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Місце для нижнього колонтитула 2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502920" y="1767960"/>
            <a:ext cx="9070920" cy="120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Fe +   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fefac9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 Fe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62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3"/>
          <p:cNvGrpSpPr/>
          <p:nvPr/>
        </p:nvGrpSpPr>
        <p:grpSpPr>
          <a:xfrm>
            <a:off x="1077840" y="2255760"/>
            <a:ext cx="2590920" cy="546120"/>
            <a:chOff x="1077840" y="2255760"/>
            <a:chExt cx="2590920" cy="546120"/>
          </a:xfrm>
        </p:grpSpPr>
        <p:sp>
          <p:nvSpPr>
            <p:cNvPr id="364" name="Text Box 4"/>
            <p:cNvSpPr/>
            <p:nvPr/>
          </p:nvSpPr>
          <p:spPr>
            <a:xfrm>
              <a:off x="29829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5"/>
            <p:cNvSpPr/>
            <p:nvPr/>
          </p:nvSpPr>
          <p:spPr>
            <a:xfrm>
              <a:off x="191628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 Box 6"/>
            <p:cNvSpPr/>
            <p:nvPr/>
          </p:nvSpPr>
          <p:spPr>
            <a:xfrm>
              <a:off x="107784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Місце для нижнього колонтитула 2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02920" y="1767960"/>
            <a:ext cx="9070920" cy="166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Chemical equation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Describes a chemical change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Parts of an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13"/>
          <p:cNvGrpSpPr/>
          <p:nvPr/>
        </p:nvGrpSpPr>
        <p:grpSpPr>
          <a:xfrm>
            <a:off x="1365120" y="4700520"/>
            <a:ext cx="7467840" cy="787320"/>
            <a:chOff x="1365120" y="4700520"/>
            <a:chExt cx="7467840" cy="787320"/>
          </a:xfrm>
        </p:grpSpPr>
        <p:sp>
          <p:nvSpPr>
            <p:cNvPr id="182" name="AutoShape 3"/>
            <p:cNvSpPr/>
            <p:nvPr/>
          </p:nvSpPr>
          <p:spPr>
            <a:xfrm>
              <a:off x="4260960" y="4853160"/>
              <a:ext cx="1371600" cy="409320"/>
            </a:xfrm>
            <a:prstGeom prst="rightArrow">
              <a:avLst>
                <a:gd name="adj1" fmla="val 23259"/>
                <a:gd name="adj2" fmla="val 7718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4"/>
            <p:cNvSpPr/>
            <p:nvPr/>
          </p:nvSpPr>
          <p:spPr>
            <a:xfrm>
              <a:off x="1365120" y="4700520"/>
              <a:ext cx="2826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2Ag + H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5"/>
            <p:cNvSpPr/>
            <p:nvPr/>
          </p:nvSpPr>
          <p:spPr>
            <a:xfrm>
              <a:off x="6013440" y="4700520"/>
              <a:ext cx="28195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Ag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S + H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16"/>
          <p:cNvGrpSpPr/>
          <p:nvPr/>
        </p:nvGrpSpPr>
        <p:grpSpPr>
          <a:xfrm>
            <a:off x="1667160" y="3633840"/>
            <a:ext cx="2898360" cy="1083960"/>
            <a:chOff x="1667160" y="3633840"/>
            <a:chExt cx="2898360" cy="1083960"/>
          </a:xfrm>
        </p:grpSpPr>
        <p:sp>
          <p:nvSpPr>
            <p:cNvPr id="186" name="Text Box 7"/>
            <p:cNvSpPr/>
            <p:nvPr/>
          </p:nvSpPr>
          <p:spPr>
            <a:xfrm>
              <a:off x="2050920" y="363384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ctan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9"/>
            <p:cNvSpPr/>
            <p:nvPr/>
          </p:nvSpPr>
          <p:spPr>
            <a:xfrm rot="5340000">
              <a:off x="2395440" y="3443040"/>
              <a:ext cx="533160" cy="198144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95040 h 1981440"/>
                <a:gd name="textAreaBottom" fmla="*/ 188640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59"/>
                    <a:pt x="10800" y="3317"/>
                  </a:cubicBezTo>
                  <a:lnTo>
                    <a:pt x="10800" y="7422"/>
                  </a:lnTo>
                  <a:cubicBezTo>
                    <a:pt x="10800" y="9081"/>
                    <a:pt x="5400" y="10739"/>
                    <a:pt x="0" y="10739"/>
                  </a:cubicBezTo>
                  <a:cubicBezTo>
                    <a:pt x="5400" y="10739"/>
                    <a:pt x="10800" y="12398"/>
                    <a:pt x="10800" y="14056"/>
                  </a:cubicBezTo>
                  <a:lnTo>
                    <a:pt x="10800" y="18283"/>
                  </a:lnTo>
                  <a:cubicBezTo>
                    <a:pt x="10800" y="1994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Group 15"/>
          <p:cNvGrpSpPr/>
          <p:nvPr/>
        </p:nvGrpSpPr>
        <p:grpSpPr>
          <a:xfrm>
            <a:off x="6086520" y="3633840"/>
            <a:ext cx="1990080" cy="1083960"/>
            <a:chOff x="6086520" y="3633840"/>
            <a:chExt cx="1990080" cy="1083960"/>
          </a:xfrm>
        </p:grpSpPr>
        <p:sp>
          <p:nvSpPr>
            <p:cNvPr id="189" name="Text Box 6"/>
            <p:cNvSpPr/>
            <p:nvPr/>
          </p:nvSpPr>
          <p:spPr>
            <a:xfrm>
              <a:off x="6470640" y="36338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10"/>
            <p:cNvSpPr/>
            <p:nvPr/>
          </p:nvSpPr>
          <p:spPr>
            <a:xfrm rot="5340000">
              <a:off x="6814800" y="3443040"/>
              <a:ext cx="533160" cy="198108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95040 h 1981080"/>
                <a:gd name="textAreaBottom" fmla="*/ 18860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59"/>
                    <a:pt x="10800" y="3317"/>
                  </a:cubicBezTo>
                  <a:lnTo>
                    <a:pt x="10800" y="7422"/>
                  </a:lnTo>
                  <a:cubicBezTo>
                    <a:pt x="10800" y="9081"/>
                    <a:pt x="5400" y="10739"/>
                    <a:pt x="0" y="10739"/>
                  </a:cubicBezTo>
                  <a:cubicBezTo>
                    <a:pt x="5400" y="10739"/>
                    <a:pt x="10800" y="12398"/>
                    <a:pt x="10800" y="14056"/>
                  </a:cubicBezTo>
                  <a:lnTo>
                    <a:pt x="10800" y="18283"/>
                  </a:lnTo>
                  <a:cubicBezTo>
                    <a:pt x="10800" y="1994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14"/>
          <p:cNvGrpSpPr/>
          <p:nvPr/>
        </p:nvGrpSpPr>
        <p:grpSpPr>
          <a:xfrm>
            <a:off x="3956040" y="5462640"/>
            <a:ext cx="1987560" cy="1663560"/>
            <a:chOff x="3956040" y="5462640"/>
            <a:chExt cx="1987560" cy="1663560"/>
          </a:xfrm>
        </p:grpSpPr>
        <p:sp>
          <p:nvSpPr>
            <p:cNvPr id="192" name="AutoShape 8"/>
            <p:cNvSpPr/>
            <p:nvPr/>
          </p:nvSpPr>
          <p:spPr>
            <a:xfrm>
              <a:off x="4718160" y="5462640"/>
              <a:ext cx="380880" cy="1143000"/>
            </a:xfrm>
            <a:prstGeom prst="upArrow">
              <a:avLst>
                <a:gd name="adj1" fmla="val 21667"/>
                <a:gd name="adj2" fmla="val 8210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3956040" y="6757920"/>
              <a:ext cx="198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ction symb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Місце для нижнього колонтитула 5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Reactan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The chemical(s) you start with before the reaction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Written on left side of equation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Produc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The new chemical(s) formed by the reaction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Right side of equation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96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Subscrip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shows how many atoms of an element are in a molecule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EX: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2 atoms of hydrogen (H)</a:t>
            </a:r>
            <a:r>
              <a:rPr b="0" lang="ar-SA" sz="2300" spc="-1" strike="noStrike">
                <a:solidFill>
                  <a:srgbClr val="ffffff"/>
                </a:solidFill>
                <a:latin typeface="Constantia"/>
                <a:ea typeface="Arial"/>
              </a:rPr>
              <a:t>‏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1 atom of oxygen (O)</a:t>
            </a:r>
            <a:r>
              <a:rPr b="0" lang="ar-SA" sz="2300" spc="-1" strike="noStrike">
                <a:solidFill>
                  <a:srgbClr val="ffffff"/>
                </a:solidFill>
                <a:latin typeface="Constantia"/>
                <a:ea typeface="Arial"/>
              </a:rPr>
              <a:t>‏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Coefficien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shows how many molecules there are of a particular chemical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EX: 3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Means there are 3 water molecules.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02920" y="1767960"/>
            <a:ext cx="9070920" cy="746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2H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O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2H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In a chem. rxn, matter is neither created nor destroyed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In other words, the number and type of atoms going INTO a rxn must be the same as the number and type of atoms coming OUT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00"/>
                </a:solidFill>
                <a:latin typeface="Constantia"/>
              </a:rPr>
              <a:t>If an equation obeys the Law of Conservation, it is </a:t>
            </a:r>
            <a:r>
              <a:rPr b="1" lang="en-GB" sz="2900" spc="-1" strike="noStrike">
                <a:solidFill>
                  <a:srgbClr val="ffff00"/>
                </a:solidFill>
                <a:latin typeface="Constantia"/>
              </a:rPr>
              <a:t>balanced</a:t>
            </a:r>
            <a:r>
              <a:rPr b="0" lang="en-GB" sz="2900" spc="-1" strike="noStrike">
                <a:solidFill>
                  <a:srgbClr val="ffff00"/>
                </a:solidFill>
                <a:latin typeface="Constanti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Oval 1"/>
          <p:cNvSpPr/>
          <p:nvPr/>
        </p:nvSpPr>
        <p:spPr>
          <a:xfrm>
            <a:off x="6618240" y="5823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2"/>
          <p:cNvSpPr/>
          <p:nvPr/>
        </p:nvSpPr>
        <p:spPr>
          <a:xfrm>
            <a:off x="6350040" y="391176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3"/>
          <p:cNvSpPr/>
          <p:nvPr/>
        </p:nvSpPr>
        <p:spPr>
          <a:xfrm>
            <a:off x="1676520" y="439272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919080" y="431964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2920" y="1767960"/>
            <a:ext cx="9070920" cy="746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CH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4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O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CO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H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Rectangle 5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130968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an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27040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118116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1279440" y="3816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11"/>
          <p:cNvSpPr/>
          <p:nvPr/>
        </p:nvSpPr>
        <p:spPr>
          <a:xfrm>
            <a:off x="1100160" y="4608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12"/>
          <p:cNvSpPr/>
          <p:nvPr/>
        </p:nvSpPr>
        <p:spPr>
          <a:xfrm>
            <a:off x="2514600" y="5486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13"/>
          <p:cNvSpPr/>
          <p:nvPr/>
        </p:nvSpPr>
        <p:spPr>
          <a:xfrm>
            <a:off x="2874960" y="56674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4572000" y="2971800"/>
            <a:ext cx="1440" cy="4114800"/>
          </a:xfrm>
          <a:prstGeom prst="line">
            <a:avLst/>
          </a:prstGeom>
          <a:ln w="9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15"/>
          <p:cNvSpPr/>
          <p:nvPr/>
        </p:nvSpPr>
        <p:spPr>
          <a:xfrm>
            <a:off x="594360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5522760" y="4343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6199200" y="54738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6078600" y="5931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22860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786132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"/>
          <p:cNvSpPr/>
          <p:nvPr/>
        </p:nvSpPr>
        <p:spPr>
          <a:xfrm>
            <a:off x="6618240" y="5823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6350040" y="391176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1676520" y="439272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919080" y="431964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Balanced Eq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03280" y="1770120"/>
            <a:ext cx="907092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30968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an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527040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9"/>
          <p:cNvSpPr/>
          <p:nvPr/>
        </p:nvSpPr>
        <p:spPr>
          <a:xfrm>
            <a:off x="118116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1279440" y="3816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1"/>
          <p:cNvSpPr/>
          <p:nvPr/>
        </p:nvSpPr>
        <p:spPr>
          <a:xfrm>
            <a:off x="1100160" y="4608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2"/>
          <p:cNvSpPr/>
          <p:nvPr/>
        </p:nvSpPr>
        <p:spPr>
          <a:xfrm>
            <a:off x="2514600" y="5486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3"/>
          <p:cNvSpPr/>
          <p:nvPr/>
        </p:nvSpPr>
        <p:spPr>
          <a:xfrm>
            <a:off x="2874960" y="56674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4572000" y="2971800"/>
            <a:ext cx="1440" cy="4114800"/>
          </a:xfrm>
          <a:prstGeom prst="line">
            <a:avLst/>
          </a:prstGeom>
          <a:ln w="9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15"/>
          <p:cNvSpPr/>
          <p:nvPr/>
        </p:nvSpPr>
        <p:spPr>
          <a:xfrm>
            <a:off x="594360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522760" y="4343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17"/>
          <p:cNvSpPr/>
          <p:nvPr/>
        </p:nvSpPr>
        <p:spPr>
          <a:xfrm>
            <a:off x="6199200" y="54738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18"/>
          <p:cNvSpPr/>
          <p:nvPr/>
        </p:nvSpPr>
        <p:spPr>
          <a:xfrm>
            <a:off x="6078600" y="5931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22860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786132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21"/>
          <p:cNvSpPr/>
          <p:nvPr/>
        </p:nvSpPr>
        <p:spPr>
          <a:xfrm>
            <a:off x="2874960" y="408312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Oval 22"/>
          <p:cNvSpPr/>
          <p:nvPr/>
        </p:nvSpPr>
        <p:spPr>
          <a:xfrm>
            <a:off x="3235320" y="4262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Oval 23"/>
          <p:cNvSpPr/>
          <p:nvPr/>
        </p:nvSpPr>
        <p:spPr>
          <a:xfrm>
            <a:off x="8489880" y="445608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Oval 24"/>
          <p:cNvSpPr/>
          <p:nvPr/>
        </p:nvSpPr>
        <p:spPr>
          <a:xfrm>
            <a:off x="8070840" y="41068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25"/>
          <p:cNvSpPr/>
          <p:nvPr/>
        </p:nvSpPr>
        <p:spPr>
          <a:xfrm>
            <a:off x="7950240" y="456408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1. Matter cannot be created or destroyed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2. Subscripts cannot be added, removed, or changed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3. You can only change coefficients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4. Coefficients can only go in front of chem. formulas...NEVER in the middle of a formula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A few extra tips: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y balancing big formulas first; save free elements for last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f the same polyatomic ion appears on both sides of the equation, it’s usually okay to treat it as one unit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re is no one particular way to balance equations.  Some equations are harder to balance than others and might require some creativity to solve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56" name="Rectangle 1" descr=""/>
          <p:cNvPicPr/>
          <p:nvPr/>
        </p:nvPicPr>
        <p:blipFill>
          <a:blip r:embed="rId1"/>
          <a:stretch/>
        </p:blipFill>
        <p:spPr>
          <a:xfrm>
            <a:off x="189000" y="298440"/>
            <a:ext cx="9388440" cy="163368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as Curtis</dc:creator>
  <dc:description/>
  <dc:language>en-US</dc:language>
  <cp:lastModifiedBy>LEGION</cp:lastModifiedBy>
  <dcterms:modified xsi:type="dcterms:W3CDTF">2017-01-26T09:37:15Z</dcterms:modified>
  <cp:revision>6</cp:revision>
  <dc:subject/>
  <dc:title>Balancing Chemical Equations</dc:title>
</cp:coreProperties>
</file>