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dt" idx="1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885EF-439D-45F6-ACCF-99A11E0AC7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Chemical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2 +    H2     NH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+    H2     NH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ClO3     KCl +   O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lO3     KCl +  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2H6 +   O2    CO2 +  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O2    CO2 +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e +   O2     Fe2O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+   O2    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emical equation - Describes a chemical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rts of an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hat is a chemical equatio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 - Describes a chemical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n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eq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- The chemical(s) you start with before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ritten on lef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- The new chemical(s) formed by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igh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s and Prod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- The chemical(s) you start with before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on lef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- The new chemical(s) formed by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an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 - shows how many atoms of an element are in a molecu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atoms of hydrogen (H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atom of oxygen (O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efficient - shows how many molecules there are of a particular chemic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3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eans there are 3 water molecu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s and Coeffic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 - shows how many atoms of an element are in a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toms of hydrogen (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tom of oxygen (O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- shows how many molecules there are of a particular chem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3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there are 3 wate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s and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H2 + O2 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Chemical Re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a chem. rxn, matter is neither created n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other words, the number and type of atoms going INTO a rxn must be the same as the number and type of atoms coming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an equation obeys the Law of Conservation, it is balanc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w of Conservation of M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. rxn, matter is neither created n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ther words, the number and type of atoms going INTO a rxn must be the same as the number and type of atoms com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obeys the Law of Conservation, it is 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O2  CO2 +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 Un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O2  CO2 +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2O2  CO2 +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2O2  CO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Matter cannot be created 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Subscripts cannot be added, removed, or 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You can only change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Coefficients can only go in front of chem. formulas...NEVER in the middle of a formu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few extra tip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ry balancing big formulas first; save free elements for la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the same polyatomic ion appears on both sides of the equation, it’s usually okay to treat it as one uni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re is no one particular way to balance equations.  Some equations are harder to balance than others and might require some creativity to sol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ules of the G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tter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ubscripts cannot be added, removed, or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You can only change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Coefficients can only go in front of chem. formulas...NEVER in the middle of a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tra ti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balancing big formulas first; save free elements for 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ame polyatomic ion appears on both sides of the equation, it’s usually okay to treat it as on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one particular way to balance equations.  Some equations are harder to balance than others and might require some creativity to 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of the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EC4-377E-4D57-9354-992510DE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FB4-17CC-4023-B511-B44FF555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69C-DABD-465F-975D-9EB0D26A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73D-98DF-4B93-ADBD-75159BE9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2B22E-096F-487D-BF0C-30DEA9A7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99EA6-B2A3-4D27-8EF1-1762BC24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92C4D-FC95-449D-B95D-1345600A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7E15E-A3F1-4789-8C7E-7206776F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345BA-A90F-4745-960D-39CEDFA5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E147F-B60A-43AA-B8A8-CD65B98E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2B82F-F3AE-4AFB-8002-D79FD54A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96D-8D14-4C27-9897-C420C5D9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628E6-16E4-41F3-913F-5B54E4D9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7AEE1-55BA-44D1-BB60-14288DFE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FC65C-1EAB-4EA3-BEB3-AD8AB911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F609C-6FB1-4439-AA99-F12F2F7D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CEC6C-D613-4860-B590-6EF7B430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5774-BFC0-4767-AB99-FD45ACB4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A8FB2-1F12-436E-8FF4-29176BD7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D05D1-A677-434D-BCA9-78B2C4CB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C690-BABB-49B0-A319-D72AE669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B52B-EF96-4A0B-83BE-BAAFF12E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7DD-1C4F-4BDB-8DA0-F01519B3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6445-4127-4150-A52F-B8F101E9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661E-67E0-4553-89E9-C01DDA3A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B1F4-C2B9-4E38-8A8B-DBBB545D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EC8B7-9019-42A1-BBBB-FCFAC33D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7A317-2C1F-41F4-A816-F311EDB1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5A27-72F2-4DA9-9DCC-9AB3A6AD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F35D-984F-4598-9A65-567BC5C7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9DB9E-61F1-48ED-BCBD-AAED9352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2B105A-0388-4AD9-8D75-D87829C9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6BBAC7-0A50-4B72-8486-70AADEF5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4091-62EF-488B-9462-246C693F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11B37-7E00-4E88-9C99-3E229528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1C74F-6C4E-4744-8967-052DE9FD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76C2E-9E14-4368-9685-B0900183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8BD28-0180-478A-88FC-1BB637C2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59ED7-604E-48C6-B0A9-7285D7A4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8512CC-22B1-436A-A72B-BF9016C3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697C5-7F7D-43BA-9248-A50B66AF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FE0D5-69AF-486B-93D6-02912DA5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DA9B5C-F784-4834-BC9A-003EDAEE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CD6-3BA6-4473-AC4E-EA0430C0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F05-8643-4D2F-8634-16A8323B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F7F-DB29-47F1-829C-DF0D5A0A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C82-3340-48E7-A51C-95356CCF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288-65F2-46BA-93C1-0282D569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2180F-DCB3-4599-B07F-E26595A1F433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612800" y="3913200"/>
            <a:ext cx="327672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191200" y="3913200"/>
            <a:ext cx="32763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5005440" y="3887640"/>
            <a:ext cx="50760" cy="4932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-15480" bIns="-15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A1CC7-3F63-46A3-96FA-D84B476908AC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755640" y="5419800"/>
            <a:ext cx="873756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16FCD-E242-4665-99EA-8AFFF48DA280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620640" y="2403360"/>
            <a:ext cx="413244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5241960" y="2403360"/>
            <a:ext cx="413208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F250A-823C-410C-AE85-F975A8CF86C3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1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9321840" cy="15732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02920" y="1768320"/>
            <a:ext cx="9070920" cy="97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023840" y="4114800"/>
            <a:ext cx="2773080" cy="2284560"/>
            <a:chOff x="1023840" y="4114800"/>
            <a:chExt cx="2773080" cy="2284560"/>
          </a:xfrm>
        </p:grpSpPr>
        <p:sp>
          <p:nvSpPr>
            <p:cNvPr id="261" name="Line 4"/>
            <p:cNvSpPr/>
            <p:nvPr/>
          </p:nvSpPr>
          <p:spPr>
            <a:xfrm>
              <a:off x="2395440" y="4114800"/>
              <a:ext cx="1080" cy="228456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1025280" y="4571640"/>
              <a:ext cx="2739960" cy="10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6"/>
            <p:cNvSpPr/>
            <p:nvPr/>
          </p:nvSpPr>
          <p:spPr>
            <a:xfrm>
              <a:off x="102384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242712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1025280" y="5423400"/>
              <a:ext cx="2739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1025280" y="6396120"/>
              <a:ext cx="2739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 Box 10"/>
          <p:cNvSpPr/>
          <p:nvPr/>
        </p:nvSpPr>
        <p:spPr>
          <a:xfrm>
            <a:off x="506520" y="4680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06520" y="5688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692600" y="2948040"/>
            <a:ext cx="4343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N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398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39860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2730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276696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730260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2666880" y="46926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666880" y="562932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561168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1374840" y="5629320"/>
            <a:ext cx="60624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2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280" name="AutoShape 23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24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5028840" y="457164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531612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5281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5425200" y="5772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6109560" y="5988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6073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6288840" y="5125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6325560" y="526968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7907400" y="583128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7980480" y="4872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8413920" y="4909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08848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124840" y="5017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8196480" y="5736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7872480" y="6024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0"/>
            <p:cNvSpPr/>
            <p:nvPr/>
          </p:nvSpPr>
          <p:spPr>
            <a:xfrm>
              <a:off x="8269560" y="60980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Місце для нижнього колонтитула 3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4513320" y="2948040"/>
            <a:ext cx="51372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KCl +   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4"/>
          <p:cNvGrpSpPr/>
          <p:nvPr/>
        </p:nvGrpSpPr>
        <p:grpSpPr>
          <a:xfrm>
            <a:off x="1023840" y="3611520"/>
            <a:ext cx="2776680" cy="3246480"/>
            <a:chOff x="1023840" y="3611520"/>
            <a:chExt cx="2776680" cy="3246480"/>
          </a:xfrm>
        </p:grpSpPr>
        <p:sp>
          <p:nvSpPr>
            <p:cNvPr id="303" name="Line 4"/>
            <p:cNvSpPr/>
            <p:nvPr/>
          </p:nvSpPr>
          <p:spPr>
            <a:xfrm>
              <a:off x="2397240" y="3611520"/>
              <a:ext cx="1440" cy="32464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>
              <a:off x="1025640" y="4068720"/>
              <a:ext cx="2743200" cy="180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102384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242892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1025640" y="495792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1025640" y="5929200"/>
              <a:ext cx="274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1025640" y="682956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Text Box 11"/>
          <p:cNvSpPr/>
          <p:nvPr/>
        </p:nvSpPr>
        <p:spPr>
          <a:xfrm>
            <a:off x="506520" y="417672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33440" y="518472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433440" y="615636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398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39860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730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276696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139860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276696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20"/>
          <p:cNvGrpSpPr/>
          <p:nvPr/>
        </p:nvGrpSpPr>
        <p:grpSpPr>
          <a:xfrm>
            <a:off x="4064040" y="2928960"/>
            <a:ext cx="4557600" cy="657360"/>
            <a:chOff x="4064040" y="2928960"/>
            <a:chExt cx="4557600" cy="657360"/>
          </a:xfrm>
        </p:grpSpPr>
        <p:sp>
          <p:nvSpPr>
            <p:cNvPr id="320" name="Text Box 21"/>
            <p:cNvSpPr/>
            <p:nvPr/>
          </p:nvSpPr>
          <p:spPr>
            <a:xfrm>
              <a:off x="79358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40640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Text Box 23"/>
          <p:cNvSpPr/>
          <p:nvPr/>
        </p:nvSpPr>
        <p:spPr>
          <a:xfrm>
            <a:off x="137160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1376280" y="42354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137160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77488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273996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2774880" y="41940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1196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30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330" name="AutoShape 31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32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5173200" y="5363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4776480" y="5292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957560" y="53269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5138280" y="508896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4884480" y="5578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6109560" y="512532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180840" y="5400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5784120" y="5326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5965200" y="536328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5892120" y="561564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744120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7296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823284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8088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7260120" y="5974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7512120" y="6082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855468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884376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51"/>
            <p:cNvSpPr/>
            <p:nvPr/>
          </p:nvSpPr>
          <p:spPr>
            <a:xfrm>
              <a:off x="8304480" y="611856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52"/>
            <p:cNvSpPr/>
            <p:nvPr/>
          </p:nvSpPr>
          <p:spPr>
            <a:xfrm>
              <a:off x="8554680" y="6226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Місце для нижнього колонтитула 4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C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6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C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54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925560" y="2255760"/>
            <a:ext cx="4114800" cy="546120"/>
            <a:chOff x="925560" y="2255760"/>
            <a:chExt cx="4114800" cy="546120"/>
          </a:xfrm>
        </p:grpSpPr>
        <p:sp>
          <p:nvSpPr>
            <p:cNvPr id="356" name="Text Box 4"/>
            <p:cNvSpPr/>
            <p:nvPr/>
          </p:nvSpPr>
          <p:spPr>
            <a:xfrm>
              <a:off x="3211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4354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2220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7"/>
            <p:cNvSpPr/>
            <p:nvPr/>
          </p:nvSpPr>
          <p:spPr>
            <a:xfrm>
              <a:off x="925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02920" y="1767960"/>
            <a:ext cx="9070920" cy="120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Fe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 Fe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6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3"/>
          <p:cNvGrpSpPr/>
          <p:nvPr/>
        </p:nvGrpSpPr>
        <p:grpSpPr>
          <a:xfrm>
            <a:off x="1077840" y="2255760"/>
            <a:ext cx="2590920" cy="546120"/>
            <a:chOff x="1077840" y="2255760"/>
            <a:chExt cx="2590920" cy="546120"/>
          </a:xfrm>
        </p:grpSpPr>
        <p:sp>
          <p:nvSpPr>
            <p:cNvPr id="364" name="Text Box 4"/>
            <p:cNvSpPr/>
            <p:nvPr/>
          </p:nvSpPr>
          <p:spPr>
            <a:xfrm>
              <a:off x="29829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5"/>
            <p:cNvSpPr/>
            <p:nvPr/>
          </p:nvSpPr>
          <p:spPr>
            <a:xfrm>
              <a:off x="191628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>
              <a:off x="1077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02920" y="1767960"/>
            <a:ext cx="9070920" cy="166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hemical equation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Describes a chemical chang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Parts of an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3"/>
          <p:cNvGrpSpPr/>
          <p:nvPr/>
        </p:nvGrpSpPr>
        <p:grpSpPr>
          <a:xfrm>
            <a:off x="1365120" y="4700520"/>
            <a:ext cx="7467840" cy="787320"/>
            <a:chOff x="1365120" y="4700520"/>
            <a:chExt cx="7467840" cy="787320"/>
          </a:xfrm>
        </p:grpSpPr>
        <p:sp>
          <p:nvSpPr>
            <p:cNvPr id="182" name="AutoShape 3"/>
            <p:cNvSpPr/>
            <p:nvPr/>
          </p:nvSpPr>
          <p:spPr>
            <a:xfrm>
              <a:off x="4260960" y="4853160"/>
              <a:ext cx="1371600" cy="409320"/>
            </a:xfrm>
            <a:prstGeom prst="rightArrow">
              <a:avLst>
                <a:gd name="adj1" fmla="val 23259"/>
                <a:gd name="adj2" fmla="val 7718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4"/>
            <p:cNvSpPr/>
            <p:nvPr/>
          </p:nvSpPr>
          <p:spPr>
            <a:xfrm>
              <a:off x="1365120" y="4700520"/>
              <a:ext cx="2826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2Ag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6013440" y="4700520"/>
              <a:ext cx="2819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Ag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1667160" y="3633840"/>
            <a:ext cx="2898360" cy="1083960"/>
            <a:chOff x="1667160" y="3633840"/>
            <a:chExt cx="2898360" cy="1083960"/>
          </a:xfrm>
        </p:grpSpPr>
        <p:sp>
          <p:nvSpPr>
            <p:cNvPr id="186" name="Text Box 7"/>
            <p:cNvSpPr/>
            <p:nvPr/>
          </p:nvSpPr>
          <p:spPr>
            <a:xfrm>
              <a:off x="2050920" y="36338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a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 rot="5340000">
              <a:off x="2395440" y="3443040"/>
              <a:ext cx="533160" cy="198144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440"/>
                <a:gd name="textAreaBottom" fmla="*/ 188640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15"/>
          <p:cNvGrpSpPr/>
          <p:nvPr/>
        </p:nvGrpSpPr>
        <p:grpSpPr>
          <a:xfrm>
            <a:off x="6086520" y="3633840"/>
            <a:ext cx="1990080" cy="1083960"/>
            <a:chOff x="6086520" y="3633840"/>
            <a:chExt cx="1990080" cy="1083960"/>
          </a:xfrm>
        </p:grpSpPr>
        <p:sp>
          <p:nvSpPr>
            <p:cNvPr id="189" name="Text Box 6"/>
            <p:cNvSpPr/>
            <p:nvPr/>
          </p:nvSpPr>
          <p:spPr>
            <a:xfrm>
              <a:off x="6470640" y="3633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10"/>
            <p:cNvSpPr/>
            <p:nvPr/>
          </p:nvSpPr>
          <p:spPr>
            <a:xfrm rot="5340000">
              <a:off x="6814800" y="3443040"/>
              <a:ext cx="533160" cy="19810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080"/>
                <a:gd name="textAreaBottom" fmla="*/ 18860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14"/>
          <p:cNvGrpSpPr/>
          <p:nvPr/>
        </p:nvGrpSpPr>
        <p:grpSpPr>
          <a:xfrm>
            <a:off x="3956040" y="5462640"/>
            <a:ext cx="1987560" cy="1663560"/>
            <a:chOff x="3956040" y="5462640"/>
            <a:chExt cx="1987560" cy="1663560"/>
          </a:xfrm>
        </p:grpSpPr>
        <p:sp>
          <p:nvSpPr>
            <p:cNvPr id="192" name="AutoShape 8"/>
            <p:cNvSpPr/>
            <p:nvPr/>
          </p:nvSpPr>
          <p:spPr>
            <a:xfrm>
              <a:off x="4718160" y="5462640"/>
              <a:ext cx="380880" cy="1143000"/>
            </a:xfrm>
            <a:prstGeom prst="upArrow">
              <a:avLst>
                <a:gd name="adj1" fmla="val 21667"/>
                <a:gd name="adj2" fmla="val 8210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3956040" y="6757920"/>
              <a:ext cx="19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ion symb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Місце для нижнього колонтитула 5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Reacta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chemical(s) you start with before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Written on lef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Produc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new chemical(s) formed by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Righ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Subscrip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atoms of an element are in a molecul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2 atoms of hydrogen (H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1 atom of oxygen (O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oefficie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molecules there are of a particular chemical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3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Means there are 3 water molecules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In a chem. rxn, matter is neither created nor destroyed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In other words, the number and type of atoms going INTO a rxn must be the same as the number and type of atoms coming OUT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If an equation obeys the Law of Conservation, it is </a:t>
            </a:r>
            <a:r>
              <a:rPr b="1" lang="en-GB" sz="2900" spc="-1" strike="noStrike">
                <a:solidFill>
                  <a:srgbClr val="ffff00"/>
                </a:solidFill>
                <a:latin typeface="Constantia"/>
              </a:rPr>
              <a:t>balanced</a:t>
            </a: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C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C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Rectangle 5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Balanced Eq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280" y="1770120"/>
            <a:ext cx="90709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2874960" y="408312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22"/>
          <p:cNvSpPr/>
          <p:nvPr/>
        </p:nvSpPr>
        <p:spPr>
          <a:xfrm>
            <a:off x="3235320" y="4262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23"/>
          <p:cNvSpPr/>
          <p:nvPr/>
        </p:nvSpPr>
        <p:spPr>
          <a:xfrm>
            <a:off x="8489880" y="4456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24"/>
          <p:cNvSpPr/>
          <p:nvPr/>
        </p:nvSpPr>
        <p:spPr>
          <a:xfrm>
            <a:off x="8070840" y="41068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25"/>
          <p:cNvSpPr/>
          <p:nvPr/>
        </p:nvSpPr>
        <p:spPr>
          <a:xfrm>
            <a:off x="7950240" y="4564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1. Matter cannot be created or destroy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2. Subscripts cannot be added, removed, or chang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3. You can only change coefficients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4. Coefficients can only go in front of chem. formulas...NEVER in the middle of a formula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A few extra tips: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y balancing big formulas first; save free elements for las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f the same polyatomic ion appears on both sides of the equation, it’s usually okay to treat it as one uni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re is no one particular way to balance equations.  Some equations are harder to balance than others and might require some creativity to solv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6" name="Rectangle 1" descr=""/>
          <p:cNvPicPr/>
          <p:nvPr/>
        </p:nvPicPr>
        <p:blipFill>
          <a:blip r:embed="rId1"/>
          <a:stretch/>
        </p:blipFill>
        <p:spPr>
          <a:xfrm>
            <a:off x="189000" y="298440"/>
            <a:ext cx="9388440" cy="163368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as Curtis</dc:creator>
  <dc:description/>
  <dc:language>en-US</dc:language>
  <cp:lastModifiedBy>LEGION</cp:lastModifiedBy>
  <dcterms:modified xsi:type="dcterms:W3CDTF">2017-01-26T09:37:15Z</dcterms:modified>
  <cp:revision>6</cp:revision>
  <dc:subject/>
  <dc:title>Balancing Chemical Equations</dc:title>
</cp:coreProperties>
</file>