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2DDD-C842-40BA-AB65-8EBB35143B2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ing Chemical Eq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follow these steps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quite easy re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follow these steps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quite easy re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ly you need an equation with the correct “formulae” in………. You’ll probably be given this in th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like this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+ O2     M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ly you need an equation with the correct “formulae” in………. You’ll probably be given this in the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like this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   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Just count up the atoms on each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start balanc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The numbers aren’t balanced so then add “BIG” numbers to make up for any shor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djust to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Just count up the atoms on each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start balanc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The numbers aren’t balanced so then add “BIG” numbers to make up for any shor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just to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numbers still aren’t equal, so add another “BIG”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djust totals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BOTH SIDES HAVE EQUAL NUMBERS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THE EQUATION IS BALANCE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 numbers still aren’t equal, so add another “BIG”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just totals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BOTH SIDES HAVE EQUAL NUMBER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AT THE EQUATION IS BALANC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o balance these equations using the same metho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   Na + Cl2  Na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 CH4  + O2  CO2  + 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4]  Al  + O2  Al2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3]  Li  +  HNO3  LiNO3  + 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balance these equations using the same 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   Na + Cl2 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 CH4  + O2  CO2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4]  Al  + O2 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3]  Li  +  HNO3  LiNO3  +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get on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   2 Na + Cl2  2 Na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 CH4  +  2 O2  CO2  +   2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4] 4 Al  + 3 O2  2 Al2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3] 2 Li  + 2 HNO3  2  LiNO3  + 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the 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E YOU’VE GOT THE IDEA… REMEMBER TO CHECK THAT YOU CAN DO ELECTROLYSIS EQUATIONS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you get on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   2 Na + Cl2  2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 CH4  +  2 O2  CO2  +   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4] 4 Al  + 3 O2  2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3] 2 Li  + 2 HNO3  2  LiNO3  +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YOU’VE GOT THE IDEA… REMEMBER TO CHECK THAT YOU CAN DO ELECTROLYSIS EQUATIONS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ectrolysis equations ones to che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a]   Cu2+  +    e- 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b]    Cl-  -   e-  Cl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c]    H+  +    e- 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d]    Br -  Br2  +   e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lectrolysis equations ones to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a]   Cu2+  +    e- 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b]    Cl-  -   e- 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c]    H+  +    e- 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d]    Br -  Br2  +  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s are…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o balance the charges on each side of the a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]   Cu2+  +  2 e- 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b]   2 Cl-  - 2 e-  Cl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c]   2 H+  + 2 e- 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d]   2 Br -  Br2  + 2 e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s are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balance the charges on each side of the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]   Cu2+  +  2 e- 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]   2 Cl-  - 2 e- 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]   2 H+  + 2 e- 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]   2 Br -  Br2  + 2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e that makes things a bit clearer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remember it’s all about bal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that makes things a bit clearer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remember it’s all abou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D84B-EE83-42F5-A368-E96DC7E9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5964-258F-42E6-8D70-55FC679B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42C3-D889-4B5A-A8E6-487424B1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9EE1-4F97-4DD5-AEBB-B372FB9E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C4D-AFA2-4DF4-ADDF-5B6389C0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FEC-26CD-462B-8089-4CD54636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0FC4-0C88-4896-BE12-CE887EF1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8F0-8A56-4790-B18F-D6E7CB80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2F0-CA41-4B06-9A68-5AB3FE2E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1992-E792-436B-8F94-5A552773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BCD-5992-4B74-9F2A-3A64158E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826-E9DB-405D-8FBF-846098D4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F6F7-4B7C-492D-9A08-A32951613A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Balancing Chemical Equ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33"/>
                </a:solidFill>
                <a:latin typeface="Times New Roman"/>
              </a:rPr>
              <a:t>Just follow these steps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28800" y="47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80"/>
                </a:solidFill>
                <a:latin typeface="Times New Roman"/>
              </a:rPr>
              <a:t>It’s quite easy re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8"/>
          <p:cNvGrpSpPr/>
          <p:nvPr/>
        </p:nvGrpSpPr>
        <p:grpSpPr>
          <a:xfrm>
            <a:off x="4114800" y="5867280"/>
            <a:ext cx="837720" cy="839160"/>
            <a:chOff x="4114800" y="5867280"/>
            <a:chExt cx="837720" cy="839160"/>
          </a:xfrm>
        </p:grpSpPr>
        <p:sp>
          <p:nvSpPr>
            <p:cNvPr id="52" name="Oval 10"/>
            <p:cNvSpPr/>
            <p:nvPr/>
          </p:nvSpPr>
          <p:spPr>
            <a:xfrm>
              <a:off x="4114800" y="62481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4132080" y="63057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12"/>
            <p:cNvSpPr/>
            <p:nvPr/>
          </p:nvSpPr>
          <p:spPr>
            <a:xfrm>
              <a:off x="4713480" y="62294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4"/>
            <p:cNvSpPr/>
            <p:nvPr/>
          </p:nvSpPr>
          <p:spPr>
            <a:xfrm>
              <a:off x="4353840" y="58672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4314600" y="61718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 flipH="1" flipV="1">
              <a:off x="4653360" y="61718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990720" y="6858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ly you need an equation with the correct “formulae” in………. You’ll probably be given this in th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907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t like this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14400" y="2286000"/>
            <a:ext cx="739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Mg + O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 M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572000" y="4648320"/>
            <a:ext cx="109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64" name="Oval 1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20"/>
          <p:cNvGrpSpPr/>
          <p:nvPr/>
        </p:nvGrpSpPr>
        <p:grpSpPr>
          <a:xfrm>
            <a:off x="1371600" y="3124080"/>
            <a:ext cx="6477120" cy="1555200"/>
            <a:chOff x="1371600" y="3124080"/>
            <a:chExt cx="6477120" cy="1555200"/>
          </a:xfrm>
        </p:grpSpPr>
        <p:sp>
          <p:nvSpPr>
            <p:cNvPr id="71" name="Text Box 6"/>
            <p:cNvSpPr/>
            <p:nvPr/>
          </p:nvSpPr>
          <p:spPr>
            <a:xfrm>
              <a:off x="1371600" y="3124080"/>
              <a:ext cx="647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n all you do is list the atoms that are involved  on each side of the arr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9"/>
            <p:cNvSpPr/>
            <p:nvPr/>
          </p:nvSpPr>
          <p:spPr>
            <a:xfrm>
              <a:off x="3090600" y="4030560"/>
              <a:ext cx="2986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Mg + O</a:t>
              </a:r>
              <a:r>
                <a:rPr b="0" lang="en-GB" sz="32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Mg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8"/>
          <p:cNvSpPr/>
          <p:nvPr/>
        </p:nvSpPr>
        <p:spPr>
          <a:xfrm>
            <a:off x="1219320" y="1143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Just count up the atoms on each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066680" y="457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tart balanc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7"/>
          <p:cNvGrpSpPr/>
          <p:nvPr/>
        </p:nvGrpSpPr>
        <p:grpSpPr>
          <a:xfrm>
            <a:off x="8077320" y="457200"/>
            <a:ext cx="837720" cy="839160"/>
            <a:chOff x="8077320" y="457200"/>
            <a:chExt cx="837720" cy="839160"/>
          </a:xfrm>
        </p:grpSpPr>
        <p:sp>
          <p:nvSpPr>
            <p:cNvPr id="77" name="Oval 28"/>
            <p:cNvSpPr/>
            <p:nvPr/>
          </p:nvSpPr>
          <p:spPr>
            <a:xfrm>
              <a:off x="8077320" y="83808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9"/>
            <p:cNvSpPr/>
            <p:nvPr/>
          </p:nvSpPr>
          <p:spPr>
            <a:xfrm>
              <a:off x="8094600" y="89568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30"/>
            <p:cNvSpPr/>
            <p:nvPr/>
          </p:nvSpPr>
          <p:spPr>
            <a:xfrm>
              <a:off x="8676000" y="8193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8316360" y="45720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 flipV="1">
              <a:off x="8277120" y="76176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33"/>
            <p:cNvSpPr/>
            <p:nvPr/>
          </p:nvSpPr>
          <p:spPr>
            <a:xfrm flipH="1" flipV="1">
              <a:off x="8615880" y="76176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38"/>
          <p:cNvGrpSpPr/>
          <p:nvPr/>
        </p:nvGrpSpPr>
        <p:grpSpPr>
          <a:xfrm>
            <a:off x="2936520" y="1744560"/>
            <a:ext cx="3599280" cy="1633680"/>
            <a:chOff x="2936520" y="1744560"/>
            <a:chExt cx="3599280" cy="1633680"/>
          </a:xfrm>
        </p:grpSpPr>
        <p:sp>
          <p:nvSpPr>
            <p:cNvPr id="84" name="Rectangle 36"/>
            <p:cNvSpPr/>
            <p:nvPr/>
          </p:nvSpPr>
          <p:spPr>
            <a:xfrm>
              <a:off x="2936520" y="1744560"/>
              <a:ext cx="3599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Mg + O</a:t>
              </a:r>
              <a:r>
                <a:rPr b="0" lang="en-GB" sz="32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0" lang="en-GB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    Mg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7"/>
            <p:cNvSpPr/>
            <p:nvPr/>
          </p:nvSpPr>
          <p:spPr>
            <a:xfrm>
              <a:off x="4419720" y="2362320"/>
              <a:ext cx="1096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Text Box 39"/>
          <p:cNvSpPr/>
          <p:nvPr/>
        </p:nvSpPr>
        <p:spPr>
          <a:xfrm>
            <a:off x="38098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548640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1"/>
          <p:cNvSpPr/>
          <p:nvPr/>
        </p:nvSpPr>
        <p:spPr>
          <a:xfrm>
            <a:off x="54864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38098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2"/>
          <p:cNvSpPr/>
          <p:nvPr/>
        </p:nvSpPr>
        <p:spPr>
          <a:xfrm>
            <a:off x="1066680" y="34290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The numbers aren’t balanced so then add “BIG” numbers to make up for any shor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54"/>
          <p:cNvGrpSpPr/>
          <p:nvPr/>
        </p:nvGrpSpPr>
        <p:grpSpPr>
          <a:xfrm>
            <a:off x="3962520" y="9067680"/>
            <a:ext cx="837720" cy="839160"/>
            <a:chOff x="3962520" y="9067680"/>
            <a:chExt cx="837720" cy="839160"/>
          </a:xfrm>
        </p:grpSpPr>
        <p:sp>
          <p:nvSpPr>
            <p:cNvPr id="92" name="Oval 55"/>
            <p:cNvSpPr/>
            <p:nvPr/>
          </p:nvSpPr>
          <p:spPr>
            <a:xfrm>
              <a:off x="3962520" y="94485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56"/>
            <p:cNvSpPr/>
            <p:nvPr/>
          </p:nvSpPr>
          <p:spPr>
            <a:xfrm>
              <a:off x="3979800" y="95061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57"/>
            <p:cNvSpPr/>
            <p:nvPr/>
          </p:nvSpPr>
          <p:spPr>
            <a:xfrm>
              <a:off x="4561200" y="94298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58"/>
            <p:cNvSpPr/>
            <p:nvPr/>
          </p:nvSpPr>
          <p:spPr>
            <a:xfrm>
              <a:off x="4201560" y="90676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59"/>
            <p:cNvSpPr/>
            <p:nvPr/>
          </p:nvSpPr>
          <p:spPr>
            <a:xfrm flipV="1">
              <a:off x="4162320" y="9372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60"/>
            <p:cNvSpPr/>
            <p:nvPr/>
          </p:nvSpPr>
          <p:spPr>
            <a:xfrm flipH="1" flipV="1">
              <a:off x="4501080" y="9372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Text Box 77"/>
          <p:cNvSpPr/>
          <p:nvPr/>
        </p:nvSpPr>
        <p:spPr>
          <a:xfrm>
            <a:off x="1447920" y="60879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djust to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74"/>
          <p:cNvGrpSpPr/>
          <p:nvPr/>
        </p:nvGrpSpPr>
        <p:grpSpPr>
          <a:xfrm>
            <a:off x="3088800" y="4183200"/>
            <a:ext cx="3701520" cy="1762920"/>
            <a:chOff x="3088800" y="4183200"/>
            <a:chExt cx="3701520" cy="1762920"/>
          </a:xfrm>
        </p:grpSpPr>
        <p:sp>
          <p:nvSpPr>
            <p:cNvPr id="100" name="Text Box 61"/>
            <p:cNvSpPr/>
            <p:nvPr/>
          </p:nvSpPr>
          <p:spPr>
            <a:xfrm>
              <a:off x="5257800" y="5410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66"/>
            <p:cNvGrpSpPr/>
            <p:nvPr/>
          </p:nvGrpSpPr>
          <p:grpSpPr>
            <a:xfrm>
              <a:off x="3088800" y="4183200"/>
              <a:ext cx="3701520" cy="1633320"/>
              <a:chOff x="3088800" y="4183200"/>
              <a:chExt cx="3701520" cy="1633320"/>
            </a:xfrm>
          </p:grpSpPr>
          <p:sp>
            <p:nvSpPr>
              <p:cNvPr id="102" name="Rectangle 67"/>
              <p:cNvSpPr/>
              <p:nvPr/>
            </p:nvSpPr>
            <p:spPr>
              <a:xfrm>
                <a:off x="3088800" y="4183200"/>
                <a:ext cx="3701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Mg + O</a:t>
                </a:r>
                <a:r>
                  <a:rPr b="0" lang="en-GB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       Mg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68"/>
              <p:cNvSpPr/>
              <p:nvPr/>
            </p:nvSpPr>
            <p:spPr>
              <a:xfrm>
                <a:off x="4572000" y="4800600"/>
                <a:ext cx="109656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69"/>
            <p:cNvSpPr/>
            <p:nvPr/>
          </p:nvSpPr>
          <p:spPr>
            <a:xfrm>
              <a:off x="39625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70"/>
            <p:cNvSpPr/>
            <p:nvPr/>
          </p:nvSpPr>
          <p:spPr>
            <a:xfrm>
              <a:off x="5638680" y="5486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71"/>
            <p:cNvSpPr/>
            <p:nvPr/>
          </p:nvSpPr>
          <p:spPr>
            <a:xfrm>
              <a:off x="5638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72"/>
            <p:cNvSpPr/>
            <p:nvPr/>
          </p:nvSpPr>
          <p:spPr>
            <a:xfrm>
              <a:off x="39625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76"/>
          <p:cNvSpPr/>
          <p:nvPr/>
        </p:nvSpPr>
        <p:spPr>
          <a:xfrm>
            <a:off x="5257800" y="4191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8"/>
          <p:cNvSpPr/>
          <p:nvPr/>
        </p:nvSpPr>
        <p:spPr>
          <a:xfrm>
            <a:off x="6248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9"/>
          <p:cNvSpPr/>
          <p:nvPr/>
        </p:nvSpPr>
        <p:spPr>
          <a:xfrm>
            <a:off x="62485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0"/>
          <p:cNvSpPr/>
          <p:nvPr/>
        </p:nvSpPr>
        <p:spPr>
          <a:xfrm flipV="1">
            <a:off x="5603760" y="558432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81"/>
          <p:cNvSpPr/>
          <p:nvPr/>
        </p:nvSpPr>
        <p:spPr>
          <a:xfrm flipV="1">
            <a:off x="5603760" y="497484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39"/>
          <p:cNvGrpSpPr/>
          <p:nvPr/>
        </p:nvGrpSpPr>
        <p:grpSpPr>
          <a:xfrm>
            <a:off x="2631960" y="1211400"/>
            <a:ext cx="3599280" cy="1762920"/>
            <a:chOff x="2631960" y="1211400"/>
            <a:chExt cx="3599280" cy="1762920"/>
          </a:xfrm>
        </p:grpSpPr>
        <p:sp>
          <p:nvSpPr>
            <p:cNvPr id="115" name="Text Box 26"/>
            <p:cNvSpPr/>
            <p:nvPr/>
          </p:nvSpPr>
          <p:spPr>
            <a:xfrm>
              <a:off x="4800600" y="24382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27"/>
            <p:cNvGrpSpPr/>
            <p:nvPr/>
          </p:nvGrpSpPr>
          <p:grpSpPr>
            <a:xfrm>
              <a:off x="2631960" y="1211400"/>
              <a:ext cx="3599280" cy="1633320"/>
              <a:chOff x="2631960" y="1211400"/>
              <a:chExt cx="3599280" cy="1633320"/>
            </a:xfrm>
          </p:grpSpPr>
          <p:sp>
            <p:nvSpPr>
              <p:cNvPr id="117" name="Rectangle 28"/>
              <p:cNvSpPr/>
              <p:nvPr/>
            </p:nvSpPr>
            <p:spPr>
              <a:xfrm>
                <a:off x="2631960" y="1211400"/>
                <a:ext cx="35992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Mg + O</a:t>
                </a:r>
                <a:r>
                  <a:rPr b="0" lang="en-GB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      Mg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9"/>
              <p:cNvSpPr/>
              <p:nvPr/>
            </p:nvSpPr>
            <p:spPr>
              <a:xfrm>
                <a:off x="4115160" y="1828800"/>
                <a:ext cx="1096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30"/>
            <p:cNvSpPr/>
            <p:nvPr/>
          </p:nvSpPr>
          <p:spPr>
            <a:xfrm>
              <a:off x="3505320" y="1905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33"/>
            <p:cNvSpPr/>
            <p:nvPr/>
          </p:nvSpPr>
          <p:spPr>
            <a:xfrm>
              <a:off x="350532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34"/>
            <p:cNvSpPr/>
            <p:nvPr/>
          </p:nvSpPr>
          <p:spPr>
            <a:xfrm>
              <a:off x="480060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5"/>
            <p:cNvSpPr/>
            <p:nvPr/>
          </p:nvSpPr>
          <p:spPr>
            <a:xfrm>
              <a:off x="5410080" y="236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6"/>
            <p:cNvSpPr/>
            <p:nvPr/>
          </p:nvSpPr>
          <p:spPr>
            <a:xfrm>
              <a:off x="541008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Line 37"/>
          <p:cNvSpPr/>
          <p:nvPr/>
        </p:nvSpPr>
        <p:spPr>
          <a:xfrm flipV="1">
            <a:off x="3470040" y="200304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0"/>
          <p:cNvSpPr/>
          <p:nvPr/>
        </p:nvSpPr>
        <p:spPr>
          <a:xfrm>
            <a:off x="1447920" y="3049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the numbers still aren’t equal, so add another “BIG”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1"/>
          <p:cNvSpPr/>
          <p:nvPr/>
        </p:nvSpPr>
        <p:spPr>
          <a:xfrm>
            <a:off x="22096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990720" y="31240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djust totals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4"/>
          <p:cNvSpPr/>
          <p:nvPr/>
        </p:nvSpPr>
        <p:spPr>
          <a:xfrm>
            <a:off x="1447920" y="3809880"/>
            <a:ext cx="609588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NOW BOTH SIDES HAVE EQUAL NUMBERS OF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5"/>
          <p:cNvSpPr/>
          <p:nvPr/>
        </p:nvSpPr>
        <p:spPr>
          <a:xfrm>
            <a:off x="1371600" y="5257800"/>
            <a:ext cx="617220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29"/>
                </a:solidFill>
                <a:latin typeface="Times New Roman"/>
              </a:rPr>
              <a:t>WE SAY THAT THE EQUATION IS BALANCED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8"/>
          <p:cNvGrpSpPr/>
          <p:nvPr/>
        </p:nvGrpSpPr>
        <p:grpSpPr>
          <a:xfrm>
            <a:off x="6324480" y="1523880"/>
            <a:ext cx="456840" cy="609840"/>
            <a:chOff x="6324480" y="1523880"/>
            <a:chExt cx="456840" cy="609840"/>
          </a:xfrm>
        </p:grpSpPr>
        <p:sp>
          <p:nvSpPr>
            <p:cNvPr id="131" name="Line 46"/>
            <p:cNvSpPr/>
            <p:nvPr/>
          </p:nvSpPr>
          <p:spPr>
            <a:xfrm>
              <a:off x="6324480" y="1922760"/>
              <a:ext cx="114120" cy="21096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47"/>
            <p:cNvSpPr/>
            <p:nvPr/>
          </p:nvSpPr>
          <p:spPr>
            <a:xfrm flipV="1">
              <a:off x="6438600" y="1523880"/>
              <a:ext cx="342720" cy="60984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49"/>
          <p:cNvGrpSpPr/>
          <p:nvPr/>
        </p:nvGrpSpPr>
        <p:grpSpPr>
          <a:xfrm>
            <a:off x="6324480" y="2209680"/>
            <a:ext cx="456840" cy="609840"/>
            <a:chOff x="6324480" y="2209680"/>
            <a:chExt cx="456840" cy="609840"/>
          </a:xfrm>
        </p:grpSpPr>
        <p:sp>
          <p:nvSpPr>
            <p:cNvPr id="134" name="Line 50"/>
            <p:cNvSpPr/>
            <p:nvPr/>
          </p:nvSpPr>
          <p:spPr>
            <a:xfrm>
              <a:off x="6324480" y="2608560"/>
              <a:ext cx="114120" cy="21096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1"/>
            <p:cNvSpPr/>
            <p:nvPr/>
          </p:nvSpPr>
          <p:spPr>
            <a:xfrm flipV="1">
              <a:off x="6438600" y="2209680"/>
              <a:ext cx="342720" cy="60984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Text Box 52"/>
          <p:cNvSpPr/>
          <p:nvPr/>
        </p:nvSpPr>
        <p:spPr>
          <a:xfrm>
            <a:off x="297360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39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Text Box 9"/>
          <p:cNvSpPr/>
          <p:nvPr/>
        </p:nvSpPr>
        <p:spPr>
          <a:xfrm>
            <a:off x="838080" y="838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Try to balance these equations using the same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066680" y="1981080"/>
            <a:ext cx="63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   Na +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066680" y="2895480"/>
            <a:ext cx="65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143000" y="4495680"/>
            <a:ext cx="731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4]  Al  +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143000" y="3733920"/>
            <a:ext cx="7467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3]  Li  +  H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i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6629400" y="1066680"/>
            <a:ext cx="837720" cy="839160"/>
            <a:chOff x="6629400" y="1066680"/>
            <a:chExt cx="837720" cy="839160"/>
          </a:xfrm>
        </p:grpSpPr>
        <p:sp>
          <p:nvSpPr>
            <p:cNvPr id="152" name="Oval 3"/>
            <p:cNvSpPr/>
            <p:nvPr/>
          </p:nvSpPr>
          <p:spPr>
            <a:xfrm>
              <a:off x="6629400" y="14475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4"/>
            <p:cNvSpPr/>
            <p:nvPr/>
          </p:nvSpPr>
          <p:spPr>
            <a:xfrm>
              <a:off x="6646680" y="15051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>
              <a:off x="7228080" y="14288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>
              <a:off x="6868440" y="10666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6829200" y="1371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 flipH="1" flipV="1">
              <a:off x="7167960" y="1371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Text Box 9"/>
          <p:cNvSpPr/>
          <p:nvPr/>
        </p:nvSpPr>
        <p:spPr>
          <a:xfrm>
            <a:off x="838080" y="838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How did you get on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066680" y="1981080"/>
            <a:ext cx="63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 +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066680" y="2666880"/>
            <a:ext cx="65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1066680" y="4038480"/>
            <a:ext cx="731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4]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  +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1066680" y="3352680"/>
            <a:ext cx="7467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3]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i  +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Li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838080" y="1295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omic Sans MS"/>
              </a:rPr>
              <a:t>Here are the 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2362320" y="4800600"/>
            <a:ext cx="472428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PE YOU’VE GOT THE IDEA… REMEMBER TO CHECK THAT YOU CAN DO ELECTROLYSIS EQUATIONS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67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Text Box 9"/>
          <p:cNvSpPr/>
          <p:nvPr/>
        </p:nvSpPr>
        <p:spPr>
          <a:xfrm>
            <a:off x="762120" y="12873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lysis equations ones to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914400" y="2057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a]   Cu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2+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+ 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838080" y="2819520"/>
            <a:ext cx="411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b]    Cl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-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Cl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914400" y="3581280"/>
            <a:ext cx="3886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c]    H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+ 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H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838080" y="4495680"/>
            <a:ext cx="3733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d]    Br 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Br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 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80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Text Box 9"/>
          <p:cNvSpPr/>
          <p:nvPr/>
        </p:nvSpPr>
        <p:spPr>
          <a:xfrm>
            <a:off x="685800" y="106668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swers are…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Remember to balance the charges on each side of the a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2286000" y="2743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a]   Cu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2133720" y="3429000"/>
            <a:ext cx="411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b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2209680" y="4038480"/>
            <a:ext cx="3886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c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133720" y="4876920"/>
            <a:ext cx="3733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d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r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7772400" y="1981080"/>
            <a:ext cx="837720" cy="839160"/>
            <a:chOff x="7772400" y="1981080"/>
            <a:chExt cx="837720" cy="839160"/>
          </a:xfrm>
        </p:grpSpPr>
        <p:sp>
          <p:nvSpPr>
            <p:cNvPr id="193" name="Oval 3"/>
            <p:cNvSpPr/>
            <p:nvPr/>
          </p:nvSpPr>
          <p:spPr>
            <a:xfrm>
              <a:off x="7772400" y="23619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4"/>
            <p:cNvSpPr/>
            <p:nvPr/>
          </p:nvSpPr>
          <p:spPr>
            <a:xfrm>
              <a:off x="7789680" y="24195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5"/>
            <p:cNvSpPr/>
            <p:nvPr/>
          </p:nvSpPr>
          <p:spPr>
            <a:xfrm>
              <a:off x="8371080" y="23432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6"/>
            <p:cNvSpPr/>
            <p:nvPr/>
          </p:nvSpPr>
          <p:spPr>
            <a:xfrm>
              <a:off x="8011440" y="19810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 flipV="1">
              <a:off x="7972200" y="22856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8"/>
            <p:cNvSpPr/>
            <p:nvPr/>
          </p:nvSpPr>
          <p:spPr>
            <a:xfrm flipH="1" flipV="1">
              <a:off x="8310960" y="22856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5"/>
          <p:cNvSpPr/>
          <p:nvPr/>
        </p:nvSpPr>
        <p:spPr>
          <a:xfrm>
            <a:off x="1828800" y="1676520"/>
            <a:ext cx="556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Hope that makes things a bit clearer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ust remember it’s all abou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20"/>
          <p:cNvGrpSpPr/>
          <p:nvPr/>
        </p:nvGrpSpPr>
        <p:grpSpPr>
          <a:xfrm>
            <a:off x="2362320" y="4797360"/>
            <a:ext cx="4572000" cy="1454400"/>
            <a:chOff x="2362320" y="4797360"/>
            <a:chExt cx="4572000" cy="1454400"/>
          </a:xfrm>
        </p:grpSpPr>
        <p:sp>
          <p:nvSpPr>
            <p:cNvPr id="201" name="AutoShape 16"/>
            <p:cNvSpPr/>
            <p:nvPr/>
          </p:nvSpPr>
          <p:spPr>
            <a:xfrm rot="8149200">
              <a:off x="4038480" y="5029200"/>
              <a:ext cx="1067040" cy="9907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2362320" y="4800600"/>
              <a:ext cx="4572000" cy="0"/>
            </a:xfrm>
            <a:prstGeom prst="line">
              <a:avLst/>
            </a:prstGeom>
            <a:ln w="181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AutoShape 18"/>
          <p:cNvSpPr/>
          <p:nvPr/>
        </p:nvSpPr>
        <p:spPr>
          <a:xfrm>
            <a:off x="2514600" y="3886200"/>
            <a:ext cx="914400" cy="838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9"/>
          <p:cNvSpPr/>
          <p:nvPr/>
        </p:nvSpPr>
        <p:spPr>
          <a:xfrm>
            <a:off x="5943600" y="3886200"/>
            <a:ext cx="914400" cy="8380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8:00:47Z</dcterms:created>
  <dc:creator>Glyn Crees</dc:creator>
  <dc:description/>
  <dc:language>en-US</dc:language>
  <cp:lastModifiedBy>LEGION</cp:lastModifiedBy>
  <dcterms:modified xsi:type="dcterms:W3CDTF">2017-01-26T09:38:51Z</dcterms:modified>
  <cp:revision>5</cp:revision>
  <dc:subject/>
  <dc:title>Balancing Chemical Equations </dc:title>
</cp:coreProperties>
</file>