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1496-A8A1-40D6-9DB3-6E2BB5238D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4C6-00E6-4978-B32C-6988730B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5C0-7ADD-413D-8049-A8382F49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19E-702A-4C65-9026-2D3CBFC8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D87-1A9E-4864-9425-C253ADCB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04B-ED05-457F-8BD0-25C86593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AC6-7020-4309-830E-FAABF12F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6F6-2D14-491E-AF30-B2FB9A76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7BA-32AC-4B12-A372-8613A42C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195-0757-46A9-9D4B-2F3DF64A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40C-431F-4101-9B02-883AD776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C91-1ADF-4F51-8F19-F2612337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76A-70B3-4A30-95C7-D479BD38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4430-F450-4E8C-9D76-D47CD13CF3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Balancing Chemic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33"/>
                </a:solidFill>
                <a:latin typeface="Times New Roman"/>
              </a:rPr>
              <a:t>Just follow these steps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80"/>
                </a:solidFill>
                <a:latin typeface="Times New Roman"/>
              </a:rPr>
              <a:t>It’s quite easy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4114800" y="5867280"/>
            <a:ext cx="837720" cy="839160"/>
            <a:chOff x="4114800" y="5867280"/>
            <a:chExt cx="837720" cy="839160"/>
          </a:xfrm>
        </p:grpSpPr>
        <p:sp>
          <p:nvSpPr>
            <p:cNvPr id="52" name="Oval 10"/>
            <p:cNvSpPr/>
            <p:nvPr/>
          </p:nvSpPr>
          <p:spPr>
            <a:xfrm>
              <a:off x="4114800" y="62481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4132080" y="63057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4713480" y="62294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4353840" y="58672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431460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 flipV="1">
              <a:off x="465336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9907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2286000"/>
            <a:ext cx="739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Mg + O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2000" y="4648320"/>
            <a:ext cx="109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64" name="Oval 1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0"/>
          <p:cNvGrpSpPr/>
          <p:nvPr/>
        </p:nvGrpSpPr>
        <p:grpSpPr>
          <a:xfrm>
            <a:off x="1371600" y="3124080"/>
            <a:ext cx="6477120" cy="1555200"/>
            <a:chOff x="1371600" y="3124080"/>
            <a:chExt cx="6477120" cy="1555200"/>
          </a:xfrm>
        </p:grpSpPr>
        <p:sp>
          <p:nvSpPr>
            <p:cNvPr id="71" name="Text Box 6"/>
            <p:cNvSpPr/>
            <p:nvPr/>
          </p:nvSpPr>
          <p:spPr>
            <a:xfrm>
              <a:off x="1371600" y="3124080"/>
              <a:ext cx="647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all you do is list the atoms that are involved  on each side of the arr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090600" y="4030560"/>
              <a:ext cx="298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1219320" y="114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666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8077320" y="457200"/>
            <a:ext cx="837720" cy="839160"/>
            <a:chOff x="8077320" y="457200"/>
            <a:chExt cx="837720" cy="839160"/>
          </a:xfrm>
        </p:grpSpPr>
        <p:sp>
          <p:nvSpPr>
            <p:cNvPr id="77" name="Oval 28"/>
            <p:cNvSpPr/>
            <p:nvPr/>
          </p:nvSpPr>
          <p:spPr>
            <a:xfrm>
              <a:off x="8077320" y="83808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9"/>
            <p:cNvSpPr/>
            <p:nvPr/>
          </p:nvSpPr>
          <p:spPr>
            <a:xfrm>
              <a:off x="8094600" y="89568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676000" y="8193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16360" y="45720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 flipV="1">
              <a:off x="827712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 flipH="1" flipV="1">
              <a:off x="861588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8"/>
          <p:cNvGrpSpPr/>
          <p:nvPr/>
        </p:nvGrpSpPr>
        <p:grpSpPr>
          <a:xfrm>
            <a:off x="2936520" y="1744560"/>
            <a:ext cx="3599280" cy="1633680"/>
            <a:chOff x="2936520" y="1744560"/>
            <a:chExt cx="3599280" cy="1633680"/>
          </a:xfrm>
        </p:grpSpPr>
        <p:sp>
          <p:nvSpPr>
            <p:cNvPr id="84" name="Rectangle 36"/>
            <p:cNvSpPr/>
            <p:nvPr/>
          </p:nvSpPr>
          <p:spPr>
            <a:xfrm>
              <a:off x="2936520" y="1744560"/>
              <a:ext cx="359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 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7"/>
            <p:cNvSpPr/>
            <p:nvPr/>
          </p:nvSpPr>
          <p:spPr>
            <a:xfrm>
              <a:off x="4419720" y="2362320"/>
              <a:ext cx="1096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39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54864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54864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3809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10666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54"/>
          <p:cNvGrpSpPr/>
          <p:nvPr/>
        </p:nvGrpSpPr>
        <p:grpSpPr>
          <a:xfrm>
            <a:off x="3962520" y="9067680"/>
            <a:ext cx="837720" cy="839160"/>
            <a:chOff x="3962520" y="9067680"/>
            <a:chExt cx="837720" cy="839160"/>
          </a:xfrm>
        </p:grpSpPr>
        <p:sp>
          <p:nvSpPr>
            <p:cNvPr id="92" name="Oval 55"/>
            <p:cNvSpPr/>
            <p:nvPr/>
          </p:nvSpPr>
          <p:spPr>
            <a:xfrm>
              <a:off x="3962520" y="9448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6"/>
            <p:cNvSpPr/>
            <p:nvPr/>
          </p:nvSpPr>
          <p:spPr>
            <a:xfrm>
              <a:off x="3979800" y="9506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57"/>
            <p:cNvSpPr/>
            <p:nvPr/>
          </p:nvSpPr>
          <p:spPr>
            <a:xfrm>
              <a:off x="4561200" y="9429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4201560" y="9067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V="1">
              <a:off x="416232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 flipH="1" flipV="1">
              <a:off x="450108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77"/>
          <p:cNvSpPr/>
          <p:nvPr/>
        </p:nvSpPr>
        <p:spPr>
          <a:xfrm>
            <a:off x="1447920" y="60879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4"/>
          <p:cNvGrpSpPr/>
          <p:nvPr/>
        </p:nvGrpSpPr>
        <p:grpSpPr>
          <a:xfrm>
            <a:off x="3088800" y="4183200"/>
            <a:ext cx="3701520" cy="1762920"/>
            <a:chOff x="3088800" y="4183200"/>
            <a:chExt cx="3701520" cy="1762920"/>
          </a:xfrm>
        </p:grpSpPr>
        <p:sp>
          <p:nvSpPr>
            <p:cNvPr id="100" name="Text Box 61"/>
            <p:cNvSpPr/>
            <p:nvPr/>
          </p:nvSpPr>
          <p:spPr>
            <a:xfrm>
              <a:off x="52578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66"/>
            <p:cNvGrpSpPr/>
            <p:nvPr/>
          </p:nvGrpSpPr>
          <p:grpSpPr>
            <a:xfrm>
              <a:off x="3088800" y="4183200"/>
              <a:ext cx="3701520" cy="1633320"/>
              <a:chOff x="3088800" y="4183200"/>
              <a:chExt cx="3701520" cy="1633320"/>
            </a:xfrm>
          </p:grpSpPr>
          <p:sp>
            <p:nvSpPr>
              <p:cNvPr id="102" name="Rectangle 67"/>
              <p:cNvSpPr/>
              <p:nvPr/>
            </p:nvSpPr>
            <p:spPr>
              <a:xfrm>
                <a:off x="3088800" y="4183200"/>
                <a:ext cx="3701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8"/>
              <p:cNvSpPr/>
              <p:nvPr/>
            </p:nvSpPr>
            <p:spPr>
              <a:xfrm>
                <a:off x="4572000" y="4800600"/>
                <a:ext cx="1096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69"/>
            <p:cNvSpPr/>
            <p:nvPr/>
          </p:nvSpPr>
          <p:spPr>
            <a:xfrm>
              <a:off x="39625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0"/>
            <p:cNvSpPr/>
            <p:nvPr/>
          </p:nvSpPr>
          <p:spPr>
            <a:xfrm>
              <a:off x="563868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1"/>
            <p:cNvSpPr/>
            <p:nvPr/>
          </p:nvSpPr>
          <p:spPr>
            <a:xfrm>
              <a:off x="5638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2"/>
            <p:cNvSpPr/>
            <p:nvPr/>
          </p:nvSpPr>
          <p:spPr>
            <a:xfrm>
              <a:off x="39625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76"/>
          <p:cNvSpPr/>
          <p:nvPr/>
        </p:nvSpPr>
        <p:spPr>
          <a:xfrm>
            <a:off x="52578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8"/>
          <p:cNvSpPr/>
          <p:nvPr/>
        </p:nvSpPr>
        <p:spPr>
          <a:xfrm>
            <a:off x="6248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9"/>
          <p:cNvSpPr/>
          <p:nvPr/>
        </p:nvSpPr>
        <p:spPr>
          <a:xfrm>
            <a:off x="62485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 flipV="1">
            <a:off x="5603760" y="558432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 flipV="1">
            <a:off x="5603760" y="49748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9"/>
          <p:cNvGrpSpPr/>
          <p:nvPr/>
        </p:nvGrpSpPr>
        <p:grpSpPr>
          <a:xfrm>
            <a:off x="2631960" y="1211400"/>
            <a:ext cx="3599280" cy="1762920"/>
            <a:chOff x="2631960" y="1211400"/>
            <a:chExt cx="3599280" cy="1762920"/>
          </a:xfrm>
        </p:grpSpPr>
        <p:sp>
          <p:nvSpPr>
            <p:cNvPr id="115" name="Text Box 26"/>
            <p:cNvSpPr/>
            <p:nvPr/>
          </p:nvSpPr>
          <p:spPr>
            <a:xfrm>
              <a:off x="4800600" y="24382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27"/>
            <p:cNvGrpSpPr/>
            <p:nvPr/>
          </p:nvGrpSpPr>
          <p:grpSpPr>
            <a:xfrm>
              <a:off x="2631960" y="1211400"/>
              <a:ext cx="3599280" cy="1633320"/>
              <a:chOff x="2631960" y="1211400"/>
              <a:chExt cx="3599280" cy="1633320"/>
            </a:xfrm>
          </p:grpSpPr>
          <p:sp>
            <p:nvSpPr>
              <p:cNvPr id="117" name="Rectangle 28"/>
              <p:cNvSpPr/>
              <p:nvPr/>
            </p:nvSpPr>
            <p:spPr>
              <a:xfrm>
                <a:off x="2631960" y="1211400"/>
                <a:ext cx="3599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4115160" y="1828800"/>
                <a:ext cx="1096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30"/>
            <p:cNvSpPr/>
            <p:nvPr/>
          </p:nvSpPr>
          <p:spPr>
            <a:xfrm>
              <a:off x="35053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3"/>
            <p:cNvSpPr/>
            <p:nvPr/>
          </p:nvSpPr>
          <p:spPr>
            <a:xfrm>
              <a:off x="35053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480060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54100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6"/>
            <p:cNvSpPr/>
            <p:nvPr/>
          </p:nvSpPr>
          <p:spPr>
            <a:xfrm>
              <a:off x="54100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Line 37"/>
          <p:cNvSpPr/>
          <p:nvPr/>
        </p:nvSpPr>
        <p:spPr>
          <a:xfrm flipV="1">
            <a:off x="3470040" y="20030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1447920" y="304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22096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990720" y="3124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1447920" y="3809880"/>
            <a:ext cx="609588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OW BOTH SIDES HAVE EQUAL NUMBERS OF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1371600" y="5257800"/>
            <a:ext cx="617220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Times New Roman"/>
              </a:rPr>
              <a:t>WE SAY THAT THE EQUATION IS BALANCED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8"/>
          <p:cNvGrpSpPr/>
          <p:nvPr/>
        </p:nvGrpSpPr>
        <p:grpSpPr>
          <a:xfrm>
            <a:off x="6324480" y="1523880"/>
            <a:ext cx="456840" cy="609840"/>
            <a:chOff x="6324480" y="1523880"/>
            <a:chExt cx="456840" cy="609840"/>
          </a:xfrm>
        </p:grpSpPr>
        <p:sp>
          <p:nvSpPr>
            <p:cNvPr id="131" name="Line 46"/>
            <p:cNvSpPr/>
            <p:nvPr/>
          </p:nvSpPr>
          <p:spPr>
            <a:xfrm>
              <a:off x="6324480" y="19227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7"/>
            <p:cNvSpPr/>
            <p:nvPr/>
          </p:nvSpPr>
          <p:spPr>
            <a:xfrm flipV="1">
              <a:off x="6438600" y="15238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49"/>
          <p:cNvGrpSpPr/>
          <p:nvPr/>
        </p:nvGrpSpPr>
        <p:grpSpPr>
          <a:xfrm>
            <a:off x="6324480" y="2209680"/>
            <a:ext cx="456840" cy="609840"/>
            <a:chOff x="6324480" y="2209680"/>
            <a:chExt cx="456840" cy="609840"/>
          </a:xfrm>
        </p:grpSpPr>
        <p:sp>
          <p:nvSpPr>
            <p:cNvPr id="134" name="Line 50"/>
            <p:cNvSpPr/>
            <p:nvPr/>
          </p:nvSpPr>
          <p:spPr>
            <a:xfrm>
              <a:off x="6324480" y="26085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1"/>
            <p:cNvSpPr/>
            <p:nvPr/>
          </p:nvSpPr>
          <p:spPr>
            <a:xfrm flipV="1">
              <a:off x="6438600" y="22096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52"/>
          <p:cNvSpPr/>
          <p:nvPr/>
        </p:nvSpPr>
        <p:spPr>
          <a:xfrm>
            <a:off x="29736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39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83808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y to balance these equations using the sam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66680" y="28954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43000" y="44956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 Al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43000" y="37339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 Li  + 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629400" y="1066680"/>
            <a:ext cx="837720" cy="839160"/>
            <a:chOff x="6629400" y="1066680"/>
            <a:chExt cx="837720" cy="839160"/>
          </a:xfrm>
        </p:grpSpPr>
        <p:sp>
          <p:nvSpPr>
            <p:cNvPr id="152" name="Oval 3"/>
            <p:cNvSpPr/>
            <p:nvPr/>
          </p:nvSpPr>
          <p:spPr>
            <a:xfrm>
              <a:off x="6629400" y="1447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6646680" y="1505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>
              <a:off x="7228080" y="1428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>
              <a:off x="6868440" y="1066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682920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 flipH="1" flipV="1">
              <a:off x="716796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8380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did you get 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066680" y="2666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66680" y="40384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66680" y="3352680"/>
            <a:ext cx="746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808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Here are the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362320" y="4800600"/>
            <a:ext cx="472428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67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762120" y="1287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9144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8080" y="281952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b]    Cl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-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914400" y="35812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c]    H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838080" y="4495680"/>
            <a:ext cx="373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d]    Br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Br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80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685800" y="1066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to balance the charges on each side of the 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2860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133720" y="34290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b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209680" y="40384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c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33720" y="4876920"/>
            <a:ext cx="373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7772400" y="1981080"/>
            <a:ext cx="837720" cy="839160"/>
            <a:chOff x="7772400" y="1981080"/>
            <a:chExt cx="837720" cy="839160"/>
          </a:xfrm>
        </p:grpSpPr>
        <p:sp>
          <p:nvSpPr>
            <p:cNvPr id="193" name="Oval 3"/>
            <p:cNvSpPr/>
            <p:nvPr/>
          </p:nvSpPr>
          <p:spPr>
            <a:xfrm>
              <a:off x="7772400" y="23619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7789680" y="24195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>
              <a:off x="8371080" y="23432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>
              <a:off x="8011440" y="19810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797220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H="1" flipV="1">
              <a:off x="831096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5"/>
          <p:cNvSpPr/>
          <p:nvPr/>
        </p:nvSpPr>
        <p:spPr>
          <a:xfrm>
            <a:off x="1828800" y="167652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Hope that makes things a bit clearer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ust remember it’s all abou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62320" y="4797360"/>
            <a:ext cx="4572000" cy="1454400"/>
            <a:chOff x="2362320" y="4797360"/>
            <a:chExt cx="4572000" cy="1454400"/>
          </a:xfrm>
        </p:grpSpPr>
        <p:sp>
          <p:nvSpPr>
            <p:cNvPr id="201" name="AutoShape 16"/>
            <p:cNvSpPr/>
            <p:nvPr/>
          </p:nvSpPr>
          <p:spPr>
            <a:xfrm rot="8149200">
              <a:off x="4038480" y="5029200"/>
              <a:ext cx="1067040" cy="9907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2362320" y="4800600"/>
              <a:ext cx="4572000" cy="0"/>
            </a:xfrm>
            <a:prstGeom prst="line">
              <a:avLst/>
            </a:prstGeom>
            <a:ln w="181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AutoShape 18"/>
          <p:cNvSpPr/>
          <p:nvPr/>
        </p:nvSpPr>
        <p:spPr>
          <a:xfrm>
            <a:off x="2514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943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8:00:47Z</dcterms:created>
  <dc:creator>Glyn Crees</dc:creator>
  <dc:description/>
  <dc:language>en-US</dc:language>
  <cp:lastModifiedBy>LEGION</cp:lastModifiedBy>
  <dcterms:modified xsi:type="dcterms:W3CDTF">2017-01-26T09:38:51Z</dcterms:modified>
  <cp:revision>5</cp:revision>
  <dc:subject/>
  <dc:title>Balancing Chemical Equations </dc:title>
</cp:coreProperties>
</file>