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I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963EA-3039-4297-ABBC-F1AB219F7540}" type="slidenum">
              <a:rPr b="0" lang="en-I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ctants  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 + O2 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 + O2 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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 + O2 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 + O2 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Oxidising and Reduc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can be defined (in terms of electon transfer) as the loss of electrons from a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can be defined as the gain of electrons by a spec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idising agent (or electron acceptor) must itself be redu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ducing agent (or electron donor) must itself be oxidis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fining Oxidising and Reducing ag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 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can be defined (in terms of electon transfer) as the loss of electrons from a spec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can be defined as the gain of electrons by a speci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 oxidising agent (or electron acceptor) must itself be redu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reducing agent (or electron donor) must itself be oxidised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ing Oxidising and Reducing Ag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a(s) + O2(g)  2CaO(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 and O2 (reactants): neutral a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lcium oxide (product): ionic compou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2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a   2Ca2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2            2O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ere, calcium is oxidised; i.e. it loses electrons to oxyg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reduces the oxyg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acts as a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ygen is reduced; i.e. it gains electrons from calc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oxidises the calciu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acts as an oxidis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Oxidising and Reduc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a(s) + O2(g)  2Ca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and O2 (reactants): neutral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oxide (product): ionic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a   2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           2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calcium is oxidised; i.e. it loses electrons to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educes th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cts as a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reduced; i.e. it gains electrons from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xidises the calci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cts as an oxidis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 increases O.N. from +2 to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 is reduced; acts as oxidis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 decreases O.N. from +2 to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 is oxidised; acts as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 increases O.N. from +2 to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 is reduced; acts as oxidis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decreases O.N. from +2 to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is oxidised; acts as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4Fe +3O2  2Fe2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Fe  Fe3+ + 3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2 + 4e-  2O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2 : oxidising agent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Si + 2F2  SiF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Si  Si4+ 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2 + 2e-  2F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2 : oxidising agent    Si 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Cl2 + 2NaBr  2NaCl + Br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2Br--  Br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l2 + 2e-  2Cl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l2 : oxidising agent    Br - 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4Fe +3O2  2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Fe  Fe3+ + 3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2 + 4e-  2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2 : oxidising agent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Si + 2F2  Si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Si  Si4+ 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2 + 2e-  2F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2 : oxidising agent    Si 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Cl2 + 2NaBr  2NaCl + B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2Br--  Br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l2 + 2e-  2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l2 : oxidising agent    Br - 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redox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showing the oxidation of Fe2+ ions to Fe3+ ions by dichromate ions (Cr2O72-) in an acidic med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2O72- : 2Cr + 7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3+ :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3+ :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ron loses one electron, i.e. it is oxidised.  It donates one electron to dichromate, i.e. it is the reducing ag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26+ 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romium gains three electrons, i.e. it is reduced.  It gains its electrons from iron, i.e. it is the oxidising ag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: 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: Cr26+ + 3e- 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redox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showing the oxidation of Fe2+ ions to Fe3+ ions by dichromate ions (Cr2O72-) in an acidic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2O72- : 2Cr + 7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3+ :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3+ :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loses one electron, i.e. it is oxidised.  It donates one electron to dichromate, i.e. it is the reducing ag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26+ 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 gains three electrons, i.e. it is reduced.  It gains its electrons from iron, i.e. it is the oxidising ag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: 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: Cr26+ + 3e- 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2O72- + 3e-  2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xygen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2O72- + 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2O72- + 3e-  2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xygen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2O72- + 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Fe2+  6Fe3+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Fe2+ + 6e-  2Cr3+ + 7H2O + 6Fe3+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Fe2+  2Cr3+ +7H2O + 6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6Fe2+  6Fe3+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Fe2+ + 6e-  2Cr3+ + 7H2O + 6Fe3+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Fe2+  2Cr3+ +7H2O + 6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Balance the O atoms (using H2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Balance the H atoms (using H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3: Balance the O atoms (using H2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4: Balance the H atoms (using H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 Mn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5 electrons. It acts as the oxidising agent as it is re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5e- Mn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 Mn2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5 electrons. It acts as the oxidising agent as it is redu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5e- Mn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 atoms by add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 atoms by add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 + O2 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+ O2 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Fe2+  5Fe3+ + 5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Fe2+ + 5e-  Mn2+ + 5Fe3+ + 4H2O + 5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Fe2+  Mn2+ + 5Fe3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5Fe2+  5Fe3+ + 5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Fe2+ + 5e-  Mn2+ + 5Fe3+ + 4H2O + 5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Fe2+  Mn2+ + 5Fe3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: Mn +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5 electrons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: S + 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42-: S + 4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 loses 2 electrons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: Mn +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5 electrons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: S + 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42-: S + 4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 loses 2 electrons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SO2  SO42-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SO2  SO42-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SO2  SO42- + 2e- + 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H+ + 2MnO4- + 10e-  2Mn2+ + 8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H2O + 5SO2  5SO42- + 10e- + 20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H+ + 2MnO4- + 10H2O + 5SO2  2Mn2+ + 8H2O + 5SO42- + 20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nO4- + 2H2O + 5SO2  2Mn2+ + 5SO42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SO2  SO42- + 2e- + 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H+ + 2MnO4- + 10e-  2Mn2+ + 8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H2O + 5SO2  5SO42- + 10e- + 20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H+ + 2MnO4- + 10H2O + 5SO2  2Mn2+ + 8H2O + 5SO42- + 20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MnO4- + 2H2O + 5SO2  2Mn2+ + 5SO42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a) I- + SO42-  I2 +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6I- + 8H+ + SO42-  3I2 + S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) MnO4- + H2C2O4  Mn2+ +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MnO4- + 5H2C2O4 + 6H+  2Mn2+ + 10CO2 + 8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c) ClO3- + Cl-  Cl2 + Cl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Cl- + 2ClO3- + 4H+  Cl2 + 2Cl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I- + SO42-  I2 + 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6I- + 8H+ + SO42-  3I2 + S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MnO4- + H2C2O4  Mn2+ + C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MnO4- + 5H2C2O4 + 6H+  2Mn2+ + 10CO2 + 8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ClO3- + Cl-  Cl2 + Cl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Cl- + 2ClO3- + 4H+  Cl2 + 2Cl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as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-) by permanganate ion (MnO4-) in basic solution to yield molecular iodine (I2) and manganese (IV) oxide (MnO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 I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N. of I- is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N of I2 is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loses an electron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 I2 + 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: Mn + 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2 : Mn + 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3 electrons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equation:                 I- + MnO4-               I2 +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basic 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-) by permanganate ion (MnO4-) in basic solution to yield molecular iodine (I2) and manganese (IV) oxide (MnO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 I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.N. of I- is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.N of I2 is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loses an electron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 I2 + 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: Mn + 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2 : Mn + 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3 electrons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keletal equation:                 I- + MnO4-               I2 +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3e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H+ + MnO4- + 3e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3e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4H+ + MnO4- + 3e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+ ion we add an equal number of OH- ions to both sides of the equation.  Where H+ and OH- ions appear on the same side of the equation, they may be combined to form H2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+ + 4OH- + MnO4- + 3e-  MnO2 + 2H2O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2O + MnO4- + 3e-  MnO2 + 2H2O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+ ion we add an equal number of OH- ions to both sides of the equation.  Where H+ and OH- ions appear on the same side of the equation, they may be combined to form H2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+ + 4OH- + MnO4- + 3e-  MnO2 + 2H2O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2O + MnO4- + 3e-  MnO2 + 2H2O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I-  3I2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2O + 2MnO4- + 6e-  2MnO2 + 8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nO4- + 6I- + 4H2O  2MnO2 + 3I2 + 8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I-  3I2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2O + 2MnO4- + 6e-  2MnO2 + 8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MnO4- + 6I- + 4H2O  2MnO2 + 3I2 + 8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+ H2O2  MnO2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2: Mn +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loses two electrons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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: 2(+1) + 2O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: 2(+1) + O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gains one electron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+ H2O2  MnO2 +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2: Mn +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loses two electrons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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: 2(+1) + 2O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: 2(+1) + O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gains one electron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 (liqui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(s) + H2O(l)  NaOH(aq) + H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(liqu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(s) + H2O(l)  NaOH(aq) + H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 MnO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the H atoms by using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 MnO2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+ + H2O2 + e- 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For each H+ ion, add equal no. of OH- to both sides o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+ 4OH-  MnO2 + 2e- + 4H+ 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+ 4OH-  MnO2 + 2e-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 MnO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the H atoms by using 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 MnO2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+ + H2O2 + e- 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For each H+ ion, add equal no. of OH- to both sides of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+ 4OH-  MnO2 + 2e- + 4H+ 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+ 4OH-  MnO2 + 2e-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+ + 2OH- + H2O2 + e-  2H2O +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H2O2 + e-  2H2O +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H2O2 + 2OH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+ + 2OH- + H2O2 + e-  2H2O +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H2O2 + e-  2H2O +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H2O2 + 2OH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a) Fe(OH)2 + MnO4-  MnO2 + Fe(OH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3Fe(OH)2 + MnO4- + 2H2O  MnO2 + 3Fe(OH)3 +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) Bi(OH)3 + SnO22-  SnO32- + 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Bi(OH)3 + 3SnO22-  2Bi + 3H2O + 3SnO3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Fe(OH)2 + MnO4-  MnO2 + Fe(OH)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3Fe(OH)2 + MnO4- + 2H2O  MnO2 + 3Fe(OH)3 + 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Bi(OH)3 + SnO22-  SnO32- + B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Bi(OH)3 + 3SnO22-  2Bi + 3H2O + 3SnO3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 + 2H2O  2NaOH + H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Na + 2H2O  2NaOH + H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Na(s) + 2H2O(l)  2NaOH(aq) + H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 + 2H2O  2NaOH + 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Na + 2H2O  2NaOH + 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Na(s) + 2H2O(l)  2NaOH(aq) + H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P2O5(s) + H2O(l)  H3PO4(aq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P2O5(s) + 3H2O(l)  2H3PO4(aq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NO2(g) + H2(g)  NH3(g) + H2O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NO2(g) + 3 ½ H2(g)  NH3(g) + 2H2O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SO2(g) + O2(g)  SO3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SO2(g) + O2(g)  2SO3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P2O5(s) + H2O(l)  H3PO4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P2O5(s) + 3H2O(l)  2H3PO4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NO2(g) + H2(g)  NH3(g) +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NO2(g) + 3 ½ H2(g)  NH3(g) + 2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SO2(g) + O2(g)  SO3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2SO2(g) + O2(g)  2SO3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redox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numb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  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never oxidation occurs, reduction must also occ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redox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 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ever oxidation occurs, reduction must also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ules for assigning oxidation numbers (O.N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    Li+ has O.N. of +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+3 has O.N. of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: when they are bonded to a more electonegative el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s: H2O2 and peroxide ion, O2-2 (O.N. of -1), and the compound OF2 (O.N. +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: when bonded to a less electronegative element, i.e. a metal, where it’s O.N. is -1, e.g. LiH, Na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assigning oxidation numbers (O.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    Li+ has O.N. of +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+3 has O.N. of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: when they are bonded to a more electonegativ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: H2O2 and peroxide ion, O2-2 (O.N. of -1), and the compound OF2 (O.N. 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: when bonded to a less electronegative element, i.e. a metal, where it’s O.N. is -1, e.g. LiH, 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Li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Lithium: Group 1 element   Oxidation number +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HN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NO3 is neutr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 N = +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Cr2O7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 here the sum equals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Li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Lithium: Group 1 element   Oxidation number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NO3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 N = +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Cr2O7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 here the sum equals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a) ZnCl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b) S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) MnO4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Zn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MnO4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EB7-F2E4-4093-9BE5-EECF9AEE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040-C314-4458-B309-A2EC3BA8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62A1-C323-4CFD-B0FB-F13FC7F2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31B-B533-4BD3-852E-96A8BDA5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BC8-D171-421F-A839-A6B6542D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884-17A8-42D3-B053-DF37F63B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C91E-CB28-4CAF-B2BF-84906404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587F-535F-4B79-8B2C-DAD54F84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DAFC-7AB7-4F62-9D33-31050047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150-2C4B-4771-9D9F-ED92F3F4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030-107E-48D6-ABB0-8CA2E375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6B3B-056F-4EF5-970D-A1E769F5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92D6-21CD-4359-BF27-E9DFE7D6ACC6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723C-1C9C-4762-9107-D9E06F1B5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00"/>
                </a:solidFill>
                <a:latin typeface="Arial Rounded MT Bold"/>
              </a:rPr>
              <a:t>Balancing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765000"/>
            <a:ext cx="8317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6000" y="1587600"/>
            <a:ext cx="89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836720" y="242100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actants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8000" y="293040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50920" y="3433680"/>
            <a:ext cx="24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276720" y="3433680"/>
            <a:ext cx="287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0" y="4086360"/>
            <a:ext cx="9144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6242040"/>
            <a:ext cx="230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Defining Oxidising and Reduc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IL </a:t>
            </a: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R</a:t>
            </a:r>
            <a:r>
              <a:rPr b="0" lang="en-IE" sz="2400" spc="-1" strike="noStrike">
                <a:solidFill>
                  <a:srgbClr val="660066"/>
                </a:solidFill>
                <a:latin typeface="Arial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Oxidatio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can be defined (in terms of electon transfer) as the </a:t>
            </a:r>
            <a:r>
              <a:rPr b="0" i="1" lang="en-IE" sz="2400" spc="-1" strike="noStrike">
                <a:solidFill>
                  <a:srgbClr val="0000ff"/>
                </a:solidFill>
                <a:latin typeface="Arial"/>
              </a:rPr>
              <a:t>loss of electron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from a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Reductio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can be defined as the </a:t>
            </a:r>
            <a:r>
              <a:rPr b="0" i="1" lang="en-IE" sz="2400" spc="-1" strike="noStrike">
                <a:solidFill>
                  <a:srgbClr val="660066"/>
                </a:solidFill>
                <a:latin typeface="Arial"/>
              </a:rPr>
              <a:t>gain of electron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by a spe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oxidising ag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IE" sz="2400" spc="-1" strike="noStrike">
                <a:solidFill>
                  <a:srgbClr val="660066"/>
                </a:solidFill>
                <a:latin typeface="Arial"/>
              </a:rPr>
              <a:t>electron accepto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 must itself be </a:t>
            </a:r>
            <a:r>
              <a:rPr b="0" i="1" lang="en-IE" sz="2400" spc="-1" strike="noStrike">
                <a:solidFill>
                  <a:srgbClr val="660066"/>
                </a:solidFill>
                <a:latin typeface="Arial"/>
              </a:rPr>
              <a:t>reduc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reducing ag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electron dono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 must itself be </a:t>
            </a:r>
            <a:r>
              <a:rPr b="0" i="1" lang="en-IE" sz="2400" spc="-1" strike="noStrike">
                <a:solidFill>
                  <a:srgbClr val="0000ff"/>
                </a:solidFill>
                <a:latin typeface="Arial"/>
              </a:rPr>
              <a:t>oxidis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9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4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Identifying Oxidising and Reduc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560" y="475920"/>
            <a:ext cx="1738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68360" y="692280"/>
            <a:ext cx="44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843280" y="1125360"/>
            <a:ext cx="33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71640" y="1550880"/>
            <a:ext cx="705636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 and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(reactant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neutral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lcium oxid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(product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ionic comp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692360" y="2784600"/>
            <a:ext cx="56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132000" y="321804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3205080" y="3649680"/>
            <a:ext cx="2303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898560" y="414972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ere, calcium is </a:t>
            </a: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i.e. it 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loses electron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1187280" y="4581360"/>
            <a:ext cx="29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IE" sz="2200" spc="-1" strike="noStrike">
                <a:solidFill>
                  <a:srgbClr val="0000ff"/>
                </a:solidFill>
                <a:latin typeface="Arial"/>
              </a:rPr>
              <a:t>reduc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he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356000" y="4586400"/>
            <a:ext cx="42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acts as a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1187280" y="5378400"/>
            <a:ext cx="69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 is </a:t>
            </a: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i.e. it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gains electron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rom calc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1187280" y="581040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IE" sz="2200" spc="-1" strike="noStrike">
                <a:solidFill>
                  <a:srgbClr val="660066"/>
                </a:solidFill>
                <a:latin typeface="Arial"/>
              </a:rPr>
              <a:t>oxidi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he calcium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356000" y="5810400"/>
            <a:ext cx="42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acts as an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oxidis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5002920" y="3216960"/>
            <a:ext cx="78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3634560" y="3643920"/>
            <a:ext cx="78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-36360" y="4508640"/>
            <a:ext cx="7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-36360" y="5589720"/>
            <a:ext cx="7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1"/>
          <p:cNvSpPr/>
          <p:nvPr/>
        </p:nvSpPr>
        <p:spPr>
          <a:xfrm>
            <a:off x="34920" y="18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268360" y="981000"/>
            <a:ext cx="403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b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08000" y="549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 flipV="1">
            <a:off x="2195640" y="25603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8"/>
          <p:cNvSpPr/>
          <p:nvPr/>
        </p:nvSpPr>
        <p:spPr>
          <a:xfrm flipV="1">
            <a:off x="2627280" y="25603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9"/>
          <p:cNvSpPr/>
          <p:nvPr/>
        </p:nvSpPr>
        <p:spPr>
          <a:xfrm flipV="1">
            <a:off x="3780000" y="2560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0"/>
          <p:cNvSpPr/>
          <p:nvPr/>
        </p:nvSpPr>
        <p:spPr>
          <a:xfrm flipH="1" flipV="1">
            <a:off x="3995640" y="256032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1"/>
          <p:cNvSpPr/>
          <p:nvPr/>
        </p:nvSpPr>
        <p:spPr>
          <a:xfrm flipV="1">
            <a:off x="5003640" y="2560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2"/>
          <p:cNvSpPr/>
          <p:nvPr/>
        </p:nvSpPr>
        <p:spPr>
          <a:xfrm flipV="1">
            <a:off x="5580000" y="256032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 flipH="1" flipV="1">
            <a:off x="6013440" y="25603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1763640" y="291924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268360" y="2919240"/>
            <a:ext cx="57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3421080" y="2919240"/>
            <a:ext cx="57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3995640" y="291924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4861080" y="291924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9"/>
          <p:cNvSpPr/>
          <p:nvPr/>
        </p:nvSpPr>
        <p:spPr>
          <a:xfrm>
            <a:off x="5221440" y="291924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6012000" y="29192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4068720" y="4297320"/>
            <a:ext cx="41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 </a:t>
            </a:r>
            <a:r>
              <a:rPr b="0" i="1" lang="en-IE" sz="2200" spc="-1" strike="noStrike">
                <a:solidFill>
                  <a:srgbClr val="660066"/>
                </a:solidFill>
                <a:latin typeface="Arial"/>
              </a:rPr>
              <a:t>increa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.N. from +2 to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067280" y="4873680"/>
            <a:ext cx="547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 is </a:t>
            </a: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acts as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oxidis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5"/>
          <p:cNvSpPr/>
          <p:nvPr/>
        </p:nvSpPr>
        <p:spPr>
          <a:xfrm>
            <a:off x="4033800" y="5661000"/>
            <a:ext cx="42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IE" sz="2200" spc="-1" strike="noStrike">
                <a:solidFill>
                  <a:srgbClr val="0000ff"/>
                </a:solidFill>
                <a:latin typeface="Arial"/>
              </a:rPr>
              <a:t>decrea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.N. from +2 to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4068720" y="6242040"/>
            <a:ext cx="50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O is </a:t>
            </a: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acts as 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9"/>
          <p:cNvSpPr/>
          <p:nvPr/>
        </p:nvSpPr>
        <p:spPr>
          <a:xfrm>
            <a:off x="108000" y="155736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2413080" y="2060640"/>
            <a:ext cx="40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b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-179280" y="3578400"/>
            <a:ext cx="39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7"/>
          <p:cNvGrpSpPr/>
          <p:nvPr/>
        </p:nvGrpSpPr>
        <p:grpSpPr>
          <a:xfrm>
            <a:off x="427680" y="4369320"/>
            <a:ext cx="2830680" cy="429120"/>
            <a:chOff x="427680" y="4369320"/>
            <a:chExt cx="2830680" cy="429120"/>
          </a:xfrm>
        </p:grpSpPr>
        <p:sp>
          <p:nvSpPr>
            <p:cNvPr id="223" name="Rectangle 42"/>
            <p:cNvSpPr/>
            <p:nvPr/>
          </p:nvSpPr>
          <p:spPr>
            <a:xfrm>
              <a:off x="427680" y="4369320"/>
              <a:ext cx="283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+ 2e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         Pb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4"/>
            <p:cNvSpPr/>
            <p:nvPr/>
          </p:nvSpPr>
          <p:spPr>
            <a:xfrm>
              <a:off x="2014560" y="458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46"/>
          <p:cNvGrpSpPr/>
          <p:nvPr/>
        </p:nvGrpSpPr>
        <p:grpSpPr>
          <a:xfrm>
            <a:off x="444240" y="5664600"/>
            <a:ext cx="2655720" cy="429120"/>
            <a:chOff x="444240" y="5664600"/>
            <a:chExt cx="2655720" cy="429120"/>
          </a:xfrm>
        </p:grpSpPr>
        <p:sp>
          <p:nvSpPr>
            <p:cNvPr id="226" name="Rectangle 43"/>
            <p:cNvSpPr/>
            <p:nvPr/>
          </p:nvSpPr>
          <p:spPr>
            <a:xfrm>
              <a:off x="444240" y="5664600"/>
              <a:ext cx="2655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           C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4  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+ 2e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5"/>
            <p:cNvSpPr/>
            <p:nvPr/>
          </p:nvSpPr>
          <p:spPr>
            <a:xfrm>
              <a:off x="1170000" y="587664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48"/>
          <p:cNvSpPr/>
          <p:nvPr/>
        </p:nvSpPr>
        <p:spPr>
          <a:xfrm>
            <a:off x="4067280" y="3500280"/>
            <a:ext cx="532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9"/>
          <p:cNvSpPr/>
          <p:nvPr/>
        </p:nvSpPr>
        <p:spPr>
          <a:xfrm>
            <a:off x="3635280" y="342900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0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360" y="43920"/>
            <a:ext cx="17380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r>
              <a:rPr b="0" lang="en-IE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9280" y="4941720"/>
            <a:ext cx="331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4Fe +3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Fe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979640" y="5438880"/>
            <a:ext cx="6696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Fe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79280" y="2997360"/>
            <a:ext cx="28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Si + 2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i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052720" y="3429000"/>
            <a:ext cx="655164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Si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Si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F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   Si 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9280" y="1268280"/>
            <a:ext cx="424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NaBr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Cl + B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979640" y="1700280"/>
            <a:ext cx="6804000" cy="13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2Br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   Br 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55548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Balancing redox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36360" y="333000"/>
            <a:ext cx="145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-36360" y="722160"/>
            <a:ext cx="91803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showing the oxidation of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to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by dichromate ions (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in an acidic me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2554200" y="1488960"/>
            <a:ext cx="38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-36360" y="1916280"/>
            <a:ext cx="89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971640" y="242100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3781440" y="2486160"/>
            <a:ext cx="453564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2Cr + 7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969840" y="2852640"/>
            <a:ext cx="144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971640" y="328464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3203640" y="3649680"/>
            <a:ext cx="187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ron loses one electron, i.e. it is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  It donates one electron to dichromate, i.e. it is th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ing agent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059280" y="5259240"/>
            <a:ext cx="208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6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0" y="5619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romium gains three electrons, i.e. it is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  It gains its electrons from iron, i.e. it is th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ising ag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1835280" y="4802040"/>
            <a:ext cx="59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idation reaction: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763640" y="6386400"/>
            <a:ext cx="583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uction reaction: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6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179280" y="4797360"/>
            <a:ext cx="129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179280" y="6453360"/>
            <a:ext cx="129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108360" y="836640"/>
            <a:ext cx="6994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61920" y="1153800"/>
            <a:ext cx="23860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4284720" y="1197000"/>
            <a:ext cx="3240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0" y="1619280"/>
            <a:ext cx="63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xygen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971640" y="2190600"/>
            <a:ext cx="24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284720" y="2190600"/>
            <a:ext cx="475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7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0" y="2771640"/>
            <a:ext cx="55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971640" y="334800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851280" y="3343320"/>
            <a:ext cx="504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36360" y="3919680"/>
            <a:ext cx="87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971640" y="4422600"/>
            <a:ext cx="25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3851280" y="442764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 rot="16200000">
            <a:off x="5040000" y="404640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 rot="16200000">
            <a:off x="7524000" y="422028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4716360" y="53071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7380360" y="530712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324000" y="5576760"/>
            <a:ext cx="82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468360" y="6153120"/>
            <a:ext cx="31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3635280" y="6157800"/>
            <a:ext cx="496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2484360" y="189000"/>
            <a:ext cx="38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4"/>
          <p:cNvSpPr/>
          <p:nvPr/>
        </p:nvSpPr>
        <p:spPr>
          <a:xfrm>
            <a:off x="406728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5"/>
          <p:cNvSpPr/>
          <p:nvPr/>
        </p:nvSpPr>
        <p:spPr>
          <a:xfrm>
            <a:off x="507672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6"/>
          <p:cNvSpPr/>
          <p:nvPr/>
        </p:nvSpPr>
        <p:spPr>
          <a:xfrm>
            <a:off x="594036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7"/>
          <p:cNvSpPr/>
          <p:nvPr/>
        </p:nvSpPr>
        <p:spPr>
          <a:xfrm>
            <a:off x="687708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8"/>
          <p:cNvSpPr/>
          <p:nvPr/>
        </p:nvSpPr>
        <p:spPr>
          <a:xfrm>
            <a:off x="8028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0"/>
          <p:cNvSpPr/>
          <p:nvPr/>
        </p:nvSpPr>
        <p:spPr>
          <a:xfrm rot="16200000">
            <a:off x="2520000" y="447264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1"/>
          <p:cNvSpPr/>
          <p:nvPr/>
        </p:nvSpPr>
        <p:spPr>
          <a:xfrm rot="16200000">
            <a:off x="1295280" y="4832280"/>
            <a:ext cx="144720" cy="6494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2"/>
          <p:cNvSpPr/>
          <p:nvPr/>
        </p:nvSpPr>
        <p:spPr>
          <a:xfrm>
            <a:off x="277164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3"/>
          <p:cNvSpPr/>
          <p:nvPr/>
        </p:nvSpPr>
        <p:spPr>
          <a:xfrm>
            <a:off x="2124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4"/>
          <p:cNvSpPr/>
          <p:nvPr/>
        </p:nvSpPr>
        <p:spPr>
          <a:xfrm>
            <a:off x="1116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5"/>
          <p:cNvSpPr/>
          <p:nvPr/>
        </p:nvSpPr>
        <p:spPr>
          <a:xfrm>
            <a:off x="900000" y="530064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2124000" y="53071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0268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14640" y="1023840"/>
            <a:ext cx="2386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187280" y="1562040"/>
            <a:ext cx="619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7164360" y="10573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7093080" y="155736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203640" y="249696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403280" y="3002040"/>
            <a:ext cx="583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1403280" y="350028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539640" y="3578400"/>
            <a:ext cx="820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403280" y="4514760"/>
            <a:ext cx="619308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5364000" y="4946760"/>
            <a:ext cx="32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108000" y="5810400"/>
            <a:ext cx="87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0" y="217296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3: Balance the O atoms (using H</a:t>
            </a:r>
            <a:r>
              <a:rPr b="0" lang="en-I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4: Balance the H atoms (using H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-252360" y="-27000"/>
            <a:ext cx="1954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476280"/>
            <a:ext cx="9144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for the redox reaction of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ith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e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an acidic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108000" y="148608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Proced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252360" y="-27360"/>
            <a:ext cx="1954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for the redox reaction of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ith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e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an acidic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-252360" y="1125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73080" y="148428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2844720" y="2281320"/>
            <a:ext cx="287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258920" y="2816280"/>
            <a:ext cx="28796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44360" y="3649680"/>
            <a:ext cx="896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5 electrons. It acts as the oxidising agent as it is redu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4498920" y="300204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1835280" y="4081320"/>
            <a:ext cx="547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2916360" y="4724280"/>
            <a:ext cx="28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468360" y="5157720"/>
            <a:ext cx="86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1476360" y="5805360"/>
            <a:ext cx="62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06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8000" y="475920"/>
            <a:ext cx="289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08000" y="981000"/>
            <a:ext cx="604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 atoms by add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58760" y="1743120"/>
            <a:ext cx="7365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195640" y="1417680"/>
            <a:ext cx="511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2843280" y="184464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-179280" y="2349360"/>
            <a:ext cx="59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2411280" y="2781360"/>
            <a:ext cx="46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3203640" y="3213000"/>
            <a:ext cx="29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4920" y="371628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3060720" y="4149720"/>
            <a:ext cx="32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2484360" y="5013360"/>
            <a:ext cx="446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4"/>
          <p:cNvSpPr/>
          <p:nvPr/>
        </p:nvSpPr>
        <p:spPr>
          <a:xfrm rot="16200000">
            <a:off x="3528000" y="4401360"/>
            <a:ext cx="216000" cy="21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5"/>
          <p:cNvSpPr/>
          <p:nvPr/>
        </p:nvSpPr>
        <p:spPr>
          <a:xfrm rot="16200000">
            <a:off x="5796000" y="465264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800"/>
                </a:lnTo>
                <a:cubicBezTo>
                  <a:pt x="10800" y="10700"/>
                  <a:pt x="5400" y="11600"/>
                  <a:pt x="0" y="11600"/>
                </a:cubicBezTo>
                <a:cubicBezTo>
                  <a:pt x="5400" y="11600"/>
                  <a:pt x="10800" y="12500"/>
                  <a:pt x="10800" y="13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6"/>
          <p:cNvSpPr/>
          <p:nvPr/>
        </p:nvSpPr>
        <p:spPr>
          <a:xfrm rot="16200000">
            <a:off x="3889440" y="4184280"/>
            <a:ext cx="142920" cy="64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7"/>
          <p:cNvSpPr/>
          <p:nvPr/>
        </p:nvSpPr>
        <p:spPr>
          <a:xfrm rot="16200000">
            <a:off x="5039280" y="4040640"/>
            <a:ext cx="216000" cy="100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3276720" y="551664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5724360" y="5516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0"/>
          <p:cNvSpPr/>
          <p:nvPr/>
        </p:nvSpPr>
        <p:spPr>
          <a:xfrm>
            <a:off x="3635280" y="450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4716360" y="4545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2"/>
          <p:cNvSpPr/>
          <p:nvPr/>
        </p:nvSpPr>
        <p:spPr>
          <a:xfrm>
            <a:off x="322200" y="5805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533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73440" y="1125360"/>
            <a:ext cx="2590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651640" y="11304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6360" y="1844640"/>
            <a:ext cx="35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0" y="220500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0" y="470844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0" y="59072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121200" y="907560"/>
            <a:ext cx="2458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5724360" y="907920"/>
            <a:ext cx="11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474920" y="1488960"/>
            <a:ext cx="453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6659640" y="9144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6732720" y="141300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3059280" y="234936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547640" y="2852640"/>
            <a:ext cx="439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1187280" y="328464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395280" y="3357720"/>
            <a:ext cx="734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1116000" y="4076640"/>
            <a:ext cx="590400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55640" y="5229360"/>
            <a:ext cx="838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539640" y="558972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4932360" y="458136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4"/>
          <p:cNvSpPr/>
          <p:nvPr/>
        </p:nvSpPr>
        <p:spPr>
          <a:xfrm>
            <a:off x="5724360" y="907920"/>
            <a:ext cx="11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4560" y="404280"/>
            <a:ext cx="88930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-108000" y="-27360"/>
            <a:ext cx="1811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122560" y="765000"/>
            <a:ext cx="432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-179280" y="11970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1258920" y="1628640"/>
            <a:ext cx="309564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5364000" y="19890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44360" y="2857680"/>
            <a:ext cx="882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5 electrons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1330200" y="3357720"/>
            <a:ext cx="6266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5"/>
          <p:cNvSpPr/>
          <p:nvPr/>
        </p:nvSpPr>
        <p:spPr>
          <a:xfrm>
            <a:off x="826920" y="4102200"/>
            <a:ext cx="352908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S + 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4500720" y="4102200"/>
            <a:ext cx="30240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S + 4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50920" y="5450040"/>
            <a:ext cx="8642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2 electrons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826920" y="6021360"/>
            <a:ext cx="748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360" y="4759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867280" y="1036800"/>
            <a:ext cx="30355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0" y="1773360"/>
            <a:ext cx="52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1546200" y="2276640"/>
            <a:ext cx="5257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124000" y="2708280"/>
            <a:ext cx="396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73080" y="3284640"/>
            <a:ext cx="54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1763640" y="3716280"/>
            <a:ext cx="496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1835280" y="4221000"/>
            <a:ext cx="475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-36360" y="4653000"/>
            <a:ext cx="87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1619280" y="5079960"/>
            <a:ext cx="518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/>
          <p:cNvSpPr/>
          <p:nvPr/>
        </p:nvSpPr>
        <p:spPr>
          <a:xfrm rot="16200000">
            <a:off x="2987640" y="4974840"/>
            <a:ext cx="360360" cy="2087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03"/>
                </a:lnTo>
                <a:cubicBezTo>
                  <a:pt x="10800" y="10203"/>
                  <a:pt x="5400" y="11103"/>
                  <a:pt x="0" y="11103"/>
                </a:cubicBezTo>
                <a:cubicBezTo>
                  <a:pt x="5400" y="11103"/>
                  <a:pt x="10800" y="12003"/>
                  <a:pt x="10800" y="129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3"/>
          <p:cNvSpPr/>
          <p:nvPr/>
        </p:nvSpPr>
        <p:spPr>
          <a:xfrm rot="16200000">
            <a:off x="5399640" y="5226480"/>
            <a:ext cx="289080" cy="1512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03"/>
                </a:lnTo>
                <a:cubicBezTo>
                  <a:pt x="10800" y="10203"/>
                  <a:pt x="5400" y="11103"/>
                  <a:pt x="0" y="11103"/>
                </a:cubicBezTo>
                <a:cubicBezTo>
                  <a:pt x="5400" y="11103"/>
                  <a:pt x="10800" y="12003"/>
                  <a:pt x="10800" y="129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2771640" y="61279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5219640" y="60548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539640" y="645804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2700360" y="115920"/>
            <a:ext cx="432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1478160" y="965160"/>
            <a:ext cx="2923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1681560" y="1397160"/>
            <a:ext cx="23742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1"/>
          <p:cNvSpPr/>
          <p:nvPr/>
        </p:nvSpPr>
        <p:spPr>
          <a:xfrm>
            <a:off x="3780000" y="551664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2"/>
          <p:cNvSpPr/>
          <p:nvPr/>
        </p:nvSpPr>
        <p:spPr>
          <a:xfrm>
            <a:off x="471636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3"/>
          <p:cNvSpPr/>
          <p:nvPr/>
        </p:nvSpPr>
        <p:spPr>
          <a:xfrm>
            <a:off x="572436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2916360" y="551664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5"/>
          <p:cNvSpPr/>
          <p:nvPr/>
        </p:nvSpPr>
        <p:spPr>
          <a:xfrm>
            <a:off x="205092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95280" y="-27360"/>
            <a:ext cx="511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336480" y="1125000"/>
            <a:ext cx="2459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 rot="16200000">
            <a:off x="3288960" y="-12600"/>
            <a:ext cx="144720" cy="1700280"/>
          </a:xfrm>
          <a:custGeom>
            <a:avLst/>
            <a:gdLst>
              <a:gd name="textAreaLeft" fmla="*/ 92520 w 144720"/>
              <a:gd name="textAreaRight" fmla="*/ 145080 w 144720"/>
              <a:gd name="textAreaTop" fmla="*/ 44280 h 1700280"/>
              <a:gd name="textAreaBottom" fmla="*/ 1656000 h 17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 rot="16200000">
            <a:off x="5580000" y="-313920"/>
            <a:ext cx="144720" cy="2303280"/>
          </a:xfrm>
          <a:custGeom>
            <a:avLst/>
            <a:gdLst>
              <a:gd name="textAreaLeft" fmla="*/ 92520 w 144720"/>
              <a:gd name="textAreaRight" fmla="*/ 145080 w 14472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2987640" y="9079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5292720" y="9079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0" y="1587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1189080" y="2641680"/>
            <a:ext cx="5975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6877080" y="257004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1690560" y="3218040"/>
            <a:ext cx="4897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6948360" y="321300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1332000" y="3938760"/>
            <a:ext cx="576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0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4"/>
          <p:cNvSpPr/>
          <p:nvPr/>
        </p:nvSpPr>
        <p:spPr>
          <a:xfrm>
            <a:off x="1403280" y="4441680"/>
            <a:ext cx="561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0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0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0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1403280" y="494172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144360" y="5089680"/>
            <a:ext cx="874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0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826920" y="5589720"/>
            <a:ext cx="727416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8"/>
          <p:cNvSpPr/>
          <p:nvPr/>
        </p:nvSpPr>
        <p:spPr>
          <a:xfrm>
            <a:off x="2700360" y="47772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9"/>
          <p:cNvSpPr/>
          <p:nvPr/>
        </p:nvSpPr>
        <p:spPr>
          <a:xfrm>
            <a:off x="3564000" y="47628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0"/>
          <p:cNvSpPr/>
          <p:nvPr/>
        </p:nvSpPr>
        <p:spPr>
          <a:xfrm>
            <a:off x="4716360" y="47628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5508720" y="47628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2"/>
          <p:cNvSpPr/>
          <p:nvPr/>
        </p:nvSpPr>
        <p:spPr>
          <a:xfrm>
            <a:off x="6300720" y="47628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5221440" y="602136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539640" y="638640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108360" y="43920"/>
            <a:ext cx="21589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71236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179280" y="1557360"/>
            <a:ext cx="30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684360" y="1994040"/>
            <a:ext cx="61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6I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8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S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3I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S + 4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179280" y="2708280"/>
            <a:ext cx="48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898560" y="3213000"/>
            <a:ext cx="777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5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6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2Mn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10C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8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179280" y="3933720"/>
            <a:ext cx="381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Cl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l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684360" y="4508640"/>
            <a:ext cx="691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Cl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Cl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4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Cl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Cl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76720" y="-27360"/>
            <a:ext cx="245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n basic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8000" y="44280"/>
            <a:ext cx="14508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0" y="333360"/>
            <a:ext cx="914400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by permanganate ion (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in basic solution to yield molecular iodine (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and manganese (IV) oxide (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34920" y="198900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547640" y="2565360"/>
            <a:ext cx="10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3348000" y="2570040"/>
            <a:ext cx="22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N. of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5796000" y="2565360"/>
            <a:ext cx="22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N of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108000" y="314640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an electron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1835280" y="3573360"/>
            <a:ext cx="6049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250920" y="4657680"/>
            <a:ext cx="22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2556000" y="4632480"/>
            <a:ext cx="32400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 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6012000" y="4632480"/>
            <a:ext cx="295272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Mn + 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-36360" y="566568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3 electrons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1044720" y="6170760"/>
            <a:ext cx="691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219960" y="1463400"/>
            <a:ext cx="72673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keletal equation:                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         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7"/>
          <p:cNvSpPr/>
          <p:nvPr/>
        </p:nvSpPr>
        <p:spPr>
          <a:xfrm>
            <a:off x="5219640" y="17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8"/>
          <p:cNvSpPr/>
          <p:nvPr/>
        </p:nvSpPr>
        <p:spPr>
          <a:xfrm>
            <a:off x="5435640" y="27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9"/>
          <p:cNvSpPr/>
          <p:nvPr/>
        </p:nvSpPr>
        <p:spPr>
          <a:xfrm>
            <a:off x="5219640" y="5229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6994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131640" y="1125000"/>
            <a:ext cx="1738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627280" y="1628640"/>
            <a:ext cx="28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250920" y="2492280"/>
            <a:ext cx="57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th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3203640" y="293040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2268360" y="3362400"/>
            <a:ext cx="410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179280" y="41497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132000" y="4724280"/>
            <a:ext cx="1798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1979640" y="5445000"/>
            <a:ext cx="48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0" y="443700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 we add an equal number of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to both sides of the equation.  Where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appear on the same side of the equation, they may be combined to form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77920" y="1484280"/>
            <a:ext cx="634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0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0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619280" y="1916280"/>
            <a:ext cx="590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619280" y="234936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34920" y="285768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492360" y="3284640"/>
            <a:ext cx="16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8"/>
          <p:cNvSpPr/>
          <p:nvPr/>
        </p:nvSpPr>
        <p:spPr>
          <a:xfrm rot="16200000">
            <a:off x="3670200" y="3679920"/>
            <a:ext cx="144720" cy="506160"/>
          </a:xfrm>
          <a:custGeom>
            <a:avLst/>
            <a:gdLst>
              <a:gd name="textAreaLeft" fmla="*/ 92520 w 144720"/>
              <a:gd name="textAreaRight" fmla="*/ 145080 w 144720"/>
              <a:gd name="textAreaTop" fmla="*/ 12960 h 506160"/>
              <a:gd name="textAreaBottom" fmla="*/ 493200 h 50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9"/>
          <p:cNvSpPr/>
          <p:nvPr/>
        </p:nvSpPr>
        <p:spPr>
          <a:xfrm rot="16200000">
            <a:off x="4643280" y="3643200"/>
            <a:ext cx="71280" cy="649080"/>
          </a:xfrm>
          <a:custGeom>
            <a:avLst/>
            <a:gdLst>
              <a:gd name="textAreaLeft" fmla="*/ 45720 w 71280"/>
              <a:gd name="textAreaRight" fmla="*/ 71640 w 71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3492360" y="3933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4282920" y="39337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684360" y="444168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3492360" y="4915080"/>
            <a:ext cx="180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1979640" y="5348160"/>
            <a:ext cx="525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5"/>
          <p:cNvSpPr/>
          <p:nvPr/>
        </p:nvSpPr>
        <p:spPr>
          <a:xfrm rot="16200000">
            <a:off x="3240720" y="4950000"/>
            <a:ext cx="215640" cy="2160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6"/>
          <p:cNvSpPr/>
          <p:nvPr/>
        </p:nvSpPr>
        <p:spPr>
          <a:xfrm rot="16200000">
            <a:off x="5545080" y="5167080"/>
            <a:ext cx="287280" cy="1655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7"/>
                </a:lnTo>
                <a:cubicBezTo>
                  <a:pt x="10800" y="10117"/>
                  <a:pt x="5400" y="11017"/>
                  <a:pt x="0" y="11017"/>
                </a:cubicBezTo>
                <a:cubicBezTo>
                  <a:pt x="5400" y="11017"/>
                  <a:pt x="10800" y="11917"/>
                  <a:pt x="10800" y="128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3060720" y="60609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8"/>
          <p:cNvSpPr/>
          <p:nvPr/>
        </p:nvSpPr>
        <p:spPr>
          <a:xfrm>
            <a:off x="5364000" y="60310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612720" y="631512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349236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2"/>
          <p:cNvSpPr/>
          <p:nvPr/>
        </p:nvSpPr>
        <p:spPr>
          <a:xfrm>
            <a:off x="421164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3"/>
          <p:cNvSpPr/>
          <p:nvPr/>
        </p:nvSpPr>
        <p:spPr>
          <a:xfrm>
            <a:off x="471636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4"/>
          <p:cNvSpPr/>
          <p:nvPr/>
        </p:nvSpPr>
        <p:spPr>
          <a:xfrm>
            <a:off x="4067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5"/>
          <p:cNvSpPr/>
          <p:nvPr/>
        </p:nvSpPr>
        <p:spPr>
          <a:xfrm>
            <a:off x="5075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6"/>
          <p:cNvSpPr/>
          <p:nvPr/>
        </p:nvSpPr>
        <p:spPr>
          <a:xfrm>
            <a:off x="6083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7"/>
          <p:cNvSpPr/>
          <p:nvPr/>
        </p:nvSpPr>
        <p:spPr>
          <a:xfrm>
            <a:off x="313200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8"/>
          <p:cNvSpPr/>
          <p:nvPr/>
        </p:nvSpPr>
        <p:spPr>
          <a:xfrm>
            <a:off x="219564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348000" y="907920"/>
            <a:ext cx="1882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6948360" y="914400"/>
            <a:ext cx="11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1765440" y="1413000"/>
            <a:ext cx="496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3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7164360" y="141300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3348000" y="2349360"/>
            <a:ext cx="2087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6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3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1906560" y="2781360"/>
            <a:ext cx="511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9"/>
          <p:cNvSpPr/>
          <p:nvPr/>
        </p:nvSpPr>
        <p:spPr>
          <a:xfrm>
            <a:off x="1692360" y="3213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1763640" y="3284640"/>
            <a:ext cx="576108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5221440" y="386064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539640" y="422604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1522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Ques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06280" y="475920"/>
            <a:ext cx="8686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-1405080" y="1557360"/>
            <a:ext cx="8569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0" y="1628640"/>
            <a:ext cx="93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468360" y="2205000"/>
            <a:ext cx="201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3203640" y="22050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5148360" y="2205000"/>
            <a:ext cx="352728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0" y="306864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two electrons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1547640" y="3716280"/>
            <a:ext cx="619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395280" y="444168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2700360" y="4437000"/>
            <a:ext cx="30240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2(+1) + 2O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5651640" y="4437000"/>
            <a:ext cx="316836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: 2(+1) + O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0" y="551664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one electron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5"/>
          <p:cNvSpPr/>
          <p:nvPr/>
        </p:nvSpPr>
        <p:spPr>
          <a:xfrm>
            <a:off x="1332000" y="6093000"/>
            <a:ext cx="640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6" dur="indefinite" restart="never" nodeType="tmRoot">
          <p:childTnLst>
            <p:seq>
              <p:cTn id="1687" dur="indefinite" nodeType="mainSeq">
                <p:childTnLst>
                  <p:par>
                    <p:cTn id="1688" nodeType="clickEffect" fill="hold">
                      <p:stCondLst>
                        <p:cond delay="indefinite"/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7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33228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(liqu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9640" y="2349360"/>
            <a:ext cx="84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2781360"/>
            <a:ext cx="14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95280" y="314172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338560" y="3500280"/>
            <a:ext cx="424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aO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0" y="3933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1908000" y="465300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5435640" y="465300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4140360" y="465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1116000" y="52293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"/>
          <p:cNvSpPr/>
          <p:nvPr/>
        </p:nvSpPr>
        <p:spPr>
          <a:xfrm>
            <a:off x="1187280" y="5445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7"/>
          <p:cNvSpPr/>
          <p:nvPr/>
        </p:nvSpPr>
        <p:spPr>
          <a:xfrm>
            <a:off x="2268360" y="5445000"/>
            <a:ext cx="3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3203640" y="545004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1260360" y="60213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2266920" y="602136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1"/>
          <p:cNvSpPr/>
          <p:nvPr/>
        </p:nvSpPr>
        <p:spPr>
          <a:xfrm>
            <a:off x="3203640" y="602136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2"/>
          <p:cNvSpPr/>
          <p:nvPr/>
        </p:nvSpPr>
        <p:spPr>
          <a:xfrm>
            <a:off x="4572000" y="54500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3"/>
          <p:cNvSpPr/>
          <p:nvPr/>
        </p:nvSpPr>
        <p:spPr>
          <a:xfrm>
            <a:off x="5724360" y="5450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4"/>
          <p:cNvSpPr/>
          <p:nvPr/>
        </p:nvSpPr>
        <p:spPr>
          <a:xfrm>
            <a:off x="6804000" y="5450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4572000" y="60213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6"/>
          <p:cNvSpPr/>
          <p:nvPr/>
        </p:nvSpPr>
        <p:spPr>
          <a:xfrm>
            <a:off x="5726160" y="6026040"/>
            <a:ext cx="35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7"/>
          <p:cNvSpPr/>
          <p:nvPr/>
        </p:nvSpPr>
        <p:spPr>
          <a:xfrm>
            <a:off x="6804000" y="6026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706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0" y="549000"/>
            <a:ext cx="40435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3080" y="1417680"/>
            <a:ext cx="565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th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2195640" y="1916280"/>
            <a:ext cx="381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2627280" y="2281320"/>
            <a:ext cx="2519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108000" y="2924280"/>
            <a:ext cx="529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th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1979640" y="342900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2482920" y="3932280"/>
            <a:ext cx="33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144360" y="457992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For each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, add equal no. of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 both sides of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971640" y="5089680"/>
            <a:ext cx="698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1116000" y="5594400"/>
            <a:ext cx="56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1692360" y="6097680"/>
            <a:ext cx="475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4"/>
          <p:cNvSpPr/>
          <p:nvPr/>
        </p:nvSpPr>
        <p:spPr>
          <a:xfrm>
            <a:off x="468360" y="404640"/>
            <a:ext cx="26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668880" y="836640"/>
            <a:ext cx="21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834920" y="43920"/>
            <a:ext cx="526716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195280" y="549000"/>
            <a:ext cx="4546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2987640" y="981000"/>
            <a:ext cx="259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71280" y="1341360"/>
            <a:ext cx="87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835280" y="170028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7"/>
          <p:cNvSpPr/>
          <p:nvPr/>
        </p:nvSpPr>
        <p:spPr>
          <a:xfrm rot="16200000">
            <a:off x="2554920" y="1556280"/>
            <a:ext cx="216000" cy="15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8"/>
          <p:cNvSpPr/>
          <p:nvPr/>
        </p:nvSpPr>
        <p:spPr>
          <a:xfrm rot="16200000">
            <a:off x="5039280" y="1087920"/>
            <a:ext cx="216000" cy="244980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9800"/>
              <a:gd name="textAreaBottom" fmla="*/ 2386080 h 24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"/>
          <p:cNvSpPr/>
          <p:nvPr/>
        </p:nvSpPr>
        <p:spPr>
          <a:xfrm>
            <a:off x="2411280" y="2384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4859280" y="2349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843280" y="2708280"/>
            <a:ext cx="252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2"/>
          <p:cNvSpPr/>
          <p:nvPr/>
        </p:nvSpPr>
        <p:spPr>
          <a:xfrm rot="16200000">
            <a:off x="3419280" y="2852280"/>
            <a:ext cx="144360" cy="100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 rot="16200000">
            <a:off x="4715640" y="299592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32767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>
            <a:off x="4572000" y="33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612720" y="3716280"/>
            <a:ext cx="77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2916360" y="4149720"/>
            <a:ext cx="3095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0" y="4653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1763640" y="5445000"/>
            <a:ext cx="475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2554200" y="5805360"/>
            <a:ext cx="266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4"/>
          <p:cNvSpPr/>
          <p:nvPr/>
        </p:nvSpPr>
        <p:spPr>
          <a:xfrm>
            <a:off x="1619280" y="6237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1620720" y="6237360"/>
            <a:ext cx="511200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183528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7"/>
          <p:cNvSpPr/>
          <p:nvPr/>
        </p:nvSpPr>
        <p:spPr>
          <a:xfrm>
            <a:off x="2771640" y="198900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924360" y="198900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78800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565164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4500720" y="3068640"/>
            <a:ext cx="57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564000" y="3068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2987640" y="307008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6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nodeType="clickEffect" fill="hold">
                      <p:stCondLst>
                        <p:cond delay="indefinite"/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nodeType="clickEffect" fill="hold">
                      <p:stCondLst>
                        <p:cond delay="indefinite"/>
                      </p:stCondLst>
                      <p:childTnLst>
                        <p:par>
                          <p:cTn id="1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nodeType="clickEffect" fill="hold">
                      <p:stCondLst>
                        <p:cond delay="indefinite"/>
                      </p:stCondLst>
                      <p:childTnLst>
                        <p:par>
                          <p:cTn id="1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1738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79280" y="1628640"/>
            <a:ext cx="54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Fe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Fe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755640" y="2138400"/>
            <a:ext cx="806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3Fe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3Fe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+ O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179280" y="4226040"/>
            <a:ext cx="46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Bi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826920" y="5018040"/>
            <a:ext cx="698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Bi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3S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2Bi + 3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 + 3S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nodeType="clickEffect" fill="hold">
                      <p:stCondLst>
                        <p:cond delay="indefinite"/>
                      </p:stCondLst>
                      <p:childTnLst>
                        <p:par>
                          <p:cTn id="1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26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0640" y="692280"/>
            <a:ext cx="3610080" cy="4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4211640" y="126828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619280" y="13460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627280" y="134136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419640" y="13413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72000" y="134136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508720" y="134136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300720" y="13413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690560" y="191628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627280" y="191628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490920" y="1916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4643280" y="191628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5508720" y="1916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6300720" y="19224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468360" y="2570040"/>
            <a:ext cx="48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2627280" y="2997360"/>
            <a:ext cx="410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Na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4284720" y="350028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1619280" y="357840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2627280" y="3573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3492360" y="357336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4500720" y="35733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5508720" y="3573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443640" y="357336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1692360" y="4149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2627280" y="414972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3492360" y="4149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4572000" y="41544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5508720" y="41544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6445080" y="415440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395280" y="4797360"/>
            <a:ext cx="374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2627280" y="5300640"/>
            <a:ext cx="475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N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4"/>
          <p:cNvSpPr/>
          <p:nvPr/>
        </p:nvSpPr>
        <p:spPr>
          <a:xfrm>
            <a:off x="1476360" y="177336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5"/>
          <p:cNvSpPr/>
          <p:nvPr/>
        </p:nvSpPr>
        <p:spPr>
          <a:xfrm>
            <a:off x="1476360" y="400536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720" y="43920"/>
            <a:ext cx="18716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591840"/>
            <a:ext cx="4259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24000" y="1413000"/>
            <a:ext cx="496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P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5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124000" y="2133720"/>
            <a:ext cx="561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P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5(s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24000" y="299736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122560" y="3860640"/>
            <a:ext cx="64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N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 ½ 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" y="4581360"/>
            <a:ext cx="34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050920" y="5373720"/>
            <a:ext cx="43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2S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S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17200" y="-8604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0000"/>
                </a:solidFill>
                <a:latin typeface="Arial Rounded MT Bold"/>
              </a:rPr>
              <a:t>Balancing redox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360" y="620280"/>
            <a:ext cx="89647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419640" y="177336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419640" y="2205000"/>
            <a:ext cx="79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221440" y="177336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219640" y="2205000"/>
            <a:ext cx="792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179280" y="3718080"/>
            <a:ext cx="63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755640" y="422100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757080" y="4657680"/>
            <a:ext cx="75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216000" y="516240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79280" y="5645160"/>
            <a:ext cx="85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number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1187280" y="228132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 Rounded MT Bold"/>
              </a:rPr>
              <a:t>OIL  R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826920" y="3284640"/>
            <a:ext cx="770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80"/>
                </a:solidFill>
                <a:latin typeface="Arial"/>
              </a:rPr>
              <a:t>Whenever oxidation occurs, reduction must also occ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2000" y="58680"/>
            <a:ext cx="6913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Rules for assigning oxidation numbers (O.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.g.     L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as O.N. of +1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as O.N. of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hen they are bonded to a more electonegative e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s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peroxide ion,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O.N. of -1), and the compound O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O.N. +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hen bonded to a less electronegative element, i.e. a metal, where it’s O.N. is -1, e.g. LiH, N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81080" y="-12960"/>
            <a:ext cx="209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480" y="4759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08000" y="98100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L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547640" y="1197000"/>
            <a:ext cx="676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ithium: Group 1 element 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xidation number 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47640" y="1557360"/>
            <a:ext cx="41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8000" y="1994040"/>
            <a:ext cx="15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H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908000" y="2354400"/>
            <a:ext cx="20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076720" y="235440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4000" y="2708280"/>
            <a:ext cx="8532720" cy="8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neu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979640" y="357336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 = +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108000" y="4076640"/>
            <a:ext cx="194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466560" y="450864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ere the sum equals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68360" y="486900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132000" y="5367240"/>
            <a:ext cx="2592360" cy="17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2098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0066"/>
                </a:solidFill>
                <a:latin typeface="Arial"/>
              </a:rPr>
              <a:t>Questions</a:t>
            </a:r>
            <a:r>
              <a:rPr b="0" lang="en-IE" sz="2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54900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95280" y="126828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Zn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908000" y="1628640"/>
            <a:ext cx="45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95280" y="256536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908000" y="3141720"/>
            <a:ext cx="46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95280" y="436572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908000" y="4797360"/>
            <a:ext cx="50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8:25:26Z</dcterms:created>
  <dc:creator>Serena Corr</dc:creator>
  <dc:description/>
  <dc:language>en-US</dc:language>
  <cp:lastModifiedBy>LEGION</cp:lastModifiedBy>
  <dcterms:modified xsi:type="dcterms:W3CDTF">2017-01-26T09:38:08Z</dcterms:modified>
  <cp:revision>53</cp:revision>
  <dc:subject/>
  <dc:title>Balancing Chemical Equations</dc:title>
</cp:coreProperties>
</file>