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442A-0161-4C4F-9390-4FDD0D82147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 Diagrams of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gust 27th,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ohr Diagrams of Ion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esson 3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ugust 27th, 2010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the ions of the first 20 ions of the periodic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raw the ions of the first 20 ions of the periodic tab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and Negative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ble gases do not form compounds because they have 8 electrons in their outer orbit (shell). This electron arrangement makes them very stable and so they do not reac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sitive and Negative Ion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oble gases do not form compounds because they have 8 electrons in their outer orbit (shell). This electron arrangement makes them very stable and so they do not react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elements form compounds, changes occur in the arrangement of electrons in the outer orbit. – Electrons are gained or lost so that element can have a stable electron arrangement of the closest noble gas. (In other words it will completely fill their outer shell with electr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en elements form compounds, changes occur in the arrangement of electrons in the outer orbit. – Electrons are gained or lost so that element can have a stable electron arrangement of the closest noble gas. (In other words it will completely fill their outer shell with electrons)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rder for a compound to be stable, it must have a completely filled outer electron shell– aka (stable octet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order for a compound to be stable, it must have a completely filled outer electron shell– aka (stable octet)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angement of outer shell electrons of metals and non-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rrangement of outer shell electrons of metals and non-metal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d to have 1, 2, or 3 electrons in the outer orbits (shell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ose electrons when they combine with other elements to form positive ions (cations) : note the t in the word think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ose electrons, thus they have the same electron arrangement as the Noble gas a row abov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etals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nd to have 1, 2, or 3 electrons in the outer orbits (shells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lose electrons when they combine with other elements to form positive ions (cations) : note the t in the word think +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lose electrons, thus they have the same electron arrangement as the Noble gas a row above them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Metal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Sodium: Na   Na+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N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P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Arial"/>
              </a:rPr>
              <a:t>Metal 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Arial"/>
              </a:rPr>
              <a:t>Sodium: Na   Na+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Arial"/>
              </a:rPr>
              <a:t>N 12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Arial"/>
              </a:rPr>
              <a:t>P 11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metals – Tend to have 4, 5, 6, or 7 electrons in their outer orbits (shells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gain electrons to form negative ions (ani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gain electrons, thus they have the same electron arrangement as the Noble gas in the same row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on-Metal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on-metals – Tend to have 4, 5, 6, or 7 electrons in their outer orbits (shells)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gain electrons to form negative ions (anions)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gain electrons, thus they have the same electron arrangement as the Noble gas in the same row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ine : F  F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luorine : F  F-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 10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 10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E2F8-D63A-43BC-BAE2-AF9D8903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DB00-AF73-426B-9A4D-CA8B2622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3CCE-CC14-44EB-9ACF-2A718E325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44E8-CFF5-4775-B8D1-67AC15B78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239F-943D-4408-BA22-39391E14E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DF3B-041D-48AB-A668-E3A123D2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F544-D64B-4672-ABC3-F1A91CD8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8F29-BBCB-40F6-AA5A-09A2850D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F4CB-7F8A-448C-BFFF-9F339C31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B3EB-93CA-4D9E-9B02-10AEA064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24C9-FAD8-45D7-9287-8295B9E3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93F0-8D16-4F44-A285-BEB3585C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33D2-7491-4F65-825A-62BC9563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5D86-E319-41BD-94EC-17771E1D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616E-1E92-4598-95AA-FE6FBB12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3F94-0D38-442E-BD83-38231B44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8B53-9CE5-4325-BB99-C74881A68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2EA5-F859-43C6-9431-A508C143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3D1D-816D-46B6-A49E-4EDF179A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12CB-80A6-4FDC-BDF1-CD95146E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1C16-6A72-4956-A6AD-E3FD7D95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DBEC-B32B-44E8-B1AD-323E8AF4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69D8-18F3-48AE-B484-0F3F6519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DAD9-72AE-4C26-BB0D-B2CE90CE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2E55-4DF4-479D-B22D-B997071DBF43}" type="datetime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AFAE-5A5A-4C2C-BC62-5D3D9A2E72FF}" type="slidenum">
              <a:rPr b="1" lang="en-C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7F5E-4559-4BA2-A9CC-1637750570E1}" type="datetime">
              <a:rPr b="0" lang="en-US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77AB-F8A2-4719-BDA1-5D1FB90720F9}" type="slidenum">
              <a:rPr b="0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Bohr Diagrams of 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Lesson 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August 27</a:t>
            </a:r>
            <a:r>
              <a:rPr b="0" lang="en-CA" sz="3200" spc="-1" strike="noStrike" baseline="30000">
                <a:solidFill>
                  <a:srgbClr val="eaeaea"/>
                </a:solidFill>
                <a:latin typeface="Times New Roman"/>
              </a:rPr>
              <a:t>th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, 201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Draw the ions of the first 20 ions of the periodic ta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Positive and Negative 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040" y="1785960"/>
            <a:ext cx="795816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Noble gases</a:t>
            </a:r>
            <a:r>
              <a:rPr b="0" lang="en-CA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do not form compounds because they have 8 electrons in their outer orbit (shell). This electron arrangement makes them very stable and so they do not react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6" name="Group 3"/>
          <p:cNvGrpSpPr/>
          <p:nvPr/>
        </p:nvGrpSpPr>
        <p:grpSpPr>
          <a:xfrm>
            <a:off x="2428920" y="3929040"/>
            <a:ext cx="3785400" cy="2785680"/>
            <a:chOff x="2428920" y="3929040"/>
            <a:chExt cx="3785400" cy="2785680"/>
          </a:xfrm>
        </p:grpSpPr>
        <p:sp>
          <p:nvSpPr>
            <p:cNvPr id="137" name="Oval 4"/>
            <p:cNvSpPr/>
            <p:nvPr/>
          </p:nvSpPr>
          <p:spPr>
            <a:xfrm>
              <a:off x="2570040" y="4064040"/>
              <a:ext cx="3460680" cy="254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" name="Oval 5"/>
            <p:cNvSpPr/>
            <p:nvPr/>
          </p:nvSpPr>
          <p:spPr>
            <a:xfrm>
              <a:off x="2916000" y="4543560"/>
              <a:ext cx="2747520" cy="1661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9" name="Oval 6"/>
            <p:cNvSpPr/>
            <p:nvPr/>
          </p:nvSpPr>
          <p:spPr>
            <a:xfrm>
              <a:off x="3525840" y="4872600"/>
              <a:ext cx="1506960" cy="912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0" name="Text Box 7"/>
            <p:cNvSpPr/>
            <p:nvPr/>
          </p:nvSpPr>
          <p:spPr>
            <a:xfrm>
              <a:off x="3786120" y="4940640"/>
              <a:ext cx="1017360" cy="72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 10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10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1" name="Oval 8"/>
            <p:cNvSpPr/>
            <p:nvPr/>
          </p:nvSpPr>
          <p:spPr>
            <a:xfrm>
              <a:off x="4075560" y="6012720"/>
              <a:ext cx="370440" cy="284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2" name="Oval 9"/>
            <p:cNvSpPr/>
            <p:nvPr/>
          </p:nvSpPr>
          <p:spPr>
            <a:xfrm>
              <a:off x="3708000" y="3929040"/>
              <a:ext cx="367200" cy="2844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3" name="Oval 10"/>
            <p:cNvSpPr/>
            <p:nvPr/>
          </p:nvSpPr>
          <p:spPr>
            <a:xfrm>
              <a:off x="4442760" y="3929040"/>
              <a:ext cx="367200" cy="2844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4" name="Oval 11"/>
            <p:cNvSpPr/>
            <p:nvPr/>
          </p:nvSpPr>
          <p:spPr>
            <a:xfrm>
              <a:off x="5847120" y="5067720"/>
              <a:ext cx="367200" cy="285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5" name="Oval 12"/>
            <p:cNvSpPr/>
            <p:nvPr/>
          </p:nvSpPr>
          <p:spPr>
            <a:xfrm>
              <a:off x="5847120" y="5500800"/>
              <a:ext cx="367200" cy="284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6" name="Oval 13"/>
            <p:cNvSpPr/>
            <p:nvPr/>
          </p:nvSpPr>
          <p:spPr>
            <a:xfrm>
              <a:off x="2428920" y="4992480"/>
              <a:ext cx="366840" cy="2844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7" name="Oval 14"/>
            <p:cNvSpPr/>
            <p:nvPr/>
          </p:nvSpPr>
          <p:spPr>
            <a:xfrm>
              <a:off x="2428920" y="5500800"/>
              <a:ext cx="366840" cy="284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8" name="Oval 15"/>
            <p:cNvSpPr/>
            <p:nvPr/>
          </p:nvSpPr>
          <p:spPr>
            <a:xfrm>
              <a:off x="3873960" y="6429960"/>
              <a:ext cx="370440" cy="284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9" name="Oval 16"/>
            <p:cNvSpPr/>
            <p:nvPr/>
          </p:nvSpPr>
          <p:spPr>
            <a:xfrm>
              <a:off x="4524120" y="6429960"/>
              <a:ext cx="366840" cy="284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0" name="Oval 17"/>
            <p:cNvSpPr/>
            <p:nvPr/>
          </p:nvSpPr>
          <p:spPr>
            <a:xfrm>
              <a:off x="4156560" y="4475520"/>
              <a:ext cx="367200" cy="285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When elements form compounds, changes occur in the arrangement of electrons in the outer orbit. – Electrons are </a:t>
            </a:r>
            <a:r>
              <a:rPr b="0" lang="en-CA" sz="3200" spc="-1" strike="noStrike">
                <a:solidFill>
                  <a:srgbClr val="ffff00"/>
                </a:solidFill>
                <a:latin typeface="Times New Roman"/>
              </a:rPr>
              <a:t>gained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or </a:t>
            </a:r>
            <a:r>
              <a:rPr b="0" lang="en-CA" sz="3200" spc="-1" strike="noStrike">
                <a:solidFill>
                  <a:srgbClr val="ffff00"/>
                </a:solidFill>
                <a:latin typeface="Times New Roman"/>
              </a:rPr>
              <a:t>lost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so that element can have a stable electron arrangement of the closest noble gas. (In other words it will completely fill their outer shell with electrons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In order for a compound to be stable, it must have a completely filled outer electron shell– aka (stable octet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aeaea"/>
                </a:solidFill>
                <a:latin typeface="Times New Roman"/>
              </a:rPr>
              <a:t>Arrangement of outer shell electrons of metals and non-metal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Times New Roman"/>
              </a:rPr>
              <a:t>Metals</a:t>
            </a: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Tend to have 1, 2, or 3 electrons in the outer orbits (shell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They lose electrons when they combine with other elements to form positive ions </a:t>
            </a:r>
            <a:r>
              <a:rPr b="0" lang="en-CA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cations</a:t>
            </a:r>
            <a:r>
              <a:rPr b="0" lang="en-CA" sz="32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: note the </a:t>
            </a: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in the word think </a:t>
            </a: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They lose electrons, thus they have the same electron arrangement as the Noble gas a </a:t>
            </a: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row above</a:t>
            </a:r>
            <a:r>
              <a:rPr b="0" lang="en-CA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th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Metal 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Sodium: Na  </a:t>
            </a:r>
            <a:r>
              <a:rPr b="0" lang="en-CA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Na</a:t>
            </a:r>
            <a:r>
              <a:rPr b="0" lang="en-CA" sz="3200" spc="-1" strike="noStrike" baseline="30000">
                <a:solidFill>
                  <a:srgbClr val="eaeaea"/>
                </a:solidFill>
                <a:latin typeface="Times New Roman"/>
              </a:rPr>
              <a:t>+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66" name="Group 2"/>
          <p:cNvGrpSpPr/>
          <p:nvPr/>
        </p:nvGrpSpPr>
        <p:grpSpPr>
          <a:xfrm>
            <a:off x="285840" y="3857760"/>
            <a:ext cx="2928960" cy="2357280"/>
            <a:chOff x="285840" y="3857760"/>
            <a:chExt cx="2928960" cy="2357280"/>
          </a:xfrm>
        </p:grpSpPr>
        <p:sp>
          <p:nvSpPr>
            <p:cNvPr id="167" name="Oval 3"/>
            <p:cNvSpPr/>
            <p:nvPr/>
          </p:nvSpPr>
          <p:spPr>
            <a:xfrm>
              <a:off x="285840" y="3857760"/>
              <a:ext cx="2928960" cy="235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8" name="Oval 4"/>
            <p:cNvSpPr/>
            <p:nvPr/>
          </p:nvSpPr>
          <p:spPr>
            <a:xfrm>
              <a:off x="511560" y="4096800"/>
              <a:ext cx="2405520" cy="1936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9" name="Oval 5"/>
            <p:cNvSpPr/>
            <p:nvPr/>
          </p:nvSpPr>
          <p:spPr>
            <a:xfrm>
              <a:off x="752400" y="4461480"/>
              <a:ext cx="1909800" cy="1263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0" name="Oval 6"/>
            <p:cNvSpPr/>
            <p:nvPr/>
          </p:nvSpPr>
          <p:spPr>
            <a:xfrm>
              <a:off x="1176120" y="4710960"/>
              <a:ext cx="1047240" cy="69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1" name="Text Box 7"/>
            <p:cNvSpPr/>
            <p:nvPr/>
          </p:nvSpPr>
          <p:spPr>
            <a:xfrm>
              <a:off x="1418040" y="4858920"/>
              <a:ext cx="707040" cy="37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7000"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 12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11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2" name="Oval 8"/>
            <p:cNvSpPr/>
            <p:nvPr/>
          </p:nvSpPr>
          <p:spPr>
            <a:xfrm>
              <a:off x="1557000" y="4366080"/>
              <a:ext cx="25524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3" name="Oval 9"/>
            <p:cNvSpPr/>
            <p:nvPr/>
          </p:nvSpPr>
          <p:spPr>
            <a:xfrm>
              <a:off x="1557000" y="5576760"/>
              <a:ext cx="255240" cy="217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4" name="Oval 10"/>
            <p:cNvSpPr/>
            <p:nvPr/>
          </p:nvSpPr>
          <p:spPr>
            <a:xfrm>
              <a:off x="1303920" y="3994200"/>
              <a:ext cx="25416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5" name="Oval 11"/>
            <p:cNvSpPr/>
            <p:nvPr/>
          </p:nvSpPr>
          <p:spPr>
            <a:xfrm>
              <a:off x="1812600" y="3994200"/>
              <a:ext cx="25488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6" name="Oval 12"/>
            <p:cNvSpPr/>
            <p:nvPr/>
          </p:nvSpPr>
          <p:spPr>
            <a:xfrm>
              <a:off x="2788920" y="4858920"/>
              <a:ext cx="254880" cy="215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7" name="Oval 13"/>
            <p:cNvSpPr/>
            <p:nvPr/>
          </p:nvSpPr>
          <p:spPr>
            <a:xfrm>
              <a:off x="2788920" y="5188320"/>
              <a:ext cx="254880" cy="217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8" name="Oval 14"/>
            <p:cNvSpPr/>
            <p:nvPr/>
          </p:nvSpPr>
          <p:spPr>
            <a:xfrm>
              <a:off x="412200" y="4802760"/>
              <a:ext cx="25488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9" name="Oval 15"/>
            <p:cNvSpPr/>
            <p:nvPr/>
          </p:nvSpPr>
          <p:spPr>
            <a:xfrm>
              <a:off x="412200" y="5188320"/>
              <a:ext cx="254880" cy="217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0" name="Oval 16"/>
            <p:cNvSpPr/>
            <p:nvPr/>
          </p:nvSpPr>
          <p:spPr>
            <a:xfrm>
              <a:off x="1418040" y="5896080"/>
              <a:ext cx="25488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1" name="Oval 17"/>
            <p:cNvSpPr/>
            <p:nvPr/>
          </p:nvSpPr>
          <p:spPr>
            <a:xfrm>
              <a:off x="1869840" y="5896080"/>
              <a:ext cx="25524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2" name="Oval 18"/>
            <p:cNvSpPr/>
            <p:nvPr/>
          </p:nvSpPr>
          <p:spPr>
            <a:xfrm>
              <a:off x="2662200" y="4097880"/>
              <a:ext cx="25488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cxnSp>
        <p:nvCxnSpPr>
          <p:cNvPr id="183" name="AutoShape 19"/>
          <p:cNvCxnSpPr/>
          <p:nvPr/>
        </p:nvCxnSpPr>
        <p:spPr>
          <a:xfrm flipV="1">
            <a:off x="2928600" y="3642840"/>
            <a:ext cx="1072440" cy="504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4" name="Oval 20"/>
          <p:cNvSpPr/>
          <p:nvPr/>
        </p:nvSpPr>
        <p:spPr>
          <a:xfrm>
            <a:off x="4071960" y="3500280"/>
            <a:ext cx="144360" cy="1508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85" name="Group 35"/>
          <p:cNvGrpSpPr/>
          <p:nvPr/>
        </p:nvGrpSpPr>
        <p:grpSpPr>
          <a:xfrm>
            <a:off x="5500800" y="3857760"/>
            <a:ext cx="2642760" cy="2356920"/>
            <a:chOff x="5500800" y="3857760"/>
            <a:chExt cx="2642760" cy="2356920"/>
          </a:xfrm>
        </p:grpSpPr>
        <p:sp>
          <p:nvSpPr>
            <p:cNvPr id="186" name="Oval 36"/>
            <p:cNvSpPr/>
            <p:nvPr/>
          </p:nvSpPr>
          <p:spPr>
            <a:xfrm>
              <a:off x="5599440" y="3971880"/>
              <a:ext cx="2415960" cy="2154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7" name="Oval 37"/>
            <p:cNvSpPr/>
            <p:nvPr/>
          </p:nvSpPr>
          <p:spPr>
            <a:xfrm>
              <a:off x="5841000" y="4377600"/>
              <a:ext cx="1917720" cy="140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8" name="Oval 38"/>
            <p:cNvSpPr/>
            <p:nvPr/>
          </p:nvSpPr>
          <p:spPr>
            <a:xfrm>
              <a:off x="6266880" y="4656240"/>
              <a:ext cx="1051920" cy="772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9" name="Oval 40"/>
            <p:cNvSpPr/>
            <p:nvPr/>
          </p:nvSpPr>
          <p:spPr>
            <a:xfrm>
              <a:off x="6650280" y="5621040"/>
              <a:ext cx="257400" cy="239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0" name="Oval 41"/>
            <p:cNvSpPr/>
            <p:nvPr/>
          </p:nvSpPr>
          <p:spPr>
            <a:xfrm>
              <a:off x="6395040" y="3857760"/>
              <a:ext cx="255240" cy="2404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1" name="Oval 42"/>
            <p:cNvSpPr/>
            <p:nvPr/>
          </p:nvSpPr>
          <p:spPr>
            <a:xfrm>
              <a:off x="6906600" y="3857760"/>
              <a:ext cx="255240" cy="2404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2" name="Oval 43"/>
            <p:cNvSpPr/>
            <p:nvPr/>
          </p:nvSpPr>
          <p:spPr>
            <a:xfrm>
              <a:off x="7886160" y="4821120"/>
              <a:ext cx="257400" cy="2404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3" name="Oval 44"/>
            <p:cNvSpPr/>
            <p:nvPr/>
          </p:nvSpPr>
          <p:spPr>
            <a:xfrm>
              <a:off x="7886160" y="5187600"/>
              <a:ext cx="257400" cy="240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4" name="Oval 45"/>
            <p:cNvSpPr/>
            <p:nvPr/>
          </p:nvSpPr>
          <p:spPr>
            <a:xfrm>
              <a:off x="5500800" y="4757400"/>
              <a:ext cx="257400" cy="240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5" name="Oval 46"/>
            <p:cNvSpPr/>
            <p:nvPr/>
          </p:nvSpPr>
          <p:spPr>
            <a:xfrm>
              <a:off x="5500800" y="5187600"/>
              <a:ext cx="257400" cy="240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6" name="Oval 47"/>
            <p:cNvSpPr/>
            <p:nvPr/>
          </p:nvSpPr>
          <p:spPr>
            <a:xfrm>
              <a:off x="6510600" y="5974200"/>
              <a:ext cx="255240" cy="2404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7" name="Oval 48"/>
            <p:cNvSpPr/>
            <p:nvPr/>
          </p:nvSpPr>
          <p:spPr>
            <a:xfrm>
              <a:off x="6964560" y="5974200"/>
              <a:ext cx="255240" cy="2404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8" name="Oval 49"/>
            <p:cNvSpPr/>
            <p:nvPr/>
          </p:nvSpPr>
          <p:spPr>
            <a:xfrm>
              <a:off x="6707160" y="4318200"/>
              <a:ext cx="257400" cy="240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99" name="Straight Connector 53"/>
          <p:cNvSpPr/>
          <p:nvPr/>
        </p:nvSpPr>
        <p:spPr>
          <a:xfrm flipH="1">
            <a:off x="5000760" y="3571920"/>
            <a:ext cx="6429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Straight Connector 55"/>
          <p:cNvSpPr/>
          <p:nvPr/>
        </p:nvSpPr>
        <p:spPr>
          <a:xfrm>
            <a:off x="5000760" y="3571920"/>
            <a:ext cx="71280" cy="27147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Straight Connector 57"/>
          <p:cNvSpPr/>
          <p:nvPr/>
        </p:nvSpPr>
        <p:spPr>
          <a:xfrm>
            <a:off x="5072040" y="6286680"/>
            <a:ext cx="7142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Straight Connector 58"/>
          <p:cNvSpPr/>
          <p:nvPr/>
        </p:nvSpPr>
        <p:spPr>
          <a:xfrm>
            <a:off x="8286840" y="3571920"/>
            <a:ext cx="71280" cy="27147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Straight Connector 59"/>
          <p:cNvSpPr/>
          <p:nvPr/>
        </p:nvSpPr>
        <p:spPr>
          <a:xfrm flipH="1">
            <a:off x="7643880" y="3571920"/>
            <a:ext cx="6429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Straight Connector 60"/>
          <p:cNvSpPr/>
          <p:nvPr/>
        </p:nvSpPr>
        <p:spPr>
          <a:xfrm>
            <a:off x="7643880" y="6286680"/>
            <a:ext cx="7142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Straight Connector 61"/>
          <p:cNvSpPr/>
          <p:nvPr/>
        </p:nvSpPr>
        <p:spPr>
          <a:xfrm flipH="1">
            <a:off x="8501040" y="3714840"/>
            <a:ext cx="357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Straight Connector 63"/>
          <p:cNvSpPr/>
          <p:nvPr/>
        </p:nvSpPr>
        <p:spPr>
          <a:xfrm>
            <a:off x="8643960" y="3571920"/>
            <a:ext cx="0" cy="285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07" name="AutoShape 19"/>
          <p:cNvCxnSpPr/>
          <p:nvPr/>
        </p:nvCxnSpPr>
        <p:spPr>
          <a:xfrm flipV="1">
            <a:off x="3428640" y="5071320"/>
            <a:ext cx="1215000" cy="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08" name="Text Box 7"/>
          <p:cNvSpPr/>
          <p:nvPr/>
        </p:nvSpPr>
        <p:spPr>
          <a:xfrm>
            <a:off x="6372360" y="4869000"/>
            <a:ext cx="70776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 12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 11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eaeaea"/>
                </a:solidFill>
                <a:latin typeface="Times New Roman"/>
              </a:rPr>
              <a:t>Non-metals –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Tend to have 4, 5, 6, or 7 electrons in their outer orbits (shells)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They gain electrons to form negative ions (</a:t>
            </a: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anions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They gain electrons, thus they have the same electron arrangement as the Noble gas in the </a:t>
            </a: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same row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Fluorine : F </a:t>
            </a:r>
            <a:r>
              <a:rPr b="0" lang="en-CA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F</a:t>
            </a:r>
            <a:r>
              <a:rPr b="0" lang="en-CA" sz="3200" spc="-1" strike="noStrike" baseline="30000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15" name="Group 2"/>
          <p:cNvGrpSpPr/>
          <p:nvPr/>
        </p:nvGrpSpPr>
        <p:grpSpPr>
          <a:xfrm>
            <a:off x="428760" y="3571920"/>
            <a:ext cx="2408040" cy="2415600"/>
            <a:chOff x="428760" y="3571920"/>
            <a:chExt cx="2408040" cy="2415600"/>
          </a:xfrm>
        </p:grpSpPr>
        <p:sp>
          <p:nvSpPr>
            <p:cNvPr id="216" name="Oval 3"/>
            <p:cNvSpPr/>
            <p:nvPr/>
          </p:nvSpPr>
          <p:spPr>
            <a:xfrm>
              <a:off x="506880" y="3805920"/>
              <a:ext cx="1921680" cy="209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7" name="Oval 4"/>
            <p:cNvSpPr/>
            <p:nvPr/>
          </p:nvSpPr>
          <p:spPr>
            <a:xfrm>
              <a:off x="699480" y="4200840"/>
              <a:ext cx="1525320" cy="136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8" name="Oval 5"/>
            <p:cNvSpPr/>
            <p:nvPr/>
          </p:nvSpPr>
          <p:spPr>
            <a:xfrm>
              <a:off x="1037880" y="4471560"/>
              <a:ext cx="836640" cy="75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9" name="Text Box 6"/>
            <p:cNvSpPr/>
            <p:nvPr/>
          </p:nvSpPr>
          <p:spPr>
            <a:xfrm>
              <a:off x="1230840" y="4632120"/>
              <a:ext cx="564840" cy="40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6000"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N 10 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 10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0" name="Oval 7"/>
            <p:cNvSpPr/>
            <p:nvPr/>
          </p:nvSpPr>
          <p:spPr>
            <a:xfrm>
              <a:off x="1342800" y="5410080"/>
              <a:ext cx="2030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1" name="Oval 8"/>
            <p:cNvSpPr/>
            <p:nvPr/>
          </p:nvSpPr>
          <p:spPr>
            <a:xfrm>
              <a:off x="1137960" y="3695760"/>
              <a:ext cx="204840" cy="233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2" name="Oval 9"/>
            <p:cNvSpPr/>
            <p:nvPr/>
          </p:nvSpPr>
          <p:spPr>
            <a:xfrm>
              <a:off x="2631960" y="3571920"/>
              <a:ext cx="2048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3" name="Oval 10"/>
            <p:cNvSpPr/>
            <p:nvPr/>
          </p:nvSpPr>
          <p:spPr>
            <a:xfrm>
              <a:off x="2326680" y="4632120"/>
              <a:ext cx="2030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4" name="Oval 11"/>
            <p:cNvSpPr/>
            <p:nvPr/>
          </p:nvSpPr>
          <p:spPr>
            <a:xfrm>
              <a:off x="2326680" y="4987440"/>
              <a:ext cx="2030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5" name="Oval 12"/>
            <p:cNvSpPr/>
            <p:nvPr/>
          </p:nvSpPr>
          <p:spPr>
            <a:xfrm>
              <a:off x="428760" y="4569840"/>
              <a:ext cx="2048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6" name="Oval 13"/>
            <p:cNvSpPr/>
            <p:nvPr/>
          </p:nvSpPr>
          <p:spPr>
            <a:xfrm>
              <a:off x="428760" y="4987440"/>
              <a:ext cx="2048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7" name="Oval 14"/>
            <p:cNvSpPr/>
            <p:nvPr/>
          </p:nvSpPr>
          <p:spPr>
            <a:xfrm>
              <a:off x="1230120" y="5752440"/>
              <a:ext cx="2048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8" name="Oval 15"/>
            <p:cNvSpPr/>
            <p:nvPr/>
          </p:nvSpPr>
          <p:spPr>
            <a:xfrm>
              <a:off x="1545840" y="5752440"/>
              <a:ext cx="204840" cy="233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cxnSp>
          <p:nvCxnSpPr>
            <p:cNvPr id="229" name="AutoShape 16"/>
            <p:cNvCxnSpPr/>
            <p:nvPr/>
          </p:nvCxnSpPr>
          <p:spPr>
            <a:xfrm flipH="1">
              <a:off x="1625400" y="3805560"/>
              <a:ext cx="10069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cxnSp>
        <p:nvCxnSpPr>
          <p:cNvPr id="230" name="AutoShape 16"/>
          <p:cNvCxnSpPr/>
          <p:nvPr/>
        </p:nvCxnSpPr>
        <p:spPr>
          <a:xfrm>
            <a:off x="2714760" y="4642920"/>
            <a:ext cx="10720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31" name="Group 17"/>
          <p:cNvGrpSpPr/>
          <p:nvPr/>
        </p:nvGrpSpPr>
        <p:grpSpPr>
          <a:xfrm>
            <a:off x="4357440" y="3642840"/>
            <a:ext cx="3944880" cy="2653560"/>
            <a:chOff x="4357440" y="3642840"/>
            <a:chExt cx="3944880" cy="2653560"/>
          </a:xfrm>
        </p:grpSpPr>
        <p:sp>
          <p:nvSpPr>
            <p:cNvPr id="232" name="Oval 18"/>
            <p:cNvSpPr/>
            <p:nvPr/>
          </p:nvSpPr>
          <p:spPr>
            <a:xfrm>
              <a:off x="4871880" y="3763440"/>
              <a:ext cx="2060640" cy="226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3" name="Oval 19"/>
            <p:cNvSpPr/>
            <p:nvPr/>
          </p:nvSpPr>
          <p:spPr>
            <a:xfrm>
              <a:off x="5077800" y="4190760"/>
              <a:ext cx="1635840" cy="147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4" name="Oval 20"/>
            <p:cNvSpPr/>
            <p:nvPr/>
          </p:nvSpPr>
          <p:spPr>
            <a:xfrm>
              <a:off x="5440680" y="4483440"/>
              <a:ext cx="897120" cy="81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5" name="Oval 22"/>
            <p:cNvSpPr/>
            <p:nvPr/>
          </p:nvSpPr>
          <p:spPr>
            <a:xfrm>
              <a:off x="5769000" y="5499000"/>
              <a:ext cx="21780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6" name="Oval 23"/>
            <p:cNvSpPr/>
            <p:nvPr/>
          </p:nvSpPr>
          <p:spPr>
            <a:xfrm>
              <a:off x="5550480" y="364320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7" name="Oval 24"/>
            <p:cNvSpPr/>
            <p:nvPr/>
          </p:nvSpPr>
          <p:spPr>
            <a:xfrm>
              <a:off x="5986080" y="364320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8" name="Oval 25"/>
            <p:cNvSpPr/>
            <p:nvPr/>
          </p:nvSpPr>
          <p:spPr>
            <a:xfrm>
              <a:off x="6823440" y="465732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9" name="Oval 26"/>
            <p:cNvSpPr/>
            <p:nvPr/>
          </p:nvSpPr>
          <p:spPr>
            <a:xfrm>
              <a:off x="6823440" y="504324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0" name="Oval 27"/>
            <p:cNvSpPr/>
            <p:nvPr/>
          </p:nvSpPr>
          <p:spPr>
            <a:xfrm>
              <a:off x="4787640" y="4591440"/>
              <a:ext cx="218520" cy="2523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1" name="Oval 28"/>
            <p:cNvSpPr/>
            <p:nvPr/>
          </p:nvSpPr>
          <p:spPr>
            <a:xfrm>
              <a:off x="4787640" y="504324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2" name="Oval 29"/>
            <p:cNvSpPr/>
            <p:nvPr/>
          </p:nvSpPr>
          <p:spPr>
            <a:xfrm>
              <a:off x="5648040" y="587088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3" name="Oval 30"/>
            <p:cNvSpPr/>
            <p:nvPr/>
          </p:nvSpPr>
          <p:spPr>
            <a:xfrm>
              <a:off x="6035400" y="587088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4" name="Oval 31"/>
            <p:cNvSpPr/>
            <p:nvPr/>
          </p:nvSpPr>
          <p:spPr>
            <a:xfrm>
              <a:off x="5816520" y="4126680"/>
              <a:ext cx="218520" cy="2523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cxnSp>
          <p:nvCxnSpPr>
            <p:cNvPr id="245" name="AutoShape 32"/>
            <p:cNvCxnSpPr/>
            <p:nvPr/>
          </p:nvCxnSpPr>
          <p:spPr>
            <a:xfrm flipH="1">
              <a:off x="4357440" y="3642840"/>
              <a:ext cx="720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46" name="AutoShape 33"/>
            <p:cNvCxnSpPr/>
            <p:nvPr/>
          </p:nvCxnSpPr>
          <p:spPr>
            <a:xfrm>
              <a:off x="4357440" y="3643200"/>
              <a:ext cx="1080" cy="26524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47" name="AutoShape 34"/>
            <p:cNvCxnSpPr/>
            <p:nvPr/>
          </p:nvCxnSpPr>
          <p:spPr>
            <a:xfrm>
              <a:off x="4357440" y="6295680"/>
              <a:ext cx="88164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48" name="AutoShape 35"/>
            <p:cNvCxnSpPr/>
            <p:nvPr/>
          </p:nvCxnSpPr>
          <p:spPr>
            <a:xfrm>
              <a:off x="6932880" y="3642840"/>
              <a:ext cx="71280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49" name="AutoShape 36"/>
            <p:cNvCxnSpPr/>
            <p:nvPr/>
          </p:nvCxnSpPr>
          <p:spPr>
            <a:xfrm>
              <a:off x="7644600" y="3643200"/>
              <a:ext cx="1080" cy="25610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50" name="AutoShape 37"/>
            <p:cNvCxnSpPr/>
            <p:nvPr/>
          </p:nvCxnSpPr>
          <p:spPr>
            <a:xfrm flipH="1">
              <a:off x="7041240" y="6203160"/>
              <a:ext cx="603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51" name="AutoShape 38"/>
            <p:cNvCxnSpPr/>
            <p:nvPr/>
          </p:nvCxnSpPr>
          <p:spPr>
            <a:xfrm flipH="1">
              <a:off x="7877160" y="4068360"/>
              <a:ext cx="425520" cy="14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</p:grpSp>
      <p:sp>
        <p:nvSpPr>
          <p:cNvPr id="252" name="Text Box 6"/>
          <p:cNvSpPr/>
          <p:nvPr/>
        </p:nvSpPr>
        <p:spPr>
          <a:xfrm>
            <a:off x="5651640" y="4653000"/>
            <a:ext cx="56484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  <a:ea typeface="Arial"/>
              </a:rPr>
              <a:t>N 10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  <a:ea typeface="Arial"/>
              </a:rPr>
              <a:t>P 10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05:15:11Z</dcterms:created>
  <dc:creator>David Wesley Hoover</dc:creator>
  <dc:description/>
  <dc:language>en-US</dc:language>
  <cp:lastModifiedBy>LEGION</cp:lastModifiedBy>
  <dcterms:modified xsi:type="dcterms:W3CDTF">2017-01-26T09:19:11Z</dcterms:modified>
  <cp:revision>21</cp:revision>
  <dc:subject/>
  <dc:title>Bohr Diagrams of Ions</dc:title>
</cp:coreProperties>
</file>