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10B5-9FF1-45F1-BF41-C9A5A38469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BF60-0F0A-4A33-B4B0-D2DBC684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8791-3D37-4517-B064-9CBE2AD8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D6E6-95D1-48C9-BD92-BF833787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FF9B-3218-4E80-8DF0-5D06ED65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B777-67FC-4592-A838-C0E733A1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18F5-673E-46BE-B3A2-16700ED6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430E-ECCE-49A5-869B-DE4ACCA5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0A79-4A93-49E4-9086-A8C10FF7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1FD2-2A4F-42C4-B654-6ADA6000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5CF3-D90A-450C-B570-630CF749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2956-7F08-4E52-8F11-3C8D1436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2EBA1-1D89-419C-9672-F069A02B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D3FC-851D-4FB5-86FB-6CF18EB9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18C1-1752-4BDF-B127-88EA04DD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E500-A283-4519-9DEE-92397348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0162-6E51-45DE-892A-46B23CAE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5024-3782-4E55-AF28-3DAB68B7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41A0-F7D2-4CBD-8DD5-9D199846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D0C3-5F1D-4868-9C9B-6D48658D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1AD22-C664-4633-BF95-38DA53B2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30C82-1C52-46E8-B19E-D540C3F0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7959-39F6-4DC1-AB29-FD7D7579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A0A6-F1CF-472D-8E17-467E000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F032-D2C7-48C0-BF2A-BFD8EDE0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3120-146A-422D-B90A-24B541A9BC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BAF0-983E-4C18-B59A-8C34263293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C1a Rocks and Meta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2 Extracting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utco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y can some metals be extracted using carbon when some can’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do we use to extract ir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ow does a blast furnace 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chemical reactions take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Extraction of Ir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69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ShockwaveFlash1"/>
          <p:cNvGraphicFramePr/>
          <p:nvPr/>
        </p:nvGraphicFramePr>
        <p:xfrm>
          <a:off x="762120" y="1066680"/>
          <a:ext cx="7621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21560" cy="5105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derstand which metals can be extracted using carb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 able to describe how a blast furnace 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do you understan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2359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       2       3       4       5       6       7       8       9      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100000">
                          <a:srgbClr val="0099cc"/>
                        </a:gs>
                      </a:gsLst>
                      <a:lin ang="0"/>
                    </a:gradFill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know nothing                                            I am an expe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would you rate yourself when thinking about extraction of metal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81"/>
          <p:cNvSpPr/>
          <p:nvPr/>
        </p:nvSpPr>
        <p:spPr>
          <a:xfrm>
            <a:off x="2843280" y="3357720"/>
            <a:ext cx="3600360" cy="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611360" y="863640"/>
            <a:ext cx="2179440" cy="5416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52680" y="3486240"/>
            <a:ext cx="5610240" cy="404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19280" y="907920"/>
            <a:ext cx="21765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e Reactiv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e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20800" y="16430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tas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35200" y="20318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od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78760" y="2355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alc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63640" y="2708280"/>
            <a:ext cx="16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120" y="3078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lumin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53360" y="3927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z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39320" y="4270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r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863720" y="4979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pp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983960" y="571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o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60480" y="347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carbo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16"/>
          <p:cNvSpPr/>
          <p:nvPr/>
        </p:nvSpPr>
        <p:spPr>
          <a:xfrm flipV="1">
            <a:off x="746280" y="1788480"/>
            <a:ext cx="691920" cy="4446360"/>
          </a:xfrm>
          <a:prstGeom prst="downArrow">
            <a:avLst>
              <a:gd name="adj1" fmla="val 71565"/>
              <a:gd name="adj2" fmla="val 160653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3962520" y="1279440"/>
            <a:ext cx="669960" cy="2121120"/>
          </a:xfrm>
          <a:custGeom>
            <a:avLst/>
            <a:gdLst>
              <a:gd name="textAreaLeft" fmla="*/ 0 w 669960"/>
              <a:gd name="textAreaRight" fmla="*/ 241920 w 669960"/>
              <a:gd name="textAreaTop" fmla="*/ 55080 h 2121120"/>
              <a:gd name="textAreaBottom" fmla="*/ 2066040 h 212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005360" y="4057560"/>
            <a:ext cx="669960" cy="1195560"/>
          </a:xfrm>
          <a:custGeom>
            <a:avLst/>
            <a:gdLst>
              <a:gd name="textAreaLeft" fmla="*/ 0 w 669960"/>
              <a:gd name="textAreaRight" fmla="*/ 241920 w 669960"/>
              <a:gd name="textAreaTop" fmla="*/ 30960 h 1195560"/>
              <a:gd name="textAreaBottom" fmla="*/ 116460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32480" y="2216160"/>
            <a:ext cx="293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879800" y="4087800"/>
            <a:ext cx="379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3948120" y="5567400"/>
            <a:ext cx="669960" cy="504720"/>
          </a:xfrm>
          <a:custGeom>
            <a:avLst/>
            <a:gdLst>
              <a:gd name="textAreaLeft" fmla="*/ 0 w 669960"/>
              <a:gd name="textAreaRight" fmla="*/ 241920 w 6699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790880" y="5443560"/>
            <a:ext cx="42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82520" y="67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4719600" y="685800"/>
            <a:ext cx="3395880" cy="1191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933560" y="4641840"/>
            <a:ext cx="7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943640" y="53769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il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ron 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– 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most common metal in the Earth’s cr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und as haemat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ron (III) oxide (F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n be obtained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07280"/>
            <a:ext cx="7524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ShockwaveFlash1"/>
          <p:cNvGraphicFramePr/>
          <p:nvPr/>
        </p:nvGraphicFramePr>
        <p:xfrm>
          <a:off x="0" y="0"/>
          <a:ext cx="9144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65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duction of iron 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6320" y="4575240"/>
            <a:ext cx="7893000" cy="568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168560" y="3044880"/>
            <a:ext cx="6580080" cy="598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54160" y="1601640"/>
            <a:ext cx="6594480" cy="6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844640" y="160668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+ oxyge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24080" y="311616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dioxide + carbo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mon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88760" y="458316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monoxide + iron oxide 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ron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4211640" y="2349360"/>
            <a:ext cx="431640" cy="574920"/>
          </a:xfrm>
          <a:prstGeom prst="downArrow">
            <a:avLst>
              <a:gd name="adj1" fmla="val 50000"/>
              <a:gd name="adj2" fmla="val 332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211640" y="3789360"/>
            <a:ext cx="431640" cy="574560"/>
          </a:xfrm>
          <a:prstGeom prst="downArrow">
            <a:avLst>
              <a:gd name="adj1" fmla="val 50000"/>
              <a:gd name="adj2" fmla="val 332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moving impur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20640" y="1890720"/>
            <a:ext cx="7935840" cy="68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49440" y="3809880"/>
            <a:ext cx="7921440" cy="690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86960" y="1982880"/>
            <a:ext cx="7319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carbonat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oxide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1440" y="3902040"/>
            <a:ext cx="68925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oxide + silicon dioxid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silic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51920" y="5429160"/>
            <a:ext cx="28371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5214960" y="4571640"/>
            <a:ext cx="620640" cy="67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mmary of the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is not found naturally, but in Iron 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e can extract iron form iron ore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sing chemistry we can produce pure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imestone (Ca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) is used to remove impur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ke/Carbon gives us the high temperature we need for the reactions to take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45:16Z</dcterms:created>
  <dc:creator>St Lukes Science and Sports College</dc:creator>
  <dc:description/>
  <dc:language>en-US</dc:language>
  <cp:lastModifiedBy>LEGION</cp:lastModifiedBy>
  <dcterms:modified xsi:type="dcterms:W3CDTF">2017-01-26T09:39:45Z</dcterms:modified>
  <cp:revision>6</cp:revision>
  <dc:subject/>
  <dc:title>C1a Rocks and Metals</dc:title>
</cp:coreProperties>
</file>