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A038-152B-43AC-BC75-ABE203E6D2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a Rocks and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2 Extracting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1a Rocks and Metal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2 Extracting 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some metals be extracted using carbon when some can’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use to extract i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blast furnace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hemical reactions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can some metals be extracted using carbon when some can’t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we use to extract iron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es a blast furnace work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hemical reactions take place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traction of Ir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ction of Ir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 which metals can be extracted using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ble to describe how a blast furnac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stand which metals can be extracted using carb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able to describe how a blast furnace work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underst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rate yourself when thinking about extraction of met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understand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rate yourself when thinking about extraction of metals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rb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above carbon must be extracted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below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extracted from the ore by reduction using carbon, coke, or charc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and silver often do not ne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extracted. They occur n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vity of a metal determines the method of ex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activ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arbon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ing reactiv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s above carbon must be extracted using electrolysi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s below carb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extracted from the ore by reduction using carbon, coke, or charcoal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 and silver often do not need to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extracted. They occur native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activity of a metal determines the method of extraction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– 2nd most common metal in the Earth’s c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as haem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(III) oxide (Fe2O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obtained using a blast fur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ag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– 2nd most common metal in the Earth’s crus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as haematit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(III) oxide (Fe2O3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obtained using a blast furn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uction of iron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+ oxygen 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dioxide + carbon  carbon mon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monoxide + iron oxide   iron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duction of iron or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+ oxygen 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+ carbon  carbon mon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monoxide + iron oxide   iron +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moving impu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carbonate  calcium oxide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oxide + silicon dioxide  calcium silic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s is called S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moving impurit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cium carbonate  calcium oxide +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cium oxide + silicon dioxide  calcium silicate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is called SLA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not found naturally, but in Iron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xtract iron form iron ore using a Blast Fur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stry we can produce pure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(CaCO3) is used to remove impu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ke/Carbon gives us the high temperature we need for the reactions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the proces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is not found naturally, but in Iron Or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extract iron form iron ore using a Blast Furn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chemistry we can produce pure 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mestone (CaCO3) is used to remove impurit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ke/Carbon gives us the high temperature we need for the reactions to take pl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D2297-B32C-42DF-A3A2-74F78ABC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F0FF5-5D74-46A8-97A2-160F7CFB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A4ADD-C83B-427A-BF0B-C06B8317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0CB5F-311A-4360-AE16-A016A73D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2540-6C8D-452D-9EFD-5EABCF81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923B-BB38-408D-BCF9-8A820919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3655-1530-4135-8C43-3854CAC8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7CBA-55A0-485C-82FA-BB1F82BF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951A-5BA3-477F-AE85-135E14F1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C58F-CD41-4E55-8A5E-2819392A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A73A-A733-47A7-A39F-AF465DC0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6D105-8855-4DC2-A30F-44ACDAD2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96CC-26D8-4A98-94E2-F8532756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ED30-AAE2-449E-91A9-D42C72CB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E8E6-3C97-4341-B6B7-47FA9303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C33C-549F-4176-B928-0363818A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F620-4866-483A-ACA8-5CDC51B6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E396-F0D8-4856-8712-44F72149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1B010-705E-4D26-8645-E27CB0F0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FBE17-7914-4ACD-B3E4-CEC9FAE7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79F2D-3787-4F56-8B16-E47FEFF3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81403-5A1A-4CBC-A88D-E62B0F58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EE404-8B9A-421E-8D3A-15A5E06B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A36A5-9FA7-4A45-9194-C0B6C671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325B-6E0C-4C95-8279-487BDF65F38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7F2B-9574-4E27-8D48-48AB129302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C1a Rocks and Metal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2.2 Extracting I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earning outco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y can some metals be extracted using carbon when some can’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do we use to extract ir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How does a blast furnace work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chemical reactions take pl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Extraction of Ir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96920" y="2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ShockwaveFlash1"/>
          <p:cNvGraphicFramePr/>
          <p:nvPr/>
        </p:nvGraphicFramePr>
        <p:xfrm>
          <a:off x="762120" y="1066680"/>
          <a:ext cx="76215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21560" cy="51055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earning 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nderstand which metals can be extracted using carb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e able to describe how a blast furnace 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What do you understan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2359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       2       3       4       5       6       7       8       9       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475e"/>
                        </a:gs>
                        <a:gs pos="100000">
                          <a:srgbClr val="0099cc"/>
                        </a:gs>
                      </a:gsLst>
                      <a:lin ang="0"/>
                    </a:gradFill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know nothing                                            I am an expe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475e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would you rate yourself when thinking about extraction of metal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Line 81"/>
          <p:cNvSpPr/>
          <p:nvPr/>
        </p:nvSpPr>
        <p:spPr>
          <a:xfrm>
            <a:off x="2843280" y="3357720"/>
            <a:ext cx="3600360" cy="0"/>
          </a:xfrm>
          <a:prstGeom prst="line">
            <a:avLst/>
          </a:prstGeom>
          <a:ln w="60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1611360" y="863640"/>
            <a:ext cx="2179440" cy="54165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552680" y="3486240"/>
            <a:ext cx="5610240" cy="404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619280" y="907920"/>
            <a:ext cx="217656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The Reactiv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er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720800" y="164304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potass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35200" y="20318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od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778760" y="23558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alc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763640" y="2708280"/>
            <a:ext cx="16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magnes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752120" y="30780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lumin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953360" y="39276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zin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939320" y="4270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r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863720" y="49798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opp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983960" y="57182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gol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60480" y="34704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carbo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16"/>
          <p:cNvSpPr/>
          <p:nvPr/>
        </p:nvSpPr>
        <p:spPr>
          <a:xfrm flipV="1">
            <a:off x="746280" y="1788480"/>
            <a:ext cx="691920" cy="4446360"/>
          </a:xfrm>
          <a:prstGeom prst="downArrow">
            <a:avLst>
              <a:gd name="adj1" fmla="val 71565"/>
              <a:gd name="adj2" fmla="val 160653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reasing reactiv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3962520" y="1279440"/>
            <a:ext cx="669960" cy="2121120"/>
          </a:xfrm>
          <a:custGeom>
            <a:avLst/>
            <a:gdLst>
              <a:gd name="textAreaLeft" fmla="*/ 0 w 669960"/>
              <a:gd name="textAreaRight" fmla="*/ 241920 w 669960"/>
              <a:gd name="textAreaTop" fmla="*/ 55080 h 2121120"/>
              <a:gd name="textAreaBottom" fmla="*/ 2066040 h 212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18"/>
          <p:cNvSpPr/>
          <p:nvPr/>
        </p:nvSpPr>
        <p:spPr>
          <a:xfrm>
            <a:off x="4005360" y="4057560"/>
            <a:ext cx="669960" cy="1195560"/>
          </a:xfrm>
          <a:custGeom>
            <a:avLst/>
            <a:gdLst>
              <a:gd name="textAreaLeft" fmla="*/ 0 w 669960"/>
              <a:gd name="textAreaRight" fmla="*/ 241920 w 669960"/>
              <a:gd name="textAreaTop" fmla="*/ 30960 h 1195560"/>
              <a:gd name="textAreaBottom" fmla="*/ 1164600 h 11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4632480" y="2216160"/>
            <a:ext cx="293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ls above carbon must be extracted using electroly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879800" y="4087800"/>
            <a:ext cx="379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ls below carb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n be extracted from the ore by reduction using carbon, coke, or charco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AutoShape 21"/>
          <p:cNvSpPr/>
          <p:nvPr/>
        </p:nvSpPr>
        <p:spPr>
          <a:xfrm>
            <a:off x="3948120" y="5567400"/>
            <a:ext cx="669960" cy="504720"/>
          </a:xfrm>
          <a:custGeom>
            <a:avLst/>
            <a:gdLst>
              <a:gd name="textAreaLeft" fmla="*/ 0 w 669960"/>
              <a:gd name="textAreaRight" fmla="*/ 241920 w 6699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4790880" y="5443560"/>
            <a:ext cx="428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ld and silver often do not need t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 extracted. They occur nativ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182520" y="67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4719600" y="685800"/>
            <a:ext cx="3395880" cy="11912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eactivity of a metal determines the method of extra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933560" y="4641840"/>
            <a:ext cx="7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1943640" y="53769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il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ron 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ron – 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most common metal in the Earth’s cru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und as haemat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ron (III) oxide (F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an be obtained using a blast furn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107280"/>
            <a:ext cx="7524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8" name="ShockwaveFlash1"/>
          <p:cNvGraphicFramePr/>
          <p:nvPr/>
        </p:nvGraphicFramePr>
        <p:xfrm>
          <a:off x="0" y="0"/>
          <a:ext cx="914400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65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Reduction of iron o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6320" y="4575240"/>
            <a:ext cx="7893000" cy="568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168560" y="3044880"/>
            <a:ext cx="6580080" cy="598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154160" y="1601640"/>
            <a:ext cx="6594480" cy="684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844640" y="160668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+ oxygen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324080" y="3116160"/>
            <a:ext cx="62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dioxide + carbon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rbon mon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88760" y="4583160"/>
            <a:ext cx="76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monoxide + iron oxide 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ron +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4211640" y="2349360"/>
            <a:ext cx="431640" cy="574920"/>
          </a:xfrm>
          <a:prstGeom prst="downArrow">
            <a:avLst>
              <a:gd name="adj1" fmla="val 50000"/>
              <a:gd name="adj2" fmla="val 3329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211640" y="3789360"/>
            <a:ext cx="431640" cy="574560"/>
          </a:xfrm>
          <a:prstGeom prst="downArrow">
            <a:avLst>
              <a:gd name="adj1" fmla="val 50000"/>
              <a:gd name="adj2" fmla="val 3327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Removing impuri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20640" y="1890720"/>
            <a:ext cx="7935840" cy="6811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49440" y="3809880"/>
            <a:ext cx="7921440" cy="6908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786960" y="1982880"/>
            <a:ext cx="73191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ium carbonate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lcium oxide +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91440" y="3902040"/>
            <a:ext cx="68925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ium oxide + silicon dioxide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lcium silica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651920" y="5429160"/>
            <a:ext cx="28371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called SLA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0"/>
          <p:cNvSpPr/>
          <p:nvPr/>
        </p:nvSpPr>
        <p:spPr>
          <a:xfrm flipH="1" flipV="1">
            <a:off x="5214960" y="4571640"/>
            <a:ext cx="620640" cy="67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ummary of the proc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ron is not found naturally, but in Iron 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e can extract iron form iron ore using a Blast Furn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sing chemistry we can produce pure i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imestone (CaCO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) is used to remove impur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ke/Carbon gives us the high temperature we need for the reactions to take 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45:16Z</dcterms:created>
  <dc:creator>St Lukes Science and Sports College</dc:creator>
  <dc:description/>
  <dc:language>en-US</dc:language>
  <cp:lastModifiedBy>LEGION</cp:lastModifiedBy>
  <dcterms:modified xsi:type="dcterms:W3CDTF">2017-01-26T09:39:45Z</dcterms:modified>
  <cp:revision>6</cp:revision>
  <dc:subject/>
  <dc:title>C1a Rocks and Metals</dc:title>
</cp:coreProperties>
</file>