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5.wmf" ContentType="image/x-wmf"/>
  <Override PartName="/ppt/media/image3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EMICAL REACTION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Reactants: Zn +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oduct: Zn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454 g of NH4NO3 decomposes, how much N2O and H2O are formed?  What is the theoretical yield of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4NO3  ---&gt;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O  +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2 Convert mass reacta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Convert moles reactant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moles NH4NO3 to moles product expec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 NH4NO3 --&gt;  2 mol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this relation as the STOICHIOMETRIC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 11.4 mol H2O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 Convert moles product (11.4 mol) --&gt; mas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THEORETIC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FOLLOW THESE STEPS IN SOLVING STOICHIOMETRY PROBLE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LAN FOR STOICHIOMETRY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 How much N2O is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of reactants  =   total mass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NH4NO3 = ___ g N2O + 204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N2O = 250.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isolated only 131 g of N2O, what is the percent y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ares the theoretical (250. g) and actual (131 g) yiel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Using 5.00 g of H2O2, what mass of O2 and of H2O can be ob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2O2(liq)  ---&gt;  2 H2O(g)  +  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is catalyzed by M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moles of H2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mas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 the kind of reactants and products and their relative amounts in a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Involving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gent in short supply LIMITS the quantity of product that can b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reactant = 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limiting reactants on Screen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1:  Balloon inflates fully, some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re than enough Zn to use up the 0.100 mol H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2:  Balloon inflates fully, no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ight amount of each (HCl and Z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3:  Balloon does not inflate fully, no Z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Not enough Zn to use up 0.100 mol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+ 2 HCl ---&gt; Zn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CD Screen 4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5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93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00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00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 Reacta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 L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n + 2 HCl ---&gt; ZnCl2 + H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o be Stu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must be in the mole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Al to use up all the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 atoms + 3 O2 molecu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cu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moles of Al + 3 moles of O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Cl2 to use up all the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5.40 g of Al and 8.10 g of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 of LR 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moles of each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mole ratio of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gent is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all calcs. on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calculate ma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Cl6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Calculate mole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Calculate mas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was the limiting reacta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ind how much Al  is in ex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of which reactant will remain when reaction is comple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+  3 Cl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00 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14 mol = 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Excess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Al  =  Al available - Al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200 mol  -  0.0760 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124 mol Al in ex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Formula of a Hydrocarbon by Combu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R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0.115 g of a hydrocarbon, CxHy, and produce 0.379 g of CO2 and 0.1035 g of H2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mpirical formula of Cx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H2O molecule forms for each 2 H atoms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CO2 molecule forms for each C atom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the Conservation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lculate amount of C in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1 x 10-3 mol CO2 --&gt; 8.61 x 10-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culate amount of H in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44 x 10-3 mol H2O -- &gt;1.149 x 10-2 mol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149 x 10 -2 mol H/ 8.61 x 10-3 mol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1.33 mol H / 1.00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4 mol H / 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mpirical formula = C3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principle of the conservation of matt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mus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kind on both sid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 Al(s)  +  ___ Br2(liq) ---&gt; ___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C3H8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_CO2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B4H10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  B2O3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sts on the principle of the conservation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(s)  +   3 Br2(liq)  ------&gt;  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C42-68AA-45F8-8F0B-74B83D18C96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4vd1.mo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5vd1.mo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5m08an1.mo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3an1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4m02vd1.mo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4an1.mo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0043"/>
                </a:solidFill>
                <a:latin typeface="Comic Sans MS"/>
              </a:rPr>
              <a:t>CHEMICAL REACTIONS</a:t>
            </a:r>
            <a:br>
              <a:rPr sz="4800"/>
            </a:br>
            <a:r>
              <a:rPr b="1" lang="en-US" sz="3200" spc="-1" strike="noStrike">
                <a:solidFill>
                  <a:srgbClr val="6e0043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27" descr=""/>
          <p:cNvPicPr/>
          <p:nvPr/>
        </p:nvPicPr>
        <p:blipFill>
          <a:blip r:embed="rId1"/>
          <a:stretch/>
        </p:blipFill>
        <p:spPr>
          <a:xfrm>
            <a:off x="4707000" y="2085840"/>
            <a:ext cx="397044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8" descr=""/>
          <p:cNvPicPr/>
          <p:nvPr/>
        </p:nvPicPr>
        <p:blipFill>
          <a:blip r:embed="rId2"/>
          <a:stretch/>
        </p:blipFill>
        <p:spPr>
          <a:xfrm>
            <a:off x="476280" y="2085840"/>
            <a:ext cx="3746520" cy="372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975240" y="5846760"/>
            <a:ext cx="272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: Zn +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5470200" y="5846760"/>
            <a:ext cx="21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: Z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31"/>
          <p:cNvSpPr/>
          <p:nvPr/>
        </p:nvSpPr>
        <p:spPr>
          <a:xfrm>
            <a:off x="3911760" y="6095880"/>
            <a:ext cx="1396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1905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454 g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omposes, how much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re formed?  What is the theoretical yield of produ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4340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---&gt;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 +  2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1320" y="2610000"/>
            <a:ext cx="2489040" cy="3619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ass reacta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409760" y="2959200"/>
          <a:ext cx="62863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959200"/>
                    <a:ext cx="62863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1295280" y="40384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es reactant --&gt; moles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mole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oles product expec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l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 2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this relation as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STOICHIOMETRIC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343400" y="5372280"/>
          <a:ext cx="3505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372280"/>
                    <a:ext cx="350532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64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164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  11.4 mol 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O produ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143000" y="2857680"/>
          <a:ext cx="6985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7680"/>
                    <a:ext cx="6985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5"/>
          <p:cNvSpPr/>
          <p:nvPr/>
        </p:nvSpPr>
        <p:spPr>
          <a:xfrm>
            <a:off x="992160" y="1709640"/>
            <a:ext cx="761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8501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333440" y="3949560"/>
          <a:ext cx="64645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949560"/>
                    <a:ext cx="6464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1204920" y="1709640"/>
            <a:ext cx="7023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product (11.4 mol) --&gt; mas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95280" y="2971800"/>
            <a:ext cx="63248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HEORETIC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5181480"/>
            <a:ext cx="7772400" cy="9471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FOLLOW THESE STEPS IN SOLVING STOICHIOMETRY PROBL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7524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Comic Sans MS"/>
              </a:rPr>
              <a:t>GENERAL PLAN FOR STOICHIOMETRY 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225960" y="502920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133720" y="36068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1308240" y="2527200"/>
            <a:ext cx="1726920" cy="965160"/>
            <a:chOff x="1308240" y="2527200"/>
            <a:chExt cx="1726920" cy="965160"/>
          </a:xfrm>
        </p:grpSpPr>
        <p:sp>
          <p:nvSpPr>
            <p:cNvPr id="110" name="Rectangle 7"/>
            <p:cNvSpPr/>
            <p:nvPr/>
          </p:nvSpPr>
          <p:spPr>
            <a:xfrm>
              <a:off x="1308240" y="252720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1433880" y="25700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3261240" y="425304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384200" y="4584600"/>
            <a:ext cx="1650960" cy="965160"/>
            <a:chOff x="1384200" y="4584600"/>
            <a:chExt cx="1650960" cy="965160"/>
          </a:xfrm>
        </p:grpSpPr>
        <p:sp>
          <p:nvSpPr>
            <p:cNvPr id="114" name="Rectangle 11"/>
            <p:cNvSpPr/>
            <p:nvPr/>
          </p:nvSpPr>
          <p:spPr>
            <a:xfrm>
              <a:off x="1384200" y="458460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510200" y="46274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5651640" y="4584600"/>
            <a:ext cx="1650960" cy="965160"/>
            <a:chOff x="5651640" y="4584600"/>
            <a:chExt cx="1650960" cy="965160"/>
          </a:xfrm>
        </p:grpSpPr>
        <p:sp>
          <p:nvSpPr>
            <p:cNvPr id="117" name="Rectangle 14"/>
            <p:cNvSpPr/>
            <p:nvPr/>
          </p:nvSpPr>
          <p:spPr>
            <a:xfrm>
              <a:off x="5651640" y="458460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776200" y="46274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5651640" y="2451240"/>
            <a:ext cx="1650960" cy="965160"/>
            <a:chOff x="5651640" y="2451240"/>
            <a:chExt cx="1650960" cy="965160"/>
          </a:xfrm>
        </p:grpSpPr>
        <p:sp>
          <p:nvSpPr>
            <p:cNvPr id="120" name="Rectangle 17"/>
            <p:cNvSpPr/>
            <p:nvPr/>
          </p:nvSpPr>
          <p:spPr>
            <a:xfrm>
              <a:off x="5651640" y="245124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852520" y="249408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1550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otal mass of reactants  =   total ma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4 g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___ g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204 g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of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250.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percent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isolated only 131 g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, what is the percent y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pares the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0. g) and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31 g) yiel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231920" y="2705040"/>
          <a:ext cx="6057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705040"/>
                    <a:ext cx="6057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1200240" y="1746360"/>
            <a:ext cx="68414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e the percen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282680" y="4076640"/>
          <a:ext cx="595620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076640"/>
                    <a:ext cx="595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175248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:  Using 5.00 g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what mass of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can be obtai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285640"/>
            <a:ext cx="7607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)  ---&gt;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is catalyzed by 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 mas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ict the kind of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acta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roduc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ir relative amounts in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oichiometric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15920" y="137160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38480" y="4524480"/>
            <a:ext cx="41148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00"/>
                </a:solidFill>
                <a:latin typeface="Comic Sans MS"/>
              </a:rPr>
              <a:t>Reactions Involving a</a:t>
            </a:r>
            <a:br>
              <a:rPr sz="5400"/>
            </a:br>
            <a:r>
              <a:rPr b="0" lang="en-US" sz="6000" spc="-1" strike="noStrike">
                <a:solidFill>
                  <a:srgbClr val="005400"/>
                </a:solidFill>
                <a:latin typeface="Comic Sans MS"/>
              </a:rPr>
              <a:t>LIMITING REAC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gent in short supply 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quantity of product that can b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3775"/>
                </a:solidFill>
                <a:latin typeface="Comic Sans MS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07920" y="1162080"/>
            <a:ext cx="7302600" cy="2832120"/>
            <a:chOff x="907920" y="1162080"/>
            <a:chExt cx="7302600" cy="283212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907920" y="1162080"/>
              <a:ext cx="730260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003320" y="1231920"/>
              <a:ext cx="325116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965840" y="1231920"/>
              <a:ext cx="317484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415280" y="3443400"/>
            <a:ext cx="1311120" cy="254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44" name="Rectangle 8"/>
          <p:cNvSpPr/>
          <p:nvPr/>
        </p:nvSpPr>
        <p:spPr>
          <a:xfrm>
            <a:off x="1740240" y="3978360"/>
            <a:ext cx="184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702040" y="3978360"/>
            <a:ext cx="172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1306080" y="4495680"/>
            <a:ext cx="6122160" cy="713160"/>
            <a:chOff x="1306080" y="4495680"/>
            <a:chExt cx="6122160" cy="713160"/>
          </a:xfrm>
        </p:grpSpPr>
        <p:sp>
          <p:nvSpPr>
            <p:cNvPr id="147" name="Rectangle 11"/>
            <p:cNvSpPr/>
            <p:nvPr/>
          </p:nvSpPr>
          <p:spPr>
            <a:xfrm>
              <a:off x="1306080" y="4495680"/>
              <a:ext cx="61221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NO(g) + 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(g)      2 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965840" y="48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3"/>
          <p:cNvSpPr/>
          <p:nvPr/>
        </p:nvSpPr>
        <p:spPr>
          <a:xfrm>
            <a:off x="897840" y="5229360"/>
            <a:ext cx="6443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ss reactant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914400" y="1905120"/>
            <a:ext cx="723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720" y="48006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 of limiting reactants on Screen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971800" y="2070000"/>
          <a:ext cx="32004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070000"/>
                    <a:ext cx="32004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:  Balloon inflates fully, some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ore than enough Zn to use up the 0.100 mol HCl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775"/>
                </a:solidFill>
                <a:latin typeface="Times New Roman"/>
              </a:rPr>
              <a:t>Rxn 2:  Balloon inflates fully, no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* Right amount of each (HCl and Z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:  Balloon does not inflate fully, no Zn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* Not enough Zn to use up 0.100 mo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3160" y="76320"/>
            <a:ext cx="78483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191120" y="1982880"/>
            <a:ext cx="464796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525680" y="3581280"/>
            <a:ext cx="2283840" cy="520560"/>
            <a:chOff x="1525680" y="3581280"/>
            <a:chExt cx="2283840" cy="520560"/>
          </a:xfrm>
        </p:grpSpPr>
        <p:sp>
          <p:nvSpPr>
            <p:cNvPr id="159" name="Text Box 6"/>
            <p:cNvSpPr/>
            <p:nvPr/>
          </p:nvSpPr>
          <p:spPr>
            <a:xfrm>
              <a:off x="15256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24400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93775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343080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Object 9"/>
          <p:cNvGraphicFramePr/>
          <p:nvPr/>
        </p:nvGraphicFramePr>
        <p:xfrm>
          <a:off x="1371600" y="1004760"/>
          <a:ext cx="266688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9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04760"/>
                    <a:ext cx="266688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0"/>
          <p:cNvSpPr/>
          <p:nvPr/>
        </p:nvSpPr>
        <p:spPr>
          <a:xfrm>
            <a:off x="1446480" y="1219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e CD Screen 4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38098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x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93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2.00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5.00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m Reactant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HCl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 L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92504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43400" y="1204920"/>
            <a:ext cx="4495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19520" cy="255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18280" y="549360"/>
            <a:ext cx="6923520" cy="75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Reaction to be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868400" y="2868480"/>
            <a:ext cx="5369040" cy="321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839080" cy="13716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x 5.40 g of Al with 8.10 g of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mass of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fo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3225960" y="486396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3441600"/>
            <a:ext cx="0" cy="787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6553080" y="3416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308240" y="2362320"/>
            <a:ext cx="1726920" cy="965160"/>
            <a:chOff x="1308240" y="2362320"/>
            <a:chExt cx="1726920" cy="965160"/>
          </a:xfrm>
        </p:grpSpPr>
        <p:sp>
          <p:nvSpPr>
            <p:cNvPr id="177" name="Rectangle 7"/>
            <p:cNvSpPr/>
            <p:nvPr/>
          </p:nvSpPr>
          <p:spPr>
            <a:xfrm>
              <a:off x="1308240" y="236232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433880" y="24116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3261240" y="408780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384200" y="4419720"/>
            <a:ext cx="1650960" cy="965160"/>
            <a:chOff x="1384200" y="4419720"/>
            <a:chExt cx="1650960" cy="965160"/>
          </a:xfrm>
        </p:grpSpPr>
        <p:sp>
          <p:nvSpPr>
            <p:cNvPr id="181" name="Rectangle 11"/>
            <p:cNvSpPr/>
            <p:nvPr/>
          </p:nvSpPr>
          <p:spPr>
            <a:xfrm>
              <a:off x="1384200" y="441972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1510200" y="44690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5651640" y="4419720"/>
            <a:ext cx="1650960" cy="965160"/>
            <a:chOff x="5651640" y="4419720"/>
            <a:chExt cx="1650960" cy="965160"/>
          </a:xfrm>
        </p:grpSpPr>
        <p:sp>
          <p:nvSpPr>
            <p:cNvPr id="184" name="Rectangle 14"/>
            <p:cNvSpPr/>
            <p:nvPr/>
          </p:nvSpPr>
          <p:spPr>
            <a:xfrm>
              <a:off x="5651640" y="441972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76560" y="44690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51640" y="2286000"/>
            <a:ext cx="1650960" cy="965160"/>
            <a:chOff x="5651640" y="2286000"/>
            <a:chExt cx="1650960" cy="965160"/>
          </a:xfrm>
        </p:grpSpPr>
        <p:sp>
          <p:nvSpPr>
            <p:cNvPr id="187" name="Rectangle 17"/>
            <p:cNvSpPr/>
            <p:nvPr/>
          </p:nvSpPr>
          <p:spPr>
            <a:xfrm>
              <a:off x="5651640" y="228600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5852880" y="233532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03400" y="519120"/>
            <a:ext cx="403380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427040" y="3560760"/>
            <a:ext cx="6413760" cy="22834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of LR problem:  compar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 of reactants to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38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ants must be in the mole 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204920" y="290520"/>
            <a:ext cx="6400800" cy="20386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 1 of LR problem:  compare actual mole ratio of reactants to theoretical mol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706840" y="4803840"/>
          <a:ext cx="338760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4803840"/>
                    <a:ext cx="3387600" cy="118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52560" y="3886200"/>
            <a:ext cx="72388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Al to use up all the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1" name="Rectangle 7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8"/>
            <p:cNvGraphicFramePr/>
            <p:nvPr/>
          </p:nvGraphicFramePr>
          <p:xfrm>
            <a:off x="1882800" y="2603520"/>
            <a:ext cx="2901960" cy="101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603520"/>
                      <a:ext cx="2901960" cy="10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4" name="Text Box 9"/>
          <p:cNvSpPr/>
          <p:nvPr/>
        </p:nvSpPr>
        <p:spPr>
          <a:xfrm>
            <a:off x="1066680" y="5199120"/>
            <a:ext cx="55627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4 Al atoms + 3 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molecules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2 molecules of Al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4 moles of Al + 3 moles of 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2 moles of Al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70720" y="1454040"/>
            <a:ext cx="2819160" cy="3556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662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52640" y="3719520"/>
            <a:ext cx="65656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use up all th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9" name="Rectangle 6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Object 7"/>
            <p:cNvGraphicFramePr/>
            <p:nvPr/>
          </p:nvGraphicFramePr>
          <p:xfrm>
            <a:off x="1882800" y="2527200"/>
            <a:ext cx="2901960" cy="10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527200"/>
                      <a:ext cx="2901960" cy="10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Text Box 8"/>
          <p:cNvSpPr/>
          <p:nvPr/>
        </p:nvSpPr>
        <p:spPr>
          <a:xfrm>
            <a:off x="914400" y="4876920"/>
            <a:ext cx="59436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Cl</a:t>
            </a:r>
            <a:r>
              <a:rPr b="1" lang="en-US" sz="6000" spc="-1" strike="noStrike" baseline="-25000">
                <a:solidFill>
                  <a:srgbClr val="fc0128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4880" y="2225520"/>
            <a:ext cx="646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5.40 g of Al and 8.10 g of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 2 of LR problem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ate moles of each reac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66680" y="2895480"/>
            <a:ext cx="6705720" cy="1219320"/>
            <a:chOff x="1066680" y="2895480"/>
            <a:chExt cx="6705720" cy="1219320"/>
          </a:xfrm>
        </p:grpSpPr>
        <p:sp>
          <p:nvSpPr>
            <p:cNvPr id="217" name="Rectangle 5"/>
            <p:cNvSpPr/>
            <p:nvPr/>
          </p:nvSpPr>
          <p:spPr>
            <a:xfrm>
              <a:off x="1066680" y="2895480"/>
              <a:ext cx="670572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Object 6"/>
            <p:cNvGraphicFramePr/>
            <p:nvPr/>
          </p:nvGraphicFramePr>
          <p:xfrm>
            <a:off x="1366920" y="3043080"/>
            <a:ext cx="59148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6920" y="3043080"/>
                      <a:ext cx="591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7"/>
          <p:cNvGrpSpPr/>
          <p:nvPr/>
        </p:nvGrpSpPr>
        <p:grpSpPr>
          <a:xfrm>
            <a:off x="1066680" y="4495680"/>
            <a:ext cx="6782040" cy="1143000"/>
            <a:chOff x="1066680" y="4495680"/>
            <a:chExt cx="6782040" cy="1143000"/>
          </a:xfrm>
        </p:grpSpPr>
        <p:sp>
          <p:nvSpPr>
            <p:cNvPr id="221" name="Rectangle 8"/>
            <p:cNvSpPr/>
            <p:nvPr/>
          </p:nvSpPr>
          <p:spPr>
            <a:xfrm>
              <a:off x="1066680" y="4495680"/>
              <a:ext cx="6782040" cy="1143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9"/>
            <p:cNvGraphicFramePr/>
            <p:nvPr/>
          </p:nvGraphicFramePr>
          <p:xfrm>
            <a:off x="1336680" y="4643280"/>
            <a:ext cx="6281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4643280"/>
                      <a:ext cx="6281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mole ratio of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957400" y="2819520"/>
            <a:ext cx="5194440" cy="2496960"/>
            <a:chOff x="2957400" y="2819520"/>
            <a:chExt cx="5194440" cy="2496960"/>
          </a:xfrm>
        </p:grpSpPr>
        <p:sp>
          <p:nvSpPr>
            <p:cNvPr id="226" name="Arc 4"/>
            <p:cNvSpPr/>
            <p:nvPr/>
          </p:nvSpPr>
          <p:spPr>
            <a:xfrm>
              <a:off x="4038480" y="2819520"/>
              <a:ext cx="3098880" cy="1041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957400" y="3521160"/>
              <a:ext cx="5194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uld be 3/2, or 1.5/1, if reactants are present in the exact stoichiometric rati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6"/>
          <p:cNvSpPr/>
          <p:nvPr/>
        </p:nvSpPr>
        <p:spPr>
          <a:xfrm>
            <a:off x="3025800" y="5413320"/>
            <a:ext cx="4348080" cy="1025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miting reagent is </a:t>
            </a: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l</a:t>
            </a:r>
            <a:r>
              <a:rPr b="1" lang="en-US" sz="5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1101600" y="2184480"/>
          <a:ext cx="6597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184480"/>
                    <a:ext cx="6597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8"/>
          <p:cNvSpPr/>
          <p:nvPr/>
        </p:nvSpPr>
        <p:spPr>
          <a:xfrm>
            <a:off x="152388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5.40 g of Al with 8.10 g of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mass of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52480" y="1828800"/>
            <a:ext cx="5432400" cy="119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all calcs. on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225960" y="5943600"/>
            <a:ext cx="2234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133720" y="42926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553080" y="4266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1371600" y="5257800"/>
            <a:ext cx="1676520" cy="990360"/>
            <a:chOff x="1371600" y="5257800"/>
            <a:chExt cx="1676520" cy="990360"/>
          </a:xfrm>
        </p:grpSpPr>
        <p:sp>
          <p:nvSpPr>
            <p:cNvPr id="238" name="Rectangle 8"/>
            <p:cNvSpPr/>
            <p:nvPr/>
          </p:nvSpPr>
          <p:spPr>
            <a:xfrm>
              <a:off x="1371600" y="5257800"/>
              <a:ext cx="1676520" cy="990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1509840" y="5319720"/>
              <a:ext cx="1062360" cy="8708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0"/>
          <p:cNvGrpSpPr/>
          <p:nvPr/>
        </p:nvGrpSpPr>
        <p:grpSpPr>
          <a:xfrm>
            <a:off x="5638680" y="5257800"/>
            <a:ext cx="1676160" cy="990360"/>
            <a:chOff x="5638680" y="5257800"/>
            <a:chExt cx="1676160" cy="990360"/>
          </a:xfrm>
        </p:grpSpPr>
        <p:sp>
          <p:nvSpPr>
            <p:cNvPr id="241" name="Rectangle 11"/>
            <p:cNvSpPr/>
            <p:nvPr/>
          </p:nvSpPr>
          <p:spPr>
            <a:xfrm>
              <a:off x="5638680" y="5257800"/>
              <a:ext cx="1676160" cy="99036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5775840" y="5319720"/>
              <a:ext cx="1147680" cy="870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1295280" y="3200400"/>
            <a:ext cx="1752480" cy="990360"/>
            <a:chOff x="1295280" y="3200400"/>
            <a:chExt cx="1752480" cy="990360"/>
          </a:xfrm>
        </p:grpSpPr>
        <p:sp>
          <p:nvSpPr>
            <p:cNvPr id="244" name="Rectangle 14"/>
            <p:cNvSpPr/>
            <p:nvPr/>
          </p:nvSpPr>
          <p:spPr>
            <a:xfrm>
              <a:off x="1295280" y="3200400"/>
              <a:ext cx="1752480" cy="9903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1586160" y="3262320"/>
              <a:ext cx="1095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5638680" y="3200400"/>
            <a:ext cx="1676160" cy="990360"/>
            <a:chOff x="5638680" y="3200400"/>
            <a:chExt cx="1676160" cy="990360"/>
          </a:xfrm>
        </p:grpSpPr>
        <p:sp>
          <p:nvSpPr>
            <p:cNvPr id="247" name="Rectangle 17"/>
            <p:cNvSpPr/>
            <p:nvPr/>
          </p:nvSpPr>
          <p:spPr>
            <a:xfrm>
              <a:off x="5638680" y="3200400"/>
              <a:ext cx="1676160" cy="9903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5929200" y="3262320"/>
              <a:ext cx="1181160" cy="8708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276720" y="4648320"/>
            <a:ext cx="2057400" cy="1066680"/>
            <a:chOff x="3276720" y="4648320"/>
            <a:chExt cx="2057400" cy="1066680"/>
          </a:xfrm>
        </p:grpSpPr>
        <p:sp>
          <p:nvSpPr>
            <p:cNvPr id="250" name="Rectangle 20"/>
            <p:cNvSpPr/>
            <p:nvPr/>
          </p:nvSpPr>
          <p:spPr>
            <a:xfrm>
              <a:off x="3276720" y="4648320"/>
              <a:ext cx="2057400" cy="106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Object 21"/>
            <p:cNvGraphicFramePr/>
            <p:nvPr/>
          </p:nvGraphicFramePr>
          <p:xfrm>
            <a:off x="3429000" y="4800600"/>
            <a:ext cx="181620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800600"/>
                      <a:ext cx="181620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Rectangle 22"/>
          <p:cNvSpPr/>
          <p:nvPr/>
        </p:nvSpPr>
        <p:spPr>
          <a:xfrm>
            <a:off x="2286000" y="1143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2 Al  +  3 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 ---&gt;   A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98080" y="276120"/>
            <a:ext cx="7137000" cy="11311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CULATIONS:  calculate mas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x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76320" y="1616040"/>
            <a:ext cx="73278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ole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901800" y="2743200"/>
          <a:ext cx="73152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743200"/>
                    <a:ext cx="7315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838080" y="4952880"/>
          <a:ext cx="75312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952880"/>
                    <a:ext cx="7531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1143000" y="38098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as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limiting react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ind how much Al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838080" y="457200"/>
            <a:ext cx="71629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uch of which reactant will remain when reaction i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294600" y="1935000"/>
            <a:ext cx="2087280" cy="202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87000" y="1419120"/>
            <a:ext cx="2522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Al +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4051440" y="17524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786200" y="150984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99640" y="2347920"/>
            <a:ext cx="2031480" cy="57636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00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12280" y="2395440"/>
            <a:ext cx="3037320" cy="576360"/>
          </a:xfrm>
          <a:prstGeom prst="rect">
            <a:avLst/>
          </a:prstGeom>
          <a:solidFill>
            <a:srgbClr val="eaec5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4 mol = 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1752480" y="19051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 flipV="1">
            <a:off x="3276360" y="1905120"/>
            <a:ext cx="1522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61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ating Excess 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991080" y="4178160"/>
            <a:ext cx="6617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 Al  =  Al available - Al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1003320" y="3200400"/>
          <a:ext cx="71247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3200400"/>
                    <a:ext cx="712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12"/>
          <p:cNvSpPr/>
          <p:nvPr/>
        </p:nvSpPr>
        <p:spPr>
          <a:xfrm>
            <a:off x="990720" y="4800600"/>
            <a:ext cx="6705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0.200 mol  -  0.0760 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90720" y="54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0.124 mol Al in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etermining the Formula of a Hydrocarbon by 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3220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5257800" y="37339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R, page 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1676520" y="4873680"/>
          <a:ext cx="617220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3680"/>
                    <a:ext cx="61722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 0.115 g of a hydrocarbon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roduce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of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of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some oxygen ---&gt; 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433520" y="177480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794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380880" y="4419720"/>
            <a:ext cx="2979720" cy="1130040"/>
            <a:chOff x="380880" y="4419720"/>
            <a:chExt cx="2979720" cy="1130040"/>
          </a:xfrm>
        </p:grpSpPr>
        <p:grpSp>
          <p:nvGrpSpPr>
            <p:cNvPr id="289" name="Group 7"/>
            <p:cNvGrpSpPr/>
            <p:nvPr/>
          </p:nvGrpSpPr>
          <p:grpSpPr>
            <a:xfrm>
              <a:off x="380880" y="4419720"/>
              <a:ext cx="2979720" cy="757080"/>
              <a:chOff x="380880" y="4419720"/>
              <a:chExt cx="2979720" cy="757080"/>
            </a:xfrm>
          </p:grpSpPr>
          <p:sp>
            <p:nvSpPr>
              <p:cNvPr id="290" name="Freeform 8"/>
              <p:cNvSpPr/>
              <p:nvPr/>
            </p:nvSpPr>
            <p:spPr>
              <a:xfrm>
                <a:off x="380880" y="4419720"/>
                <a:ext cx="2979720" cy="757080"/>
              </a:xfrm>
              <a:custGeom>
                <a:avLst/>
                <a:gdLst/>
                <a:ahLst/>
                <a:rect l="l" t="t" r="r" b="b"/>
                <a:pathLst>
                  <a:path w="1877" h="477">
                    <a:moveTo>
                      <a:pt x="339" y="37"/>
                    </a:moveTo>
                    <a:cubicBezTo>
                      <a:pt x="461" y="25"/>
                      <a:pt x="581" y="19"/>
                      <a:pt x="705" y="16"/>
                    </a:cubicBezTo>
                    <a:cubicBezTo>
                      <a:pt x="763" y="12"/>
                      <a:pt x="821" y="9"/>
                      <a:pt x="880" y="0"/>
                    </a:cubicBezTo>
                    <a:cubicBezTo>
                      <a:pt x="1105" y="7"/>
                      <a:pt x="1343" y="45"/>
                      <a:pt x="1558" y="122"/>
                    </a:cubicBezTo>
                    <a:cubicBezTo>
                      <a:pt x="1622" y="145"/>
                      <a:pt x="1681" y="169"/>
                      <a:pt x="1743" y="196"/>
                    </a:cubicBezTo>
                    <a:cubicBezTo>
                      <a:pt x="1771" y="208"/>
                      <a:pt x="1809" y="216"/>
                      <a:pt x="1833" y="239"/>
                    </a:cubicBezTo>
                    <a:cubicBezTo>
                      <a:pt x="1862" y="267"/>
                      <a:pt x="1862" y="318"/>
                      <a:pt x="1876" y="355"/>
                    </a:cubicBezTo>
                    <a:cubicBezTo>
                      <a:pt x="1874" y="367"/>
                      <a:pt x="1877" y="381"/>
                      <a:pt x="1870" y="392"/>
                    </a:cubicBezTo>
                    <a:cubicBezTo>
                      <a:pt x="1824" y="455"/>
                      <a:pt x="1719" y="457"/>
                      <a:pt x="1653" y="461"/>
                    </a:cubicBezTo>
                    <a:cubicBezTo>
                      <a:pt x="1591" y="472"/>
                      <a:pt x="1536" y="474"/>
                      <a:pt x="1473" y="477"/>
                    </a:cubicBezTo>
                    <a:cubicBezTo>
                      <a:pt x="1322" y="473"/>
                      <a:pt x="1177" y="461"/>
                      <a:pt x="1028" y="456"/>
                    </a:cubicBezTo>
                    <a:cubicBezTo>
                      <a:pt x="771" y="431"/>
                      <a:pt x="512" y="419"/>
                      <a:pt x="255" y="413"/>
                    </a:cubicBezTo>
                    <a:cubicBezTo>
                      <a:pt x="143" y="403"/>
                      <a:pt x="228" y="415"/>
                      <a:pt x="180" y="403"/>
                    </a:cubicBezTo>
                    <a:cubicBezTo>
                      <a:pt x="157" y="397"/>
                      <a:pt x="112" y="387"/>
                      <a:pt x="112" y="387"/>
                    </a:cubicBezTo>
                    <a:cubicBezTo>
                      <a:pt x="103" y="381"/>
                      <a:pt x="94" y="375"/>
                      <a:pt x="85" y="371"/>
                    </a:cubicBezTo>
                    <a:cubicBezTo>
                      <a:pt x="69" y="363"/>
                      <a:pt x="37" y="350"/>
                      <a:pt x="37" y="350"/>
                    </a:cubicBezTo>
                    <a:cubicBezTo>
                      <a:pt x="21" y="321"/>
                      <a:pt x="8" y="291"/>
                      <a:pt x="0" y="260"/>
                    </a:cubicBezTo>
                    <a:cubicBezTo>
                      <a:pt x="1" y="252"/>
                      <a:pt x="4" y="219"/>
                      <a:pt x="11" y="207"/>
                    </a:cubicBezTo>
                    <a:cubicBezTo>
                      <a:pt x="52" y="123"/>
                      <a:pt x="148" y="119"/>
                      <a:pt x="223" y="85"/>
                    </a:cubicBezTo>
                    <a:cubicBezTo>
                      <a:pt x="266" y="64"/>
                      <a:pt x="292" y="50"/>
                      <a:pt x="339" y="43"/>
                    </a:cubicBezTo>
                    <a:cubicBezTo>
                      <a:pt x="359" y="35"/>
                      <a:pt x="360" y="37"/>
                      <a:pt x="339" y="37"/>
                    </a:cubicBez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9"/>
              <p:cNvSpPr/>
              <p:nvPr/>
            </p:nvSpPr>
            <p:spPr>
              <a:xfrm>
                <a:off x="910080" y="4608360"/>
                <a:ext cx="176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ddle of C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"/>
            <p:cNvSpPr/>
            <p:nvPr/>
          </p:nvSpPr>
          <p:spPr>
            <a:xfrm>
              <a:off x="1221120" y="51814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15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1"/>
          <p:cNvSpPr/>
          <p:nvPr/>
        </p:nvSpPr>
        <p:spPr>
          <a:xfrm>
            <a:off x="4876920" y="3809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5200"/>
                </a:solidFill>
                <a:latin typeface="Arial"/>
              </a:rPr>
              <a:t>0.379 g CO</a:t>
            </a:r>
            <a:r>
              <a:rPr b="1" lang="en-US" sz="2800" spc="-1" strike="noStrike" baseline="-25000">
                <a:solidFill>
                  <a:srgbClr val="0552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"/>
          <p:cNvGrpSpPr/>
          <p:nvPr/>
        </p:nvGrpSpPr>
        <p:grpSpPr>
          <a:xfrm>
            <a:off x="3124080" y="3962520"/>
            <a:ext cx="2286000" cy="1624680"/>
            <a:chOff x="3124080" y="3962520"/>
            <a:chExt cx="2286000" cy="1624680"/>
          </a:xfrm>
        </p:grpSpPr>
        <p:sp>
          <p:nvSpPr>
            <p:cNvPr id="295" name="Line 13"/>
            <p:cNvSpPr/>
            <p:nvPr/>
          </p:nvSpPr>
          <p:spPr>
            <a:xfrm flipV="1">
              <a:off x="3124080" y="4038480"/>
              <a:ext cx="1752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429000" y="5105520"/>
              <a:ext cx="198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511800" y="396252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3998880" y="518148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17"/>
          <p:cNvSpPr/>
          <p:nvPr/>
        </p:nvSpPr>
        <p:spPr>
          <a:xfrm>
            <a:off x="5486400" y="5195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1035 g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4800600" y="5775480"/>
            <a:ext cx="374976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molecule forms for each 2 H atoms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800600" y="4403880"/>
            <a:ext cx="3749760" cy="787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 forms for each C atom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w of the Conserva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876920" y="4694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4800600" y="1676520"/>
          <a:ext cx="36576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36576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alculate amount of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O</a:t>
            </a:r>
            <a:r>
              <a:rPr b="0" lang="en-US" sz="36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 --&gt; 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alculate amount of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.744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 -- &gt;1.14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ol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149 x 10 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2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mol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33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1.00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3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formula = C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of the principle of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ervation of mat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ation must b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balanc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kind on both sides.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32520" y="1714680"/>
            <a:ext cx="2705040" cy="4281840"/>
            <a:chOff x="6032520" y="1714680"/>
            <a:chExt cx="2705040" cy="4281840"/>
          </a:xfrm>
        </p:grpSpPr>
        <p:sp>
          <p:nvSpPr>
            <p:cNvPr id="62" name="Rectangle 5"/>
            <p:cNvSpPr/>
            <p:nvPr/>
          </p:nvSpPr>
          <p:spPr>
            <a:xfrm>
              <a:off x="6227640" y="554184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voisier, 17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6032520" y="1714680"/>
              <a:ext cx="2705040" cy="3606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</p:grpSp>
      <p:sp>
        <p:nvSpPr>
          <p:cNvPr id="64" name="Line 7"/>
          <p:cNvSpPr/>
          <p:nvPr/>
        </p:nvSpPr>
        <p:spPr>
          <a:xfrm>
            <a:off x="1015920" y="129528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720" y="761760"/>
            <a:ext cx="35812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Al(s)  +  ___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q) ---&gt; ___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47640" y="3633840"/>
            <a:ext cx="7658280" cy="29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914400" y="304920"/>
          <a:ext cx="3048120" cy="25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4920"/>
                    <a:ext cx="30481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37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----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584600"/>
            <a:ext cx="792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_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 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----&gt;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  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762120" y="380880"/>
          <a:ext cx="3657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3657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6590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sts on the principle of 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nservation of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23880" y="56386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l(s)  +   3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q)  ------&gt;  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3960" y="2338560"/>
            <a:ext cx="7657920" cy="290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J. Kotz</dc:creator>
  <dc:description/>
  <cp:keywords/>
  <dc:language>en-US</dc:language>
  <cp:lastModifiedBy>LEGION</cp:lastModifiedBy>
  <cp:lastPrinted>2002-08-08T15:40:28Z</cp:lastPrinted>
  <dcterms:modified xsi:type="dcterms:W3CDTF">2017-01-26T09:39:28Z</dcterms:modified>
  <cp:revision>56</cp:revision>
  <dc:subject/>
  <dc:title>CHEMICAL REACTIONS Chapter 4</dc:title>
</cp:coreProperties>
</file>