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4E21-05C7-446E-80C9-C2130E0D2B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, 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, 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nmetal carbon exists as an element in several 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familiar with two of them—diamond and graph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nmetal carbon exists as an element in several 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familiar with two of them—diamond and graph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also is found in all living th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is followed by the metalloid silicon, an abundant element contained in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 contains ground up particles of minerals such as quartz, which is composed of silicon and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ass is an important product made from s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also is found in all living th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is followed by the metalloid silicon, an abundant element contained in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 contains ground up particles of minerals such as quartz, which is composed of silicon and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ass is an important product made from s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icon and its Group 14 neighbor, germanium, are metallo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used in electronics as semicondu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miconductor doesn’t conduct electricity as well as metal, but does conduct electricity better than a non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icon and its Group 14 neighbor, germanium, are metallo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used in electronics as semicondu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miconductor doesn’t conduct electricity as well as metal, but does conduct electricity better than a non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 and lead are the two heaviest elements in Group 1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 is used to protect your torso during dental X r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is used in car batteries, low-milting alloys, protective shielding around nuclear reactors, and containers used for storing and transporting radioactive materi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 is used in pewter, toothpaste, and the coating on steel cans used for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 and lead are the two heaviest elements in Group 1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 is used to protect your torso during dental X r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is used in car batteries, low-milting alloys, protective shielding around nuclear reactors, and containers used for storing and transporting radioactive materi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 is used in pewter, toothpaste, and the coating on steel cans used for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0142-2A3B-4276-9CB8-E474549ED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98D5-90B5-4257-BE5A-2CB84057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2C27-2262-4808-9E80-5B642B7C3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D168-2444-4BFA-924D-810576D2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AAFB-2487-4FDB-866A-F44E2D49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93FC-98E7-446F-BB13-6630212F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C4E0-B47A-450C-B641-1C6202E8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A745-A3A5-4DEA-AD2A-A9C9A810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C14B-2EE1-4C0E-844D-4902B57C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E608-654A-4628-BB03-066C7F10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E512-2B8F-4F0B-BACE-43B2C552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7A71-3158-4100-9DCD-6E5E0EB9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86C7-73AF-43A1-BA4F-2C6D53E82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14, the Carbon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35576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onmetal carbon exists as an element in several form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3520" y="2422440"/>
            <a:ext cx="35049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’re familiar with two of them—diamond and graphi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m25"/>
          <p:cNvPicPr/>
          <p:nvPr/>
        </p:nvPicPr>
        <p:blipFill>
          <a:blip r:embed="rId1"/>
          <a:stretch/>
        </p:blipFill>
        <p:spPr>
          <a:xfrm>
            <a:off x="3909960" y="1981080"/>
            <a:ext cx="39448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1390680"/>
            <a:ext cx="7391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 also is found in all living thing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33520" y="21016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 is followed by the metalloid silicon, an abundant element contained in san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533520" y="3244680"/>
            <a:ext cx="82296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nd contains ground up particles of minerals such as quartz, which is composed of silicon and oxy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33520" y="482292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lass is an important product made from s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533520" y="137160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licon and its Group 14 neighbor, germanium, are metalloid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533520" y="2460600"/>
            <a:ext cx="5486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used in electronics as semiconduct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533520" y="3508200"/>
            <a:ext cx="51051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miconduct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esn’t conduct electricity as well as metal, but does conduct electricity better than a nonmetal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im27 semiconductor"/>
          <p:cNvPicPr/>
          <p:nvPr/>
        </p:nvPicPr>
        <p:blipFill>
          <a:blip r:embed="rId1"/>
          <a:stretch/>
        </p:blipFill>
        <p:spPr>
          <a:xfrm>
            <a:off x="5715000" y="2057400"/>
            <a:ext cx="2965320" cy="32986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0"/>
          <p:cNvSpPr/>
          <p:nvPr/>
        </p:nvSpPr>
        <p:spPr>
          <a:xfrm>
            <a:off x="873000" y="3962520"/>
            <a:ext cx="47656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533520" y="121932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n and lead are the two heaviest elements in Group 1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33520" y="214308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 is used to protect your torso during dental X ray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533520" y="307008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also is used in car batteries, low-milting alloys, protective shielding around nuclear reactors, and containers used for storing and transporting radioactive mate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33520" y="487368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n is used in pewter, toothpaste, and the coating on steel cans used for f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17:32Z</dcterms:created>
  <dc:creator>CIC1</dc:creator>
  <dc:description/>
  <dc:language>en-US</dc:language>
  <cp:lastModifiedBy>RomaK</cp:lastModifiedBy>
  <dcterms:modified xsi:type="dcterms:W3CDTF">2015-09-01T16:26:47Z</dcterms:modified>
  <cp:revision>6</cp:revision>
  <dc:subject/>
  <dc:title>Group 14, the Carbon Group</dc:title>
</cp:coreProperties>
</file>