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85FE-936B-4718-8434-BEF2BDD7DE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96C-0825-4F73-9D3A-5DFA296E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C98-BE0E-4C54-9720-8A180C1C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8D5-C698-4638-AD74-00B5D5C6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FD1-1C14-44A8-99B5-F23EB2FC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9B39-7214-43B4-8643-E2174021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0454-7412-444C-A8BC-7B3987D9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16F-3450-45AF-87E6-832E8A00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0404-026A-42CB-A4CE-BD56510D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77D-F231-4243-A69E-7A560226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DD1-CE97-458F-BBCB-938D9A80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008F-B2DA-4687-8B3D-CB0A53D1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832-D7F6-4334-BBDF-03EAC075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08A1-EB63-439F-969E-DA5619E7C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4, the Carbo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557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nmetal carbon exists as an element in several f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’re familiar with two of them—diamond and graph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5"/>
          <p:cNvPicPr/>
          <p:nvPr/>
        </p:nvPicPr>
        <p:blipFill>
          <a:blip r:embed="rId1"/>
          <a:stretch/>
        </p:blipFill>
        <p:spPr>
          <a:xfrm>
            <a:off x="3909960" y="1981080"/>
            <a:ext cx="3944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90680"/>
            <a:ext cx="739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also is found in all living thing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21016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is followed by the metalloid silicon, an abundant element contained in san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3520" y="324468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 contains ground up particles of minerals such as quartz, which is composed of silicon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3520" y="4822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ss is an important product made from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520" y="13716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icon and its Group 14 neighbor, germanium, are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2460600"/>
            <a:ext cx="5486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used in electronics as semicondu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508200"/>
            <a:ext cx="5105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micond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esn’t conduct electricity as well as metal, but does conduct electricity better than a nonmeta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im27 semiconductor"/>
          <p:cNvPicPr/>
          <p:nvPr/>
        </p:nvPicPr>
        <p:blipFill>
          <a:blip r:embed="rId1"/>
          <a:stretch/>
        </p:blipFill>
        <p:spPr>
          <a:xfrm>
            <a:off x="5715000" y="2057400"/>
            <a:ext cx="2965320" cy="3298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873000" y="3962520"/>
            <a:ext cx="4765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and lead are the two heaviest elements in Group 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21430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is used to protect your torso during dental X ray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3520" y="307008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48736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is used in pewter, toothpaste, and the coating on steel cans used for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7:32Z</dcterms:created>
  <dc:creator>CIC1</dc:creator>
  <dc:description/>
  <dc:language>en-US</dc:language>
  <cp:lastModifiedBy>RomaK</cp:lastModifiedBy>
  <dcterms:modified xsi:type="dcterms:W3CDTF">2015-09-01T16:26:47Z</dcterms:modified>
  <cp:revision>6</cp:revision>
  <dc:subject/>
  <dc:title>Group 14, the Carbon Group</dc:title>
</cp:coreProperties>
</file>