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. 10 -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. 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p.272-2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where there is 90% probability of finding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pinpoint the location of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of dots represents degree of prob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s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at certain 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energy levels are close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nergy level (n) can hold 2n2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. 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ied energy levels using Bohr’s idea of circular orb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tomic #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: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p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e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n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Bohr Model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number between 1 &amp; 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your element by the atomic number you pic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hr Model diagram for your element on your marker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ff the mass listed on the table and subtract the atomic # to find the #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breviate the # of ‘p’ and ‘n’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artner check your dra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with a new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E0F-F8D1-4B34-B27E-8D2D3EEF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003-A96A-45D4-9C9D-7ACE7C5A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3F0-C821-45CF-8B86-3DE073BB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F44-8302-4A0A-A244-EE639672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FD46-E5F3-4741-9CAF-5C1993EC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DD42-2183-46C7-A3B4-94B50598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7D24-CE92-45EC-BE9D-01C5CA4B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1EB0-BB57-409A-AEF7-B9DC44F7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8179-F7BB-4672-8C04-BECC557F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DD0B-4D0F-481C-921C-58480B9D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3DAF-139C-4AEA-9008-50D067F6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51E-3C19-46FF-AA19-7C4CA3F7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490D-83DE-49C6-8F9A-32598B90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FE88-1137-4C26-B95C-0E3239A0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9F51-BC54-40DD-B997-DA23A5E8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D0FA-FC46-4BA2-BFD0-A8B94942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243B-02F0-4BB4-855C-84730B70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C1E-25C6-42B1-A1A0-613B7700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E3EE-94B0-4555-89DF-6C11A04F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32B-F8E8-4E7E-A3A2-D39E8E5D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CF9A-0E68-413D-8F97-4B16BE01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C09-D85C-492A-AECC-0530AED4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1AB-F220-4E08-969E-BE3298C0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F8B-1C24-431F-BD57-BF0C0F03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6835-9764-4996-AD6B-CB79AAA905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8B49-1F2B-4F96-8EF8-C3B4919FD3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Ch. 10 - Atomic Structure 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01760" y="2916360"/>
            <a:ext cx="834048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II.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(p.272-274)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Bohr Model Diagram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9840" y="205740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Region where there is 90% probability of finding an electron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Electron Cloud.avi" descr=""/>
          <p:cNvPicPr/>
          <p:nvPr/>
        </p:nvPicPr>
        <p:blipFill>
          <a:blip r:embed="rId1"/>
          <a:stretch/>
        </p:blipFill>
        <p:spPr>
          <a:xfrm>
            <a:off x="4486320" y="3340080"/>
            <a:ext cx="4494240" cy="283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1" name="Rectangle 5"/>
          <p:cNvSpPr/>
          <p:nvPr/>
        </p:nvSpPr>
        <p:spPr>
          <a:xfrm>
            <a:off x="339840" y="3193920"/>
            <a:ext cx="41209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an’t pinpoint the location of an electron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Density of dots represents degree of probability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s have different shape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22360" y="4091040"/>
            <a:ext cx="1400040" cy="14000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219400" y="4145040"/>
            <a:ext cx="3701880" cy="129060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6261120" y="3525840"/>
            <a:ext cx="2268360" cy="25304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B. Energy Level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2080" y="2614680"/>
            <a:ext cx="580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lectrons can only exist at certain energy level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Low energy levels are close to the nucleu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ach energy level (n) can hold 2n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 electron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Electron Excitation.avi" descr=""/>
          <p:cNvPicPr/>
          <p:nvPr/>
        </p:nvPicPr>
        <p:blipFill>
          <a:blip r:embed="rId1"/>
          <a:stretch/>
        </p:blipFill>
        <p:spPr>
          <a:xfrm>
            <a:off x="6581880" y="2800440"/>
            <a:ext cx="2363760" cy="3743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Diagram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mplified energy levels using Bohr’s idea of circular orbit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3403440" y="3960720"/>
            <a:ext cx="2140200" cy="214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5110200" y="5489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3406680" y="4157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309360" y="4863960"/>
            <a:ext cx="257652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ximum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36600" y="3384720"/>
            <a:ext cx="215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it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ic #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ss: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p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e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n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3990960" y="4532400"/>
            <a:ext cx="963720" cy="998280"/>
            <a:chOff x="3990960" y="4532400"/>
            <a:chExt cx="963720" cy="998280"/>
          </a:xfrm>
        </p:grpSpPr>
        <p:sp>
          <p:nvSpPr>
            <p:cNvPr id="121" name="Oval 20"/>
            <p:cNvSpPr/>
            <p:nvPr/>
          </p:nvSpPr>
          <p:spPr>
            <a:xfrm>
              <a:off x="4043520" y="50068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Oval 21"/>
            <p:cNvSpPr/>
            <p:nvPr/>
          </p:nvSpPr>
          <p:spPr>
            <a:xfrm>
              <a:off x="4284720" y="453240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Oval 22"/>
            <p:cNvSpPr/>
            <p:nvPr/>
          </p:nvSpPr>
          <p:spPr>
            <a:xfrm>
              <a:off x="3990960" y="4680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Oval 23"/>
            <p:cNvSpPr/>
            <p:nvPr/>
          </p:nvSpPr>
          <p:spPr>
            <a:xfrm>
              <a:off x="4272120" y="514656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Oval 24"/>
            <p:cNvSpPr/>
            <p:nvPr/>
          </p:nvSpPr>
          <p:spPr>
            <a:xfrm>
              <a:off x="4281480" y="4815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Oval 25"/>
            <p:cNvSpPr/>
            <p:nvPr/>
          </p:nvSpPr>
          <p:spPr>
            <a:xfrm>
              <a:off x="4565880" y="469260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4570560" y="50212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" name="Oval 27"/>
          <p:cNvSpPr/>
          <p:nvPr/>
        </p:nvSpPr>
        <p:spPr>
          <a:xfrm>
            <a:off x="2986200" y="3543480"/>
            <a:ext cx="2975040" cy="2974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Oval 28"/>
          <p:cNvSpPr/>
          <p:nvPr/>
        </p:nvSpPr>
        <p:spPr>
          <a:xfrm>
            <a:off x="5392800" y="378792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34"/>
          <p:cNvGrpSpPr/>
          <p:nvPr/>
        </p:nvGrpSpPr>
        <p:grpSpPr>
          <a:xfrm>
            <a:off x="5089320" y="3079800"/>
            <a:ext cx="3861000" cy="1838160"/>
            <a:chOff x="5089320" y="3079800"/>
            <a:chExt cx="3861000" cy="1838160"/>
          </a:xfrm>
        </p:grpSpPr>
        <p:sp>
          <p:nvSpPr>
            <p:cNvPr id="131" name="AutoShape 29"/>
            <p:cNvSpPr/>
            <p:nvPr/>
          </p:nvSpPr>
          <p:spPr>
            <a:xfrm>
              <a:off x="6262560" y="3079800"/>
              <a:ext cx="2687760" cy="14857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n replace with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5089320" y="3979800"/>
              <a:ext cx="1487160" cy="93816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7161120" y="3600360"/>
              <a:ext cx="895320" cy="90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Activity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1760" y="2057400"/>
            <a:ext cx="892188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4000"/>
          </a:bodyPr>
          <a:p>
            <a:pPr marL="116640" indent="-116640">
              <a:spcBef>
                <a:spcPts val="70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oose a number between 1 &amp; 18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nd your element by the atomic number you picke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a Bohr Model diagram for your element on your marker bo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und off the mass listed on the table and subtract the atomic # to find the # of neutron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breviate the # of ‘p’ and ‘n’ in the nucleu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ve a partner check your drawing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eat with a new elemen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son</dc:creator>
  <dc:description/>
  <dc:language>en-US</dc:language>
  <cp:lastModifiedBy>LEGION</cp:lastModifiedBy>
  <dcterms:modified xsi:type="dcterms:W3CDTF">2017-01-26T09:18:35Z</dcterms:modified>
  <cp:revision>92</cp:revision>
  <dc:subject/>
  <dc:title>II. Electron Cloud Model</dc:title>
</cp:coreProperties>
</file>