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-46080" bIns="-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h. 10 - Atomic Structu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I. Electron Cloud Mode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(p.272-27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rbi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nergy Lev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ohr Model Diagr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Orbi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where there is 90% probability of finding an electr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’t pinpoint the location of an electr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sity of dots represents degree of probabi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Orbi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bitals have different shap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Energy Lev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s can only exist at certain energy leve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 energy levels are close to the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energy level (n) can hold 2n2 elec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. Bohr Model Diagr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implified energy levels using Bohr’s idea of circular orbi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aximum 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evel 1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evel 2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8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evel 3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8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evel 4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2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ith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tomic #: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ass: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# of p: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# of e: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# of n: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Bohr Model A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ose a number between 1 &amp; 18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your element by the atomic number you pick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w a Bohr Model diagram for your element on your marker boar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und off the mass listed on the table and subtract the atomic # to find the # of neu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breviate the # of ‘p’ and ‘n’ in the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a partner check your draw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eat with a new ele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E13B-8B5E-4E11-8152-C53187827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4A12-39D1-4112-8980-793BC6379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EE75-75D4-4B57-B9EB-73DE81034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87CA-D0FD-4671-BF60-E07ECCB25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E03B7-5F19-4A5D-9D9E-AB4C7EE1F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6BAE2-C22E-4AD0-B0EB-5B42AF592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89081-95C5-497A-BDAD-0357C5FDE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2B8DE-0F62-4881-AD26-EA3EE0D15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D74FF-9171-4211-AFE6-22142EFA4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8D1D1-64FD-4B0D-8525-82CFFC818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DA464-7EBC-482F-8C28-C0CB8B7BE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D40D-57DE-46C0-8157-FAC42076F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62F45-BD88-4F17-8115-0E768DC4C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9D990-2594-4EDD-B99D-0763970DC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A1249-F48D-4BD8-9C9A-A2CB4ED34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F91E4-757C-4936-BA79-BB472DF7A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109CA-9141-4CB7-A5DF-05147F41C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8D3A-106F-46DA-B5B8-4CCC49974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A00D-E567-475D-81AA-0FAD81323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ED0B-8548-4A6B-AEBB-14347B2BE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57E2-BDA6-4870-9357-324B30F3F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7851-028F-4E89-BC38-2CD8EF6FF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36DC-1109-4993-A56F-2F1DB541E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8A96-7A8D-420F-8C1A-EF1B87A37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457200" y="992160"/>
            <a:ext cx="8153280" cy="1600200"/>
            <a:chOff x="457200" y="992160"/>
            <a:chExt cx="8153280" cy="1600200"/>
          </a:xfrm>
        </p:grpSpPr>
        <p:sp>
          <p:nvSpPr>
            <p:cNvPr id="1" name="Arc 2"/>
            <p:cNvSpPr/>
            <p:nvPr/>
          </p:nvSpPr>
          <p:spPr>
            <a:xfrm>
              <a:off x="5707080" y="9921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3"/>
            <p:cNvSpPr/>
            <p:nvPr/>
          </p:nvSpPr>
          <p:spPr>
            <a:xfrm>
              <a:off x="5632560" y="11574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4"/>
            <p:cNvSpPr/>
            <p:nvPr/>
          </p:nvSpPr>
          <p:spPr>
            <a:xfrm>
              <a:off x="5589720" y="13780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utoShape 5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850"/>
              </a:spcBef>
              <a:buClr>
                <a:srgbClr val="ff9933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  <a:p>
            <a:pPr lvl="1" marL="698400" indent="-268560">
              <a:spcBef>
                <a:spcPts val="85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  <a:p>
            <a:pPr lvl="2" marL="1074240" indent="-214560">
              <a:spcBef>
                <a:spcPts val="85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  <a:p>
            <a:pPr lvl="3" marL="1504080" indent="-214560">
              <a:spcBef>
                <a:spcPts val="85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  <a:p>
            <a:pPr lvl="4" marL="1933920" indent="-214560">
              <a:spcBef>
                <a:spcPts val="85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  <a:p>
            <a:pPr lvl="5" marL="1933920" indent="-214560">
              <a:spcBef>
                <a:spcPts val="85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  <a:p>
            <a:pPr lvl="6" marL="1933920" indent="-214560">
              <a:spcBef>
                <a:spcPts val="85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8B74F-6604-4926-99CA-94EE9495CF9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6"/>
          <p:cNvGrpSpPr/>
          <p:nvPr/>
        </p:nvGrpSpPr>
        <p:grpSpPr>
          <a:xfrm>
            <a:off x="468360" y="1663560"/>
            <a:ext cx="8153280" cy="1600200"/>
            <a:chOff x="468360" y="1663560"/>
            <a:chExt cx="8153280" cy="1600200"/>
          </a:xfrm>
        </p:grpSpPr>
        <p:sp>
          <p:nvSpPr>
            <p:cNvPr id="47" name="Arc 2"/>
            <p:cNvSpPr/>
            <p:nvPr/>
          </p:nvSpPr>
          <p:spPr>
            <a:xfrm>
              <a:off x="5718240" y="16635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3"/>
            <p:cNvSpPr/>
            <p:nvPr/>
          </p:nvSpPr>
          <p:spPr>
            <a:xfrm>
              <a:off x="5643720" y="18288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4"/>
            <p:cNvSpPr/>
            <p:nvPr/>
          </p:nvSpPr>
          <p:spPr>
            <a:xfrm>
              <a:off x="5600880" y="20494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utoShape 5"/>
            <p:cNvSpPr/>
            <p:nvPr/>
          </p:nvSpPr>
          <p:spPr>
            <a:xfrm>
              <a:off x="468360" y="23796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850"/>
              </a:spcBef>
              <a:buClr>
                <a:srgbClr val="ff9933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  <a:p>
            <a:pPr lvl="1" marL="698400" indent="-268560">
              <a:spcBef>
                <a:spcPts val="85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  <a:p>
            <a:pPr lvl="2" marL="1074240" indent="-214560">
              <a:spcBef>
                <a:spcPts val="85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  <a:p>
            <a:pPr lvl="3" marL="1504080" indent="-214560">
              <a:spcBef>
                <a:spcPts val="85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  <a:p>
            <a:pPr lvl="4" marL="1933920" indent="-214560">
              <a:spcBef>
                <a:spcPts val="85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  <a:p>
            <a:pPr lvl="5" marL="1933920" indent="-214560">
              <a:spcBef>
                <a:spcPts val="85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  <a:p>
            <a:pPr lvl="6" marL="1933920" indent="-214560">
              <a:spcBef>
                <a:spcPts val="85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09EAA-A566-451B-A4C5-01CE2A2E0B5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560" y="367920"/>
            <a:ext cx="7994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cc66"/>
                </a:solidFill>
                <a:latin typeface="Arial"/>
              </a:rPr>
              <a:t>Ch. 10 - Atomic Structure </a:t>
            </a:r>
            <a:endParaRPr b="1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01760" y="2916360"/>
            <a:ext cx="8340480" cy="132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cc"/>
                </a:solidFill>
                <a:latin typeface="Arial"/>
              </a:rPr>
              <a:t>II.</a:t>
            </a:r>
            <a:r>
              <a:rPr b="0" lang="en-US" sz="3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3800" spc="-1" strike="noStrike">
                <a:solidFill>
                  <a:srgbClr val="ffffcc"/>
                </a:solidFill>
                <a:latin typeface="Arial"/>
              </a:rPr>
              <a:t>Electron Cloud Model</a:t>
            </a:r>
            <a:r>
              <a:rPr b="0" lang="en-US" sz="3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(p.272-274)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  <a:p>
            <a:pPr lvl="4" marL="2062080" indent="-453960">
              <a:lnSpc>
                <a:spcPct val="100000"/>
              </a:lnSpc>
              <a:spcBef>
                <a:spcPts val="1701"/>
              </a:spcBef>
              <a:buClr>
                <a:srgbClr val="ff9933"/>
              </a:buClr>
              <a:buSzPct val="90000"/>
              <a:buFont typeface="Symbol" charset="2"/>
              <a:buChar char="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Orbital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  <a:p>
            <a:pPr lvl="4" marL="2062080" indent="-453960">
              <a:lnSpc>
                <a:spcPct val="100000"/>
              </a:lnSpc>
              <a:spcBef>
                <a:spcPts val="1701"/>
              </a:spcBef>
              <a:buClr>
                <a:srgbClr val="ff9933"/>
              </a:buClr>
              <a:buSzPct val="90000"/>
              <a:buFont typeface="Symbol" charset="2"/>
              <a:buChar char="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Energy Levels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  <a:p>
            <a:pPr lvl="4" marL="2062080" indent="-453960">
              <a:lnSpc>
                <a:spcPct val="100000"/>
              </a:lnSpc>
              <a:spcBef>
                <a:spcPts val="1701"/>
              </a:spcBef>
              <a:buClr>
                <a:srgbClr val="ff9933"/>
              </a:buClr>
              <a:buSzPct val="90000"/>
              <a:buFont typeface="Symbol" charset="2"/>
              <a:buChar char="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Bohr Model Diagrams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A. Orbital</a:t>
            </a: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39840" y="205740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850"/>
              </a:spcBef>
              <a:buClr>
                <a:srgbClr val="ff9933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Region where there is 90% probability of finding an electron.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0" name="Electron Cloud.avi" descr=""/>
          <p:cNvPicPr/>
          <p:nvPr/>
        </p:nvPicPr>
        <p:blipFill>
          <a:blip r:embed="rId1"/>
          <a:stretch/>
        </p:blipFill>
        <p:spPr>
          <a:xfrm>
            <a:off x="4486320" y="3340080"/>
            <a:ext cx="4494240" cy="28321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1" name="Rectangle 5"/>
          <p:cNvSpPr/>
          <p:nvPr/>
        </p:nvSpPr>
        <p:spPr>
          <a:xfrm>
            <a:off x="339840" y="3193920"/>
            <a:ext cx="412092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850"/>
              </a:spcBef>
              <a:buClr>
                <a:srgbClr val="ff9933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Can’t pinpoint the location of an electron.</a:t>
            </a:r>
            <a:endParaRPr b="0" lang="en-US" sz="34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850"/>
              </a:spcBef>
              <a:buClr>
                <a:srgbClr val="ff9933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Density of dots represents degree of probability.</a:t>
            </a:r>
            <a:endParaRPr b="0" lang="en-US" sz="3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1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25" nodeType="clickEffect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A. Orbital</a:t>
            </a: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89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850"/>
              </a:spcBef>
              <a:buClr>
                <a:srgbClr val="ff9933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Orbitals have different shapes.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5" name="Picture 4" descr=""/>
          <p:cNvPicPr/>
          <p:nvPr/>
        </p:nvPicPr>
        <p:blipFill>
          <a:blip r:embed="rId1"/>
          <a:stretch/>
        </p:blipFill>
        <p:spPr>
          <a:xfrm>
            <a:off x="522360" y="4091040"/>
            <a:ext cx="1400040" cy="1400040"/>
          </a:xfrm>
          <a:prstGeom prst="rect">
            <a:avLst/>
          </a:prstGeom>
          <a:ln w="12600">
            <a:solidFill>
              <a:srgbClr val="ffffcc"/>
            </a:solidFill>
            <a:miter/>
          </a:ln>
        </p:spPr>
      </p:pic>
      <p:pic>
        <p:nvPicPr>
          <p:cNvPr id="106" name="Picture 5" descr=""/>
          <p:cNvPicPr/>
          <p:nvPr/>
        </p:nvPicPr>
        <p:blipFill>
          <a:blip r:embed="rId2"/>
          <a:stretch/>
        </p:blipFill>
        <p:spPr>
          <a:xfrm>
            <a:off x="2219400" y="4145040"/>
            <a:ext cx="3701880" cy="1290600"/>
          </a:xfrm>
          <a:prstGeom prst="rect">
            <a:avLst/>
          </a:prstGeom>
          <a:ln w="12600">
            <a:solidFill>
              <a:srgbClr val="ffffcc"/>
            </a:solidFill>
            <a:miter/>
          </a:ln>
        </p:spPr>
      </p:pic>
      <p:pic>
        <p:nvPicPr>
          <p:cNvPr id="107" name="Picture 6" descr=""/>
          <p:cNvPicPr/>
          <p:nvPr/>
        </p:nvPicPr>
        <p:blipFill>
          <a:blip r:embed="rId3"/>
          <a:stretch/>
        </p:blipFill>
        <p:spPr>
          <a:xfrm>
            <a:off x="6261120" y="3525840"/>
            <a:ext cx="2268360" cy="2530440"/>
          </a:xfrm>
          <a:prstGeom prst="rect">
            <a:avLst/>
          </a:prstGeom>
          <a:ln w="12600">
            <a:solidFill>
              <a:srgbClr val="ffffcc"/>
            </a:solidFill>
            <a:miter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B. Energy Levels</a:t>
            </a: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52080" y="2614680"/>
            <a:ext cx="5807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701"/>
              </a:spcBef>
              <a:buClr>
                <a:srgbClr val="ff9933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Electrons can only exist at certain energy levels.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1701"/>
              </a:spcBef>
              <a:buClr>
                <a:srgbClr val="ff9933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Low energy levels are close to the nucleus.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1701"/>
              </a:spcBef>
              <a:buClr>
                <a:srgbClr val="ff9933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Each energy level (n) can hold 2n</a:t>
            </a:r>
            <a:r>
              <a:rPr b="0" lang="en-US" sz="3400" spc="-1" strike="noStrike" baseline="30000">
                <a:solidFill>
                  <a:srgbClr val="ffffcc"/>
                </a:solidFill>
                <a:latin typeface="Arial"/>
              </a:rPr>
              <a:t>2</a:t>
            </a: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 electrons.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1" name="Electron Excitation.avi" descr=""/>
          <p:cNvPicPr/>
          <p:nvPr/>
        </p:nvPicPr>
        <p:blipFill>
          <a:blip r:embed="rId1"/>
          <a:stretch/>
        </p:blipFill>
        <p:spPr>
          <a:xfrm>
            <a:off x="6581880" y="2800440"/>
            <a:ext cx="2363760" cy="374328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74" nodeType="clickEffect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7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C. Bohr Model Diagrams</a:t>
            </a: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38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850"/>
              </a:spcBef>
              <a:buClr>
                <a:srgbClr val="ff9933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Simplified energy levels using Bohr’s idea of circular orbits.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Oval 6"/>
          <p:cNvSpPr/>
          <p:nvPr/>
        </p:nvSpPr>
        <p:spPr>
          <a:xfrm>
            <a:off x="3403440" y="3960720"/>
            <a:ext cx="2140200" cy="214020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Oval 12"/>
          <p:cNvSpPr/>
          <p:nvPr/>
        </p:nvSpPr>
        <p:spPr>
          <a:xfrm>
            <a:off x="5110200" y="5489640"/>
            <a:ext cx="384120" cy="3841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Oval 13"/>
          <p:cNvSpPr/>
          <p:nvPr/>
        </p:nvSpPr>
        <p:spPr>
          <a:xfrm>
            <a:off x="3406680" y="4157640"/>
            <a:ext cx="384120" cy="3841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Text Box 14"/>
          <p:cNvSpPr/>
          <p:nvPr/>
        </p:nvSpPr>
        <p:spPr>
          <a:xfrm>
            <a:off x="6309360" y="4863960"/>
            <a:ext cx="2576520" cy="19227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aximum e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e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vel 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e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vel 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8e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vel 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2e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Text Box 15"/>
          <p:cNvSpPr/>
          <p:nvPr/>
        </p:nvSpPr>
        <p:spPr>
          <a:xfrm>
            <a:off x="336600" y="3384720"/>
            <a:ext cx="21535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774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Lithiu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4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tomic #: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4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Mass:    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4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4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# of p: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4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# of e: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4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# of n: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20" name="Group 26"/>
          <p:cNvGrpSpPr/>
          <p:nvPr/>
        </p:nvGrpSpPr>
        <p:grpSpPr>
          <a:xfrm>
            <a:off x="3990960" y="4532400"/>
            <a:ext cx="963720" cy="998280"/>
            <a:chOff x="3990960" y="4532400"/>
            <a:chExt cx="963720" cy="998280"/>
          </a:xfrm>
        </p:grpSpPr>
        <p:sp>
          <p:nvSpPr>
            <p:cNvPr id="121" name="Oval 20"/>
            <p:cNvSpPr/>
            <p:nvPr/>
          </p:nvSpPr>
          <p:spPr>
            <a:xfrm>
              <a:off x="4043520" y="5006880"/>
              <a:ext cx="384120" cy="3841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2" name="Oval 21"/>
            <p:cNvSpPr/>
            <p:nvPr/>
          </p:nvSpPr>
          <p:spPr>
            <a:xfrm>
              <a:off x="4284720" y="4532400"/>
              <a:ext cx="384120" cy="3841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3" name="Oval 22"/>
            <p:cNvSpPr/>
            <p:nvPr/>
          </p:nvSpPr>
          <p:spPr>
            <a:xfrm>
              <a:off x="3990960" y="4680000"/>
              <a:ext cx="384480" cy="384120"/>
            </a:xfrm>
            <a:prstGeom prst="ellipse">
              <a:avLst/>
            </a:prstGeom>
            <a:solidFill>
              <a:srgbClr val="00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4" name="Oval 23"/>
            <p:cNvSpPr/>
            <p:nvPr/>
          </p:nvSpPr>
          <p:spPr>
            <a:xfrm>
              <a:off x="4272120" y="5146560"/>
              <a:ext cx="384120" cy="384120"/>
            </a:xfrm>
            <a:prstGeom prst="ellipse">
              <a:avLst/>
            </a:prstGeom>
            <a:solidFill>
              <a:srgbClr val="00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5" name="Oval 24"/>
            <p:cNvSpPr/>
            <p:nvPr/>
          </p:nvSpPr>
          <p:spPr>
            <a:xfrm>
              <a:off x="4281480" y="4815000"/>
              <a:ext cx="384480" cy="384120"/>
            </a:xfrm>
            <a:prstGeom prst="ellipse">
              <a:avLst/>
            </a:prstGeom>
            <a:solidFill>
              <a:srgbClr val="00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6" name="Oval 25"/>
            <p:cNvSpPr/>
            <p:nvPr/>
          </p:nvSpPr>
          <p:spPr>
            <a:xfrm>
              <a:off x="4565880" y="4692600"/>
              <a:ext cx="384120" cy="384120"/>
            </a:xfrm>
            <a:prstGeom prst="ellipse">
              <a:avLst/>
            </a:prstGeom>
            <a:solidFill>
              <a:srgbClr val="00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7" name="Oval 19"/>
            <p:cNvSpPr/>
            <p:nvPr/>
          </p:nvSpPr>
          <p:spPr>
            <a:xfrm>
              <a:off x="4570560" y="5021280"/>
              <a:ext cx="384120" cy="3841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28" name="Oval 27"/>
          <p:cNvSpPr/>
          <p:nvPr/>
        </p:nvSpPr>
        <p:spPr>
          <a:xfrm>
            <a:off x="2986200" y="3543480"/>
            <a:ext cx="2975040" cy="29746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Oval 28"/>
          <p:cNvSpPr/>
          <p:nvPr/>
        </p:nvSpPr>
        <p:spPr>
          <a:xfrm>
            <a:off x="5392800" y="3787920"/>
            <a:ext cx="384120" cy="3841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30" name="Group 34"/>
          <p:cNvGrpSpPr/>
          <p:nvPr/>
        </p:nvGrpSpPr>
        <p:grpSpPr>
          <a:xfrm>
            <a:off x="5089320" y="3079800"/>
            <a:ext cx="3861000" cy="1838160"/>
            <a:chOff x="5089320" y="3079800"/>
            <a:chExt cx="3861000" cy="1838160"/>
          </a:xfrm>
        </p:grpSpPr>
        <p:sp>
          <p:nvSpPr>
            <p:cNvPr id="131" name="AutoShape 29"/>
            <p:cNvSpPr/>
            <p:nvPr/>
          </p:nvSpPr>
          <p:spPr>
            <a:xfrm>
              <a:off x="6262560" y="3079800"/>
              <a:ext cx="2687760" cy="1485720"/>
            </a:xfrm>
            <a:prstGeom prst="roundRect">
              <a:avLst>
                <a:gd name="adj" fmla="val 16667"/>
              </a:avLst>
            </a:prstGeom>
            <a:solidFill>
              <a:srgbClr val="ffcc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an replace with: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p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4n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2" name="Line 30"/>
            <p:cNvSpPr/>
            <p:nvPr/>
          </p:nvSpPr>
          <p:spPr>
            <a:xfrm flipH="1">
              <a:off x="5089320" y="3979800"/>
              <a:ext cx="1487160" cy="938160"/>
            </a:xfrm>
            <a:prstGeom prst="line">
              <a:avLst/>
            </a:prstGeom>
            <a:ln w="57240">
              <a:solidFill>
                <a:srgbClr val="ffcc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3" name="Oval 31"/>
            <p:cNvSpPr/>
            <p:nvPr/>
          </p:nvSpPr>
          <p:spPr>
            <a:xfrm>
              <a:off x="7161120" y="3600360"/>
              <a:ext cx="895320" cy="9003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34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C. Bohr Model Activity</a:t>
            </a: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21760" y="2057400"/>
            <a:ext cx="8921880" cy="138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34000"/>
          </a:bodyPr>
          <a:p>
            <a:pPr marL="116640" indent="-116640">
              <a:spcBef>
                <a:spcPts val="700"/>
              </a:spcBef>
              <a:buClr>
                <a:srgbClr val="ff9933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hoose a number between 1 &amp; 18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116640" indent="-116640">
              <a:spcBef>
                <a:spcPts val="1049"/>
              </a:spcBef>
              <a:buClr>
                <a:srgbClr val="ff9933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Find your element by the atomic number you picked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116640" indent="-116640">
              <a:spcBef>
                <a:spcPts val="1049"/>
              </a:spcBef>
              <a:buClr>
                <a:srgbClr val="ff9933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Draw a Bohr Model diagram for your element on your marker board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252360" indent="-96840">
              <a:spcBef>
                <a:spcPts val="70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Round off the mass listed on the table and subtract the atomic # to find the # of neutrons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252360" indent="-96840">
              <a:spcBef>
                <a:spcPts val="70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bbreviate the # of ‘p’ and ‘n’ in the nucleus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116640" indent="-116640">
              <a:spcBef>
                <a:spcPts val="1049"/>
              </a:spcBef>
              <a:buClr>
                <a:srgbClr val="ff9933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Have a partner check your drawing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116640" indent="-116640">
              <a:spcBef>
                <a:spcPts val="1049"/>
              </a:spcBef>
              <a:buClr>
                <a:srgbClr val="ff9933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Repeat with a new element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7T19:51:21Z</dcterms:created>
  <dc:creator>Mrs. Johannesson</dc:creator>
  <dc:description/>
  <dc:language>en-US</dc:language>
  <cp:lastModifiedBy>LEGION</cp:lastModifiedBy>
  <dcterms:modified xsi:type="dcterms:W3CDTF">2017-01-26T09:18:35Z</dcterms:modified>
  <cp:revision>92</cp:revision>
  <dc:subject/>
  <dc:title>II. Electron Cloud Model</dc:title>
</cp:coreProperties>
</file>