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54838" cy="8413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84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2680" y="630360"/>
            <a:ext cx="420876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8A3763-58ED-49F9-B9D3-A68CC595F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6640" y="3995280"/>
            <a:ext cx="5100840" cy="37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raw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Grade Chemistry U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67B-F326-47D9-BA3A-806D1184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3BA-7849-4410-A0C4-6AC41E05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360-B828-442E-AFB6-6DFA2020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D36-44B4-4F6F-B442-9545F933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1AD-7857-4B14-B9D5-EAAD7EA6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49A-7D02-439E-B9AB-2FB20D57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00E-9853-46AC-B3AF-949EC1AD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622-C0E9-4B62-B743-18C7AA1C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EE4-04A8-4DBA-B9D2-67FA8446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1C0-F86E-496B-A266-24C192C4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D69-E48B-4ABF-BE6B-D846111F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A06-E1B7-4FD2-9D41-E834B12A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3AB0-B8C3-4847-9C34-F231EE797B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BCDD-5802-4C94-8C45-FC8761932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hem4kid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to Draw Bohr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Chemistry Uni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2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8"/>
          <p:cNvSpPr/>
          <p:nvPr/>
        </p:nvSpPr>
        <p:spPr>
          <a:xfrm>
            <a:off x="30492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3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9"/>
          <p:cNvSpPr/>
          <p:nvPr/>
        </p:nvSpPr>
        <p:spPr>
          <a:xfrm>
            <a:off x="40384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76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1"/>
          <p:cNvSpPr/>
          <p:nvPr/>
        </p:nvSpPr>
        <p:spPr>
          <a:xfrm>
            <a:off x="2057400" y="1981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0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3"/>
          <p:cNvSpPr/>
          <p:nvPr/>
        </p:nvSpPr>
        <p:spPr>
          <a:xfrm>
            <a:off x="304920" y="1752480"/>
            <a:ext cx="4724280" cy="434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81120" y="1828800"/>
            <a:ext cx="35816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9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8"/>
          <p:cNvSpPr/>
          <p:nvPr/>
        </p:nvSpPr>
        <p:spPr>
          <a:xfrm>
            <a:off x="68580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114300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1523880" y="2971800"/>
            <a:ext cx="221004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"/>
          <p:cNvSpPr/>
          <p:nvPr/>
        </p:nvSpPr>
        <p:spPr>
          <a:xfrm>
            <a:off x="205740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505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137160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962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22096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9144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3"/>
          <p:cNvSpPr/>
          <p:nvPr/>
        </p:nvSpPr>
        <p:spPr>
          <a:xfrm>
            <a:off x="22096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3962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26668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9144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26668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44197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1"/>
          <p:cNvSpPr/>
          <p:nvPr/>
        </p:nvSpPr>
        <p:spPr>
          <a:xfrm>
            <a:off x="22096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4572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4"/>
          <p:cNvSpPr/>
          <p:nvPr/>
        </p:nvSpPr>
        <p:spPr>
          <a:xfrm>
            <a:off x="44197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5"/>
          <p:cNvSpPr/>
          <p:nvPr/>
        </p:nvSpPr>
        <p:spPr>
          <a:xfrm>
            <a:off x="26668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6"/>
          <p:cNvSpPr/>
          <p:nvPr/>
        </p:nvSpPr>
        <p:spPr>
          <a:xfrm>
            <a:off x="4572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7"/>
          <p:cNvSpPr/>
          <p:nvPr/>
        </p:nvSpPr>
        <p:spPr>
          <a:xfrm>
            <a:off x="48769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8"/>
          <p:cNvSpPr/>
          <p:nvPr/>
        </p:nvSpPr>
        <p:spPr>
          <a:xfrm>
            <a:off x="26668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9"/>
          <p:cNvSpPr/>
          <p:nvPr/>
        </p:nvSpPr>
        <p:spPr>
          <a:xfrm>
            <a:off x="22096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26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Liz\Local Settings\Temporary Internet Files\Content.IE5\XWDO7Y24\MCj02265120000[1].wmf"/>
          <p:cNvPicPr/>
          <p:nvPr/>
        </p:nvPicPr>
        <p:blipFill>
          <a:blip r:embed="rId1"/>
          <a:stretch/>
        </p:blipFill>
        <p:spPr>
          <a:xfrm>
            <a:off x="2971800" y="4648320"/>
            <a:ext cx="2743200" cy="195876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 flipH="1">
            <a:off x="5409720" y="4342320"/>
            <a:ext cx="2743920" cy="1524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peri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ve one energy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1" lang="en-US" sz="3000" spc="-1" strike="noStrike" baseline="30000">
                <a:solidFill>
                  <a:srgbClr val="ffc000"/>
                </a:solidFill>
                <a:latin typeface="Arial"/>
              </a:rPr>
              <a:t>nd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perio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two energy levels,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Periodic Table showing Periods"/>
          <p:cNvPicPr/>
          <p:nvPr/>
        </p:nvPicPr>
        <p:blipFill>
          <a:blip r:embed="rId1"/>
          <a:stretch/>
        </p:blipFill>
        <p:spPr>
          <a:xfrm>
            <a:off x="152280" y="201924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3200400" y="6248520"/>
            <a:ext cx="274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chem4kids.c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434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is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, so it has two energy levels, or sh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1640" y="2673360"/>
            <a:ext cx="3814920" cy="25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o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two electrons can fit in th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up to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18, but the elements in the first few periods only use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1640" y="175248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20:07:57Z</dcterms:created>
  <dc:creator>MBraman</dc:creator>
  <dc:description/>
  <dc:language>en-US</dc:language>
  <cp:lastModifiedBy>LEGION</cp:lastModifiedBy>
  <dcterms:modified xsi:type="dcterms:W3CDTF">2017-01-26T09:18:53Z</dcterms:modified>
  <cp:revision>269</cp:revision>
  <dc:subject/>
  <dc:title>8th Grade Do Now 11/02/2010</dc:title>
</cp:coreProperties>
</file>