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EC6D-C5B4-47D8-8F8B-BDA5FD1D7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, Fingernail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, Penn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t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ldspar, Glas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a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, Hematite, Magnetite: 5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ides:  Dense, Usually Metal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004-7E06-4430-856D-4E574C18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53E-1999-4140-8DEF-BAC8272E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457-310F-46CD-8139-9AA903DE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10C-9ACB-470C-A4AF-AB6F1F52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B16-E09D-44DB-86E9-C352813F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0BB-A4C0-48AC-B255-E0FE43E6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A6D-2227-4C10-9E9E-3F35889B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F5D-79F1-4383-84B6-E8FEB8F5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276-7FFB-4780-AF8B-51B00286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C86-CD29-4EEF-A345-4536025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E21-4C5C-4BD0-93D9-44D5451B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2F9-944F-4131-BE94-70CBD56E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4C11-A307-4F3B-B6D0-9D7D7193A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1676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892920" cy="42483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51274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6280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28" descr="D:\working copy\GRAPHIC0\ROCKMIN\ATOM-STRUCT\Lattice1.gif"/>
          <p:cNvPicPr/>
          <p:nvPr/>
        </p:nvPicPr>
        <p:blipFill>
          <a:blip r:embed="rId1"/>
          <a:stretch/>
        </p:blipFill>
        <p:spPr>
          <a:xfrm>
            <a:off x="1676520" y="26668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D:\working copy\GRAPHIC0\ROCKMIN\Radicals.gif"/>
          <p:cNvPicPr/>
          <p:nvPr/>
        </p:nvPicPr>
        <p:blipFill>
          <a:blip r:embed="rId1"/>
          <a:stretch/>
        </p:blipFill>
        <p:spPr>
          <a:xfrm>
            <a:off x="1523880" y="2440080"/>
            <a:ext cx="6324840" cy="407520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own, Fizzes in Ac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nse, Brittle, Metallic,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:\Cartoons\PrimMailFraud.gif"/>
          <p:cNvPicPr/>
          <p:nvPr/>
        </p:nvPicPr>
        <p:blipFill>
          <a:blip r:embed="rId1"/>
          <a:srcRect l="0" t="8104" r="0" b="0"/>
          <a:stretch/>
        </p:blipFill>
        <p:spPr>
          <a:xfrm>
            <a:off x="4114800" y="228600"/>
            <a:ext cx="5029200" cy="604980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nsity - gm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1371600" y="1622520"/>
            <a:ext cx="6458040" cy="52354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tre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used for glassy lu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28" descr="D:\working copy\GRAPHIC0\ROCKMIN\Diffgrat0.gif"/>
          <p:cNvPicPr/>
          <p:nvPr/>
        </p:nvPicPr>
        <p:blipFill>
          <a:blip r:embed="rId1"/>
          <a:stretch/>
        </p:blipFill>
        <p:spPr>
          <a:xfrm>
            <a:off x="380880" y="22096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D:\working copy\GRAPHIC0\ROCKMIN\Diffgrat1.gif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4131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A:\MVC-018S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A:\MVC-022S.JPG"/>
          <p:cNvPicPr/>
          <p:nvPr/>
        </p:nvPicPr>
        <p:blipFill>
          <a:blip r:embed="rId1"/>
          <a:stretch/>
        </p:blipFill>
        <p:spPr>
          <a:xfrm>
            <a:off x="228600" y="1514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:\MVC-021S.JPG"/>
          <p:cNvPicPr/>
          <p:nvPr/>
        </p:nvPicPr>
        <p:blipFill>
          <a:blip r:embed="rId2"/>
          <a:stretch/>
        </p:blipFill>
        <p:spPr>
          <a:xfrm>
            <a:off x="5562720" y="1523880"/>
            <a:ext cx="3338280" cy="461196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4572000" y="2209680"/>
            <a:ext cx="429588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, Pb, Zn, F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GB1405 - dutchs\GEOPHOTO\RockMin\CuNugget3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 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copyrite 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alerite 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ybdenite Mo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ite C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psum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te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uxite Al(OH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 hydrox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undum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uby, Sapphi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ates: Fizz in Acid, Give of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mite CaMg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-4 cha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working copy\GRAPHIC0\sio4a.gif"/>
          <p:cNvPicPr/>
          <p:nvPr/>
        </p:nvPicPr>
        <p:blipFill>
          <a:blip r:embed="rId1"/>
          <a:srcRect l="2025" t="0" r="52186" b="65100"/>
          <a:stretch/>
        </p:blipFill>
        <p:spPr>
          <a:xfrm>
            <a:off x="3886200" y="2590920"/>
            <a:ext cx="4876920" cy="2730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85800" y="220968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:\working copy\GRAPHIC0\cyclo1.gif"/>
          <p:cNvPicPr/>
          <p:nvPr/>
        </p:nvPicPr>
        <p:blipFill>
          <a:blip r:embed="rId1"/>
          <a:srcRect l="14518" t="-1587" r="69331" b="78407"/>
          <a:stretch/>
        </p:blipFill>
        <p:spPr>
          <a:xfrm>
            <a:off x="1295280" y="2286000"/>
            <a:ext cx="2702160" cy="318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257800" y="28954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D:\working copy\GRAPHIC0\cyclo1.gif"/>
          <p:cNvPicPr/>
          <p:nvPr/>
        </p:nvPicPr>
        <p:blipFill>
          <a:blip r:embed="rId1"/>
          <a:srcRect l="0" t="24786" r="58750" b="47829"/>
          <a:stretch/>
        </p:blipFill>
        <p:spPr>
          <a:xfrm>
            <a:off x="1600200" y="1828800"/>
            <a:ext cx="365760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:\working copy\GRAPHIC0\cyclo1.gif"/>
          <p:cNvPicPr/>
          <p:nvPr/>
        </p:nvPicPr>
        <p:blipFill>
          <a:blip r:embed="rId2"/>
          <a:srcRect l="40000" t="0" r="31250" b="41078"/>
          <a:stretch/>
        </p:blipFill>
        <p:spPr>
          <a:xfrm>
            <a:off x="5410080" y="1828800"/>
            <a:ext cx="2522520" cy="4246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90720" y="41148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D:\working copy\GRAPHIC0\ROCKMIN\ATOM-STRUCT\INO1A.GIF"/>
          <p:cNvPicPr/>
          <p:nvPr/>
        </p:nvPicPr>
        <p:blipFill>
          <a:blip r:embed="rId1"/>
          <a:srcRect l="0" t="-588" r="-1140" b="48768"/>
          <a:stretch/>
        </p:blipFill>
        <p:spPr>
          <a:xfrm>
            <a:off x="533520" y="1981080"/>
            <a:ext cx="8076960" cy="385308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:  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partic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5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8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:\working copy\GRAPHIC0\ROCKMIN\ATOM-STRUCT\INO2A.GIF"/>
          <p:cNvPicPr/>
          <p:nvPr/>
        </p:nvPicPr>
        <p:blipFill>
          <a:blip r:embed="rId1"/>
          <a:srcRect l="0" t="0" r="0" b="47783"/>
          <a:stretch/>
        </p:blipFill>
        <p:spPr>
          <a:xfrm>
            <a:off x="304920" y="243828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D:\working copy\GRAPHIC0\ROCKMIN\ATOM-STRUCT\phyllo0.gif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ets with layers of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D:\working copy\GRAPHIC0\ROCKMIN\ATOM-STRUCT\QuartzStruc.gif"/>
          <p:cNvPicPr/>
          <p:nvPr/>
        </p:nvPicPr>
        <p:blipFill>
          <a:blip r:embed="rId1"/>
          <a:stretch/>
        </p:blipFill>
        <p:spPr>
          <a:xfrm>
            <a:off x="533520" y="2666880"/>
            <a:ext cx="3292200" cy="372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working copy\GRAPHIC0\ROCKMIN\ATOM-STRUCT\Feldspar.gif"/>
          <p:cNvPicPr/>
          <p:nvPr/>
        </p:nvPicPr>
        <p:blipFill>
          <a:blip r:embed="rId2"/>
          <a:stretch/>
        </p:blipFill>
        <p:spPr>
          <a:xfrm>
            <a:off x="4038480" y="289548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soForms0"/>
          <p:cNvPicPr/>
          <p:nvPr/>
        </p:nvPicPr>
        <p:blipFill>
          <a:blip r:embed="rId1"/>
          <a:stretch/>
        </p:blipFill>
        <p:spPr>
          <a:xfrm>
            <a:off x="723960" y="1523880"/>
            <a:ext cx="7696080" cy="47595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working copy\GRAPHIC0\ROCKMIN\SYMMPAT\5PlaneUnitCells.gif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D:\working copy\GRAPHIC0\ROCKMIN\CanAnalogy1.gif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D:\working copy\GRAPHIC0\ROCKMIN\CanAnalogy2.gif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D:\working copy\GRAPHIC0\ROCKMIN\UNCELL1.GIF"/>
          <p:cNvPicPr/>
          <p:nvPr/>
        </p:nvPicPr>
        <p:blipFill>
          <a:blip r:embed="rId1"/>
          <a:stretch/>
        </p:blipFill>
        <p:spPr>
          <a:xfrm>
            <a:off x="762120" y="2209680"/>
            <a:ext cx="7818480" cy="28418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D:\working copy\GRAPHIC0\ROCKMIN\DODECA.GIF"/>
          <p:cNvPicPr/>
          <p:nvPr/>
        </p:nvPicPr>
        <p:blipFill>
          <a:blip r:embed="rId1"/>
          <a:stretch/>
        </p:blipFill>
        <p:spPr>
          <a:xfrm>
            <a:off x="533520" y="484200"/>
            <a:ext cx="8229600" cy="59580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D:\working copy\GRAPHIC0\ROCKMIN\OCTAHED.GIF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580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working copy\GRAPHIC0\Animations\IsoXlAnim0.gif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D:\working copy\GRAPHIC0\ROCKMIN\CRYSTAL-FORM\IsoForms0.gif"/>
          <p:cNvPicPr/>
          <p:nvPr/>
        </p:nvPicPr>
        <p:blipFill>
          <a:blip r:embed="rId1"/>
          <a:stretch/>
        </p:blipFill>
        <p:spPr>
          <a:xfrm>
            <a:off x="1371600" y="2133720"/>
            <a:ext cx="6469200" cy="400032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D:\working copy\GRAPHIC0\ROCKMIN\SYMMPAT\Symmetry1.gif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2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D:\working copy\GRAPHIC0\Animations\SymmAnim.gif"/>
          <p:cNvPicPr/>
          <p:nvPr/>
        </p:nvPicPr>
        <p:blipFill>
          <a:blip r:embed="rId1"/>
          <a:stretch/>
        </p:blipFill>
        <p:spPr>
          <a:xfrm>
            <a:off x="19810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D:\working copy\GRAPHIC0\ROCKMIN\SYMMPAT\6XlClasses.gif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working copy\GRAPHIC0\GEOCHEM\Ptabchn2.gif"/>
          <p:cNvPicPr/>
          <p:nvPr/>
        </p:nvPicPr>
        <p:blipFill>
          <a:blip r:embed="rId1"/>
          <a:stretch/>
        </p:blipFill>
        <p:spPr>
          <a:xfrm>
            <a:off x="1371600" y="1905120"/>
            <a:ext cx="6458040" cy="413676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working copy\GRAPHIC0\GEOCHEM\Ptabccr2.gif"/>
          <p:cNvPicPr/>
          <p:nvPr/>
        </p:nvPicPr>
        <p:blipFill>
          <a:blip r:embed="rId1"/>
          <a:stretch/>
        </p:blipFill>
        <p:spPr>
          <a:xfrm>
            <a:off x="1295280" y="2286000"/>
            <a:ext cx="626436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69360" cy="399888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1:06:31Z</dcterms:created>
  <dc:creator>Steven Dutch</dc:creator>
  <dc:description/>
  <dc:language>en-US</dc:language>
  <cp:lastModifiedBy>LEGION</cp:lastModifiedBy>
  <dcterms:modified xsi:type="dcterms:W3CDTF">2017-01-26T09:34:09Z</dcterms:modified>
  <cp:revision>23</cp:revision>
  <dc:subject/>
  <dc:title>Minerals</dc:title>
</cp:coreProperties>
</file>