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3C68-3C03-4B24-A7B6-500876B342A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193B-25E7-4C95-9D4C-56EE9BB3E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1BFC-B5FF-4DEA-95CD-18EFC21A8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C06C-C622-43B7-9144-F195F7C26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6A4B-D662-4D41-9CA1-6E1782357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36C41-5BFD-40C6-AE43-43CE917C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5FFD3-3CD6-40FD-88C9-30D45B06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E534F-A7FE-44FD-A1DD-CEA15040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C03D7-9B11-4AB1-95A4-B7DCC0DF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76FD6-4914-4D63-81A6-31B3EF10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60541-A3CE-4199-BA16-9F5DDBB1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1627B-89DF-4823-A6B2-F253F5A5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654D-A593-49E3-A7CA-CDA8BC6ED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065BA-4E4A-40F0-AACB-A9F7F260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992AF-0DDE-4A84-892E-690A61AE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00FAF-CCB1-4FC0-8A85-2BBD56CC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83CCA-EB8B-4C37-B91B-D027AA29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AA5F0-6D81-46A5-ABD4-467B3EE7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A7D9-D9A7-4113-9B88-D16A91C41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0C60-C2EC-4962-BCE2-557C51743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C4BB-4053-417B-9322-B365ACAEE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C2CA-4894-4B80-8292-F65084016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A296-F648-4DF7-B7C4-85347E1DE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E602-78D8-4B20-9BE1-3D699E6C0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F9C2-9F6E-4447-B61D-99F876F7A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85E1-1F0B-4F76-8802-EC2EE33B40E6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F114-292D-4ECC-9E81-F79D062AFA3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66680" y="3809880"/>
            <a:ext cx="7620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2. Polar Covalent Bonds: Acids and Bas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on McMurry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c 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Absence of Dipole Mo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ymmetrical molecules, the dipole moments of each bond has one in the opposit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f the local dipoles cance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225440" y="3276720"/>
            <a:ext cx="669312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3 Formal Char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it is necessary to have structur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individual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mpare the bonding of the atom in the molecule to the valence electro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more electron in the molecule, it is shown with a “-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less electron, it is shown with a “+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eutral molecules with both a “+” and a “-” are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2178000" y="3944880"/>
            <a:ext cx="4832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ulfur has 6 valenc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thyl suloxide sulfur has only 5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lost an electron and has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atom in DMSO has gained electron and has (-)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380880"/>
            <a:ext cx="78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l Charge for Dimethyl Sulf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96252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720800" y="1676520"/>
            <a:ext cx="5702400" cy="223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20880" y="4343400"/>
            <a:ext cx="7302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4 Reson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lecules are have structures that cannot be shown with a singl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se cases we draw structures that contribute to the final structure but which differ in the position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nd(s) or lone pai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structure is delocalized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nance forms are connected by a double-headed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063880" y="4267080"/>
            <a:ext cx="5016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Resonance Hybr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ucture with resonance forms does not alternate between th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wo resonance forms, so the structure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benze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two resonance forms with alternating double and single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sonance hybrid, the actual structure, all its C-C bonds are equivalent, midway between double and 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20800" y="4200480"/>
            <a:ext cx="5670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5 Rules for Resonance Fo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esonance form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real structure is a hybrid (only by knowing the contributors can you visualize the actual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differ only in the placement of 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nonbonding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sonance forms of a substance don’t have to b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must be valid Lewis structures: the octet rule a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nance hybrid is more stable than any individual resonance form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Curved Arrows and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imagine that electrons move in pairs to convert from one resonance form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ved arrow shows that a pair of electrons mov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tail of the arr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head of the 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53211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6 Drawing Resonance Form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three-atom grouping with a multiple bond has two resonanc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629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fferent Atoms in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resonance forms involve different atom types as well as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resonance hybrid has properties associated with both types of con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 may contribute uneq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enolate” derived from acetone is a good illustration, with delocalization between carbon and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4008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Why this chapt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basic ways chemists account for chemical re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oundation for understanding specific reactions discussed in subsequent chap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,4-Pentanedio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ion derived from 2,4-pentaned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e pair of electrons and a formal negative charge on the central carbon atom, next to a C=O bond on the left and on the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resonance structures 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8001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7 Acids and Bases: The Brønsted–Lowry Defini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have different meanings in different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at reason, we specify the usage with more complete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acids are solutions containing a lot of “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bases are solutions containing a lot of “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not very useful in organic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Brønsted–Lowry theory defines acids and bases by their role in reactions that transfer prot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tween donors and ac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rønsted Acids and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s usually shortened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donates a hydrogen ion (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accepts the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n” is a synonym for H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loss of an electron from H leaving the bare nucleus—a pro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Reaction of Acid with B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nium ion, product when bas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ain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l donates a proton to water molecule, yielding hydronium ion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[conjugate acid] and C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[conjugate b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verse is also a Brønsted acid–base reaction of the conjugate acid and conjugat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1"/>
          <a:stretch/>
        </p:blipFill>
        <p:spPr>
          <a:xfrm>
            <a:off x="1371600" y="3456000"/>
            <a:ext cx="6381720" cy="1308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Picture 1"/>
          <p:cNvPicPr/>
          <p:nvPr/>
        </p:nvPicPr>
        <p:blipFill>
          <a:blip r:embed="rId2"/>
          <a:stretch/>
        </p:blipFill>
        <p:spPr>
          <a:xfrm>
            <a:off x="1374840" y="4809960"/>
            <a:ext cx="63450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8 Acid and Base Strengt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ilibrium consta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action of an acid (HA) with water to form hydronium ion and the conjugate base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measure related to the strength of the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acids have lar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brackets [ ] indicate concentration, moles per liter, M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Picture 2"/>
          <p:cNvPicPr/>
          <p:nvPr/>
        </p:nvPicPr>
        <p:blipFill>
          <a:blip r:embed="rId1"/>
          <a:stretch/>
        </p:blipFill>
        <p:spPr>
          <a:xfrm>
            <a:off x="1219320" y="4343400"/>
            <a:ext cx="74595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ity Consta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centration of water as a solvent does not change significantly when it is proto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lecular weight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s 18 and one liter weighs 1000 grams, so the concentration is ~ 55.4 M at 2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dity constan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H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s 55.6 M (leaving [water] out of the 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ges from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trongest acids to very small values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the weak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Picture 1"/>
          <p:cNvPicPr/>
          <p:nvPr/>
        </p:nvPicPr>
        <p:blipFill>
          <a:blip r:embed="rId1"/>
          <a:stretch/>
        </p:blipFill>
        <p:spPr>
          <a:xfrm>
            <a:off x="838080" y="4076640"/>
            <a:ext cx="81676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6320" y="671400"/>
            <a:ext cx="89661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p</a:t>
            </a: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 Strength Sc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e energy in an equilibrium is related to –lo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-RT 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value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a stronger acid and is proportional to the energy difference between products and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ater is 15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Picture 2"/>
          <p:cNvPicPr/>
          <p:nvPr/>
        </p:nvPicPr>
        <p:blipFill>
          <a:blip r:embed="rId1"/>
          <a:stretch/>
        </p:blipFill>
        <p:spPr>
          <a:xfrm>
            <a:off x="828720" y="4605480"/>
            <a:ext cx="80010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9 Predicting Acid–Base Reactions from p</a:t>
            </a:r>
            <a:r>
              <a:rPr b="0" i="1" lang="en-US" sz="38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38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 Valu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are related as logarithms to equilibrium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predicting whether a given acid-base reaction will tak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in two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is the log of the ratio of equilibrium constants, and can be used to calculate the extent of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onger base holds the proton more tigh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1606680" y="3962520"/>
            <a:ext cx="5930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0 Organic Acids and Organic Bas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the presence of positively polarized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914400" y="3051000"/>
            <a:ext cx="73152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25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SzPct val="1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 Polar Covalent Bonds: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bonds can have ionic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ing electrons attracted more strongly by one atom than by the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distribution between atoms is not symmetr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2" descr=""/>
          <p:cNvPicPr/>
          <p:nvPr/>
        </p:nvPicPr>
        <p:blipFill>
          <a:blip r:embed="rId1"/>
          <a:stretch/>
        </p:blipFill>
        <p:spPr>
          <a:xfrm>
            <a:off x="1308240" y="4038480"/>
            <a:ext cx="654048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Ac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O–H, such as methanol and ace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C–H, usually from a carbon atom next to a C=O double bond (O=C–C–H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84360" y="3846600"/>
            <a:ext cx="595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8265960" cy="1992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762120" y="5294160"/>
            <a:ext cx="8229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n atom with a lone pair of electrons that can bond to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-containing compounds derived from ammonia are the most common organic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-containing compounds can react as bases when with a strong acid or as acids with strong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841400" y="3886200"/>
            <a:ext cx="5397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1 Acids and Bases: The Lewis Definition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cids are electron pair acceptors and Lewis bases are electron pair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ønsted acids are not Lewis acids because they cannot accept an electron pair directly (only a proton would be a Lewis 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wis definition leads to a general description of many reaction patterns but there is no scale of strengths as in the Brønsted definition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1828800" y="4537080"/>
            <a:ext cx="54864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Lewis Acids and the Curved Arrow Formalism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wis definition of acidity includes metal cations, such as M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cept a pair of electrons when they form a bond to 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3A elements, such as B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l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 because they have unfilled valence orbitals and can accept electron pairs from Lewi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-metal compounds, such as Ti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rganic compounds that undergo addition reactions with Lewis bases (discussed later) are called electrophiles and therefo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bination of a Lewis acid and a Lewis base can shown with a curved arrow from base t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Illustration of Curved Arrows in Following Lewis Acid-Base Reactions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ewis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pt protons as well as Lewis acids, therefore the definition encompasses that for Brønsted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xygen- and nitrogen-containing organic compounds are Lewis bases because they have lone pairs of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pounds can act as both acids and bases, depending on th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2133720" y="3397320"/>
            <a:ext cx="47876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12 Molecular Models</a:t>
            </a: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chemistry is 3-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shape is critical in determining the chemistry a compound undergoes in the lab, and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8040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2.13 Noncovalent Intera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pole-Dipo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066680" y="1981080"/>
            <a:ext cx="7418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polar molecules as a result of electrostatic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di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can be attractive of repulsive depending on orienta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1"/>
          <a:stretch/>
        </p:blipFill>
        <p:spPr>
          <a:xfrm>
            <a:off x="685800" y="3773520"/>
            <a:ext cx="79185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spersion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1981080"/>
            <a:ext cx="7418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all neighboring molecules and arise because the electron distribution within molecules that are constantly 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575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Bond Polarity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egativity (EN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insic ability of an atom to attract the shared electrons in a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EN produce bond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ry scale. As shown in Figure 2.2, electronegativities are based on an arbitrar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most electronegative (EN = 4.0), Cs is least (EN = 0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on left side of periodic table attract electrons weakly, lowe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s and other reactive nonmetals on right side of periodic table attract electrons strongly, higher electronega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of C = 2.5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Hydrogen Bond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66680" y="1981080"/>
            <a:ext cx="7418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noncovalent interaction in biological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are result of attractive interaction between a hydrogen bonded to an electronegative O or N atom and an unshared electron pair on another O or 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1644480" y="3386160"/>
            <a:ext cx="58550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832040" y="1676520"/>
            <a:ext cx="54784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molecules often ha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result of unsymmetrical electron sharing caused by difference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larity of a molecule is measured by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ole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) and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ndicat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toms in molecules to keep track of valence electrons around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tances must be shown 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wo or 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iffer by the location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ate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pt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ength Brønsted acid is related to the -1 times the logarithm of the acidity constan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aker acids have higher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 (cont’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n empty orbital that can accept an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donate an unshared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ensed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C and C-H are 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letal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bonds and not C or H  (C is shown as a junction of two lines) – other atoms are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ar models are useful for representing structures fo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covalent interactions have several types: dipole-dipole, dispersion, and hydrogen bon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The Periodic Table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6320" y="2160720"/>
            <a:ext cx="89661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ond Polarity and Inductive Effe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oms with simila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fference in EN of atoms &l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Bonds: Difference in EN &g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–H bonds, relatively nonpolar C-O, C-X bond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ctronegative elements) are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electrons toward electronegativ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acquires partial posi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egative atom acquires partial nega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effe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ing of electrons in a bond in response to EN of nearby atom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lectrostatic Potential Ma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static potential ma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calculated char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indicate electron-rich (red) and electron-poor (blue)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ows indicate direction of bond po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7134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2 Polar Covalent Bonds: Dipole Mome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as a whole are often polar from vector summation of individual bond polarities and lone-pair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polar substances soluble in polar solvents like water; nonpolar substances are insoluble in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ole moment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 molecular polarity, due to difference in summed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5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gnitude of ch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nd of molecular dipole times dist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b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), 1 D = 3.33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lomb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an average covalent bond, the dipole moment would be 1.6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, or 4.80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209680" y="4427640"/>
            <a:ext cx="47293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pole Moments in Water and Ammon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ipole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of  O and N &gt; 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O and N have lone-pair electrons oriented away from all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355760" y="3124080"/>
            <a:ext cx="64324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20:13:45Z</dcterms:created>
  <dc:creator>Ronald Kluger</dc:creator>
  <dc:description/>
  <dc:language>en-US</dc:language>
  <cp:lastModifiedBy>LEGION</cp:lastModifiedBy>
  <cp:lastPrinted>2009-04-22T19:24:48Z</cp:lastPrinted>
  <dcterms:modified xsi:type="dcterms:W3CDTF">2017-01-26T09:12:20Z</dcterms:modified>
  <cp:revision>244</cp:revision>
  <dc:subject/>
  <dc:title>2. Polar Covalent Bonds: Acids and Bases</dc:title>
</cp:coreProperties>
</file>