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2.png" ContentType="image/png"/>
  <Override PartName="/ppt/media/image9.jpeg" ContentType="image/jpeg"/>
  <Override PartName="/ppt/media/image11.jpeg" ContentType="image/jpeg"/>
  <Override PartName="/ppt/media/image7.jpeg" ContentType="image/jpeg"/>
  <Override PartName="/ppt/media/image18.png" ContentType="image/png"/>
  <Override PartName="/ppt/media/image19.png" ContentType="image/png"/>
  <Override PartName="/ppt/media/image3.jpeg" ContentType="image/jpeg"/>
  <Override PartName="/ppt/media/image17.wmf" ContentType="image/x-wmf"/>
  <Override PartName="/ppt/media/image16.jpeg" ContentType="image/jpeg"/>
  <Override PartName="/ppt/media/image14.png" ContentType="image/png"/>
  <Override PartName="/ppt/media/image15.wmf" ContentType="image/x-wmf"/>
  <Override PartName="/ppt/media/image1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move the slid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39134-77CE-432A-8D89-4E3140032079}" type="slidenum"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The AT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The AT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Ernest Rutherford (1908) - Nucle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Ernest Rutherford (1908) - Nucl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rnest Rutherford (1908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covered that the atom is mostly empty space with a dense positively charged nucleus surrounded by negative electrons. 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utherford received the Nobel Prize in chemistry in 1908 for his contributions into the structure of the atom.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nest Rutherford (19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overed that the atom is mostly empty space with a dense positively charged nucleus surrounded by negative electrons. 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therford received the Nobel Prize in chemistry in 1908 for his contributions into the structure of the atom.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Neils Bohr (1913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Neils Bohr (191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ils Bohr (1913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posed that electrons traveled in circular orbits and that only certain orbits were allowed. 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received the Nobel Prize in physics in 1922 for his theor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ils Bohr (191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osed that electrons traveled in circular orbits and that only certain orbits were allowed. 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received the Nobel Prize in physics in 1922 for his the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Quantum Mechanics Mode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Quantum Mechanics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antum Mechanics Mode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on Cloud Model (1920'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atom consists of a dense nucleus composed of protons and neutrons surrounded by electrons that exist in different clouds at the various energy levels. 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rwin Schrodinger and Werner Heisenburg developed probability functions to determine the regions or clouds in which electrons would most likely be found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antum Mechanics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n Cloud Model (1920'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atom consists of a dense nucleus composed of protons and neutrons surrounded by electrons that exist in different clouds at the various energy levels. 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win Schrodinger and Werner Heisenburg developed probability functions to determine the regions or clouds in which electrons would most likely be foun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combination of all models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ombination of all model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rawing Bohr Diagra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ic number: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dentifies the ele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qual to the number of protons in the nucle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nce atoms are electrically neutral, # of protons = # of electr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number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 of protons + # of neutr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 neutrons = atomic mass (rounded off) – atomic #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tons and neutrons account for most of the mass of the at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awing Bohr Dia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ic numbe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ntifies the el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ual to the number of protons in the nucle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ce atoms are electrically neutral, # of protons = # of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numb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 of protons + # of neu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 neutrons = atomic mass (rounded off) – atomic #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ons and neutrons account for most of the mass of the at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hr Diagrams (continued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energy level represents a specific value of energy of an electron and corresponds to a general location around the nucle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umber of occupied energy levels in any atom is normally the same as the period number in which an atom appe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hr Diagrams (continu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nergy level represents a specific value of energy of an electron and corresponds to a general location around the nucle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mber of occupied energy levels in any atom is normally the same as the period number in which an atom appe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e first 3 energy levels, the maximum number of electrons that can be present are 2, 8 and 8 in order of increasing energy (increasing distance from the nucleu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ower energy level is filled with electrons to its maximum level before the next level is start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lectrons in the highest (outermost) occupied energy level are called valence electrons. Number of valence electrons is the same as the group number for group A elements (1,2,13-18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the first 3 energy levels, the maximum number of electrons that can be present are 2, 8 and 8 in order of increasing energy (increasing distance from the nucleu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lower energy level is filled with electrons to its maximum level before the next level is star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lectrons in the highest (outermost) occupied energy level are called valence electrons. Number of valence electrons is the same as the group number for group A elements (1,2,13-18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hr Diagrams (continued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raw a circle for the nucle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t in the number of protons and neutrons inside the circ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termine the number of electrons and place them in energy levels starting closest to the nucleus and filling them in the order of 2, 8, 8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hr Diagrams (continu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aw a circle for the nucle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t in the number of protons and neutrons inside the circ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termine the number of electrons and place them in energy levels starting closest to the nucleus and filling them in the order of 2, 8, 8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ble Atom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ve low chemical reactiv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clude noble gases, all of which have 8 valence electrons (except He, which has 2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bility is a function of having a full complement of valence electron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s that do not have full electrons energy levels are unstable and must gain, lose or share electrons to become stab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ther atoms can become more stable by reacting and changing the number of their electr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ble Atom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low chemical reac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lude noble gases, all of which have 8 valence electrons (except He, which has 2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bility is a function of having a full complement of valence electr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s that do not have full electrons energy levels are unstable and must gain, lose or share electrons to become s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atoms can become more stable by reacting and changing the number of their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ble Atom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s can follow one of 2 rul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) Octet rule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s attempt to obtain 8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alence electr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cludes most ato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) Duet rul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s attempt to obtain 2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alence electron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cludes H, Li and B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s can achieve a stable octet or duet by forming 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ble Atom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s can follow one of 2 rul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Octet rul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s attempt to obtain 8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lence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ludes most at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 Duet rul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s attempt to obtain 2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lence electr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ludes H, Li and 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s can achieve a stable octet or duet by forming 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on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atom or groups of atoms that have a positive or negative charge, due to the loss or gain of one or more electr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ngle atoms form simple ions (monatomic ions); groups of atoms form complex ions (polyatomic ion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on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atom or groups of atoms that have a positive or negative charge, due to the loss or gain of one or more electr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gle atoms form simple ions (monatomic ions); groups of atoms form complex ions (polyatomic io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dium metal and chlorine gas react to produce NaCl, a very stable and unreactive substance, compared to Na or Cl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odium atom loses 1 electron to the chlorine atom so both of their outer levels are filled. In doing so, the atoms form ions of opposite charg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dium metal and chlorine gas react to produce NaCl, a very stable and unreactive substance, compared to Na or C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dium atom loses 1 electron to the chlorine atom so both of their outer levels are filled. In doing so, the atoms form ions of opposite char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odi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Sod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odi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Sod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hlor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Chlor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basic building block of all mat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mallest particle of an element that retains the properties of that ele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ally neutral: the number of positive charges (protons) equals the number of negative charges (electron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osed of 3 subatomic particles: protons (p+), electrons (e-) and neutrons (no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asic building block of all ma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allest particle of an element that retains the properties of that el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ically neutral: the number of positive charges (protons) equals the number of negative charges (electro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sed of 3 subatomic particles: protons (p+), electrons (e-) and neutrons (n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ionic bonds form: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gin with atoms of two different elements that do not have 8 electrons in their outer most energy level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ionic bonds form: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gin with atoms of two different elements that do not have 8 electrons in their outer most energy leve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odium + chlor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Sodium + chlor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odium atom (Na ) donates 1 electron becoming a positively sodium ion ( Na+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hlorine atom (Cl) accepts the donated electron becoming a negatively charged chloride ion (Cl-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dium atom (Na ) donates 1 electron becoming a positively sodium ion ( Na+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hlorine atom (Cl) accepts the donated electron becoming a negatively charged chloride ion (Cl-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odium + chlor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Sodium + chlor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dels of the Atom - Histo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mocritus a fifth century B.C. Greek philosopher proposed that all matter was composed of indivisible particles called atoms (“atoma” - Greek for indivisible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els of the Atom - His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critus a fifth century B.C. Greek philosopher proposed that all matter was composed of indivisible particles called atoms (“atoma” - Greek for indivisible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John Dalton (1803)- Billiard Ba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John Dalton (1803)- Billiard B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ohn Dalton (1803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lliard Ball Model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ewed the atom as a small solid sphere.  He really got the "ball" rolling for modern chemistry!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ch element was composed of the same kind of atom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ounds are composed of atoms in specific ratio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emical reactions are rearrangements of atoms (mass is conserved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Dalton (1803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lliard Ball Model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ewed the atom as a small solid sphere.  He really got the "ball" rolling for modern chemistry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element was composed of the same kind of atom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unds are composed of atoms in specific ratio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ical reactions are rearrangements of atoms (mass is conserved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J. J. Thomson (1897) – Plum Pudd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J. J. Thomson (1897) – Plum Pud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. J. Thomson (1897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um Pudding Mode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posed that the atom was a sphere of positive electricity with negative particles imbedded throughout after discovering the electr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discovery for which he was awarded the Nobel Prize in physics in 1906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. J. Thomson (189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um Pudding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osed that the atom was a sphere of positive electricity with negative particles imbedded throughout after discovering the elect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discovery for which he was awarded the Nobel Prize in physics in 1906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29ED1-3AD8-46F1-B9E3-3EB2F2554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C3803-6516-4941-A709-1A6CF1E7E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50146-7840-4A93-B99A-F6A58C32E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6DB75-E914-4A61-83D3-99F5D67FD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7FA13-0D2E-4C3A-A4D1-B2CAD89BB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06125-8531-4C5D-AD87-3C8B4D10F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61403-24B9-48F0-9A19-F734096AC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02628-D800-4C56-9D58-69BE889DE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F3360-5826-4837-9E5B-06DDB9BF9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28C68-F4EC-4007-B57A-4DA3D6B35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E4DCD-710C-4AFB-8E79-5ACD10521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400A4-6B48-490E-B444-0CC8CDE1A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3C5D8-1171-4887-ABA5-7874EF9E2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D26D7-986B-4BB9-A9F2-D0C0A3853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F529D-4CC4-4628-B834-7050983C7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9B6B7-0396-4509-B7D4-E099C0A47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63FBC-5F3B-4295-AF0C-B68EC7E43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A48D0-BDEA-427F-8A3A-4775EE0A4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84F0C-EC69-4584-A52D-3A9446DAC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F1793-4773-4972-BCA2-0E4442B5A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07FD0-87A3-431F-9167-406DC6746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D6E19-8C8A-4025-8ED4-82206B500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2134A-85F9-4A9F-90BC-8D2C8941D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A4477-5F87-44E8-9D8E-D6FED8C22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39C9B-9210-4C46-9EFC-0EE59C8C977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00BE4-EF59-4188-8285-DA7AE21E99C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lhup.edu/~dsimanek/scenario/labman1/atom.gif&amp;imgrefurl=http://www.lhup.edu/~dsimanek/scenario/analogy.htm&amp;usg=__FEC_VogIXbghGkoxomZcOWXdC_0=&amp;h=240&amp;w=245&amp;sz=12&amp;hl=en&amp;start=15&amp;um=1&amp;tbnid=-U8eVTWiIsbxfM:&amp;tbnh=108&amp;tbnw=110&amp;prev=/images%3Fq%3Dmodels%2Bof%2Bthe%2Batom%26um%3D1%26hl%3Den%26rlz%3D1T4GPEA_enCA295CA295%26sa%3DN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The ATOM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5" descr="atom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666880" y="3048120"/>
            <a:ext cx="2114640" cy="2076480"/>
          </a:xfrm>
          <a:prstGeom prst="rect">
            <a:avLst/>
          </a:prstGeom>
          <a:ln w="0">
            <a:noFill/>
          </a:ln>
        </p:spPr>
      </p:pic>
      <p:sp>
        <p:nvSpPr>
          <p:cNvPr id="1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66"/>
                </a:solidFill>
                <a:latin typeface="Arial"/>
              </a:rPr>
              <a:t>Ernest Rutherford (1908) - Nuclear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64832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8" descr="rutherford_atom"/>
          <p:cNvPicPr/>
          <p:nvPr/>
        </p:nvPicPr>
        <p:blipFill>
          <a:blip r:embed="rId1"/>
          <a:stretch/>
        </p:blipFill>
        <p:spPr>
          <a:xfrm>
            <a:off x="1295280" y="2590920"/>
            <a:ext cx="2432160" cy="274320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10" descr="ernest_rutherford2"/>
          <p:cNvPicPr/>
          <p:nvPr/>
        </p:nvPicPr>
        <p:blipFill>
          <a:blip r:embed="rId2"/>
          <a:stretch/>
        </p:blipFill>
        <p:spPr>
          <a:xfrm>
            <a:off x="5410080" y="2438280"/>
            <a:ext cx="2076480" cy="2590920"/>
          </a:xfrm>
          <a:prstGeom prst="rect">
            <a:avLst/>
          </a:prstGeom>
          <a:ln w="0">
            <a:noFill/>
          </a:ln>
        </p:spPr>
      </p:pic>
      <p:sp>
        <p:nvSpPr>
          <p:cNvPr id="19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rnest Rutherford (1908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iscovered that the atom is mostly empty space with a dense positively charged nucleus surrounded by negative electrons. 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utherford received the Nobel Prize in chemistry in 1908 for his contributions into the structure of the atom.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Neils Bohr (1913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5" descr="nucleus3gif"/>
          <p:cNvPicPr/>
          <p:nvPr/>
        </p:nvPicPr>
        <p:blipFill>
          <a:blip r:embed="rId1"/>
          <a:stretch/>
        </p:blipFill>
        <p:spPr>
          <a:xfrm>
            <a:off x="1676520" y="2286000"/>
            <a:ext cx="5095800" cy="3343320"/>
          </a:xfrm>
          <a:prstGeom prst="rect">
            <a:avLst/>
          </a:prstGeom>
          <a:ln w="0">
            <a:noFill/>
          </a:ln>
        </p:spPr>
      </p:pic>
      <p:sp>
        <p:nvSpPr>
          <p:cNvPr id="20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Neils Bohr (1913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posed that electrons traveled in circular orbits and that only certain orbits were allowed. 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e received the Nobel Prize in physics in 1922 for his theory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900" spc="-1" strike="noStrike">
                <a:solidFill>
                  <a:srgbClr val="330066"/>
                </a:solidFill>
                <a:latin typeface="Arial"/>
              </a:rPr>
              <a:t>Quantum Mechanics Model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3" descr="atom2.jpg"/>
          <p:cNvPicPr/>
          <p:nvPr/>
        </p:nvPicPr>
        <p:blipFill>
          <a:blip r:embed="rId1"/>
          <a:stretch/>
        </p:blipFill>
        <p:spPr>
          <a:xfrm>
            <a:off x="2362320" y="2133720"/>
            <a:ext cx="3733560" cy="3733560"/>
          </a:xfrm>
          <a:prstGeom prst="rect">
            <a:avLst/>
          </a:prstGeom>
          <a:ln w="0">
            <a:noFill/>
          </a:ln>
        </p:spPr>
      </p:pic>
      <p:sp>
        <p:nvSpPr>
          <p:cNvPr id="2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900" spc="-1" strike="noStrike">
                <a:solidFill>
                  <a:srgbClr val="330066"/>
                </a:solidFill>
                <a:latin typeface="Arial"/>
              </a:rPr>
              <a:t>Quantum Mechanics Model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Arial"/>
              </a:rPr>
              <a:t>Electron Cloud Model (1920'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Arial"/>
              </a:rPr>
              <a:t>an atom consists of a dense nucleus composed of protons and neutrons surrounded by electrons that exist in different clouds at the various energy levels. 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Arial"/>
              </a:rPr>
              <a:t>Erwin Schrodinger and Werner Heisenburg developed probability functions to determine the regions or clouds in which electrons would most likely be found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Content Placeholder 5" descr="T014145A.gif"/>
          <p:cNvPicPr/>
          <p:nvPr/>
        </p:nvPicPr>
        <p:blipFill>
          <a:blip r:embed="rId1"/>
          <a:stretch/>
        </p:blipFill>
        <p:spPr>
          <a:xfrm>
            <a:off x="822240" y="1816200"/>
            <a:ext cx="7493040" cy="4286160"/>
          </a:xfrm>
          <a:prstGeom prst="rect">
            <a:avLst/>
          </a:prstGeom>
          <a:ln w="0">
            <a:noFill/>
          </a:ln>
        </p:spPr>
      </p:pic>
      <p:sp>
        <p:nvSpPr>
          <p:cNvPr id="21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900" spc="-1" strike="noStrike">
                <a:solidFill>
                  <a:srgbClr val="330066"/>
                </a:solidFill>
                <a:latin typeface="Arial"/>
              </a:rPr>
              <a:t>A combination of all models…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14" name="Picture 2" descr="http://sharpiron.files.wordpress.com/2008/06/atomic-models3.jpg"/>
          <p:cNvPicPr/>
          <p:nvPr/>
        </p:nvPicPr>
        <p:blipFill>
          <a:blip r:embed="rId1"/>
          <a:stretch/>
        </p:blipFill>
        <p:spPr>
          <a:xfrm>
            <a:off x="1143000" y="1523880"/>
            <a:ext cx="6721560" cy="5127840"/>
          </a:xfrm>
          <a:prstGeom prst="rect">
            <a:avLst/>
          </a:prstGeom>
          <a:ln w="0">
            <a:noFill/>
          </a:ln>
        </p:spPr>
      </p:pic>
      <p:sp>
        <p:nvSpPr>
          <p:cNvPr id="2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900" spc="-1" strike="noStrike">
                <a:solidFill>
                  <a:srgbClr val="330066"/>
                </a:solidFill>
                <a:latin typeface="Arial"/>
              </a:rPr>
              <a:t>Drawing Bohr Diagram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omic number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ies the el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 to the number of protons in the nucle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toms are electrically neutral, # of protons = # of elect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 numb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of protons + # of neut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neutrons = atomic mass (rounded off) – atomic 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ns and neutrons account for most of the mass of the at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2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2000"/>
                                        <p:tgtEl>
                                          <p:spTgt spid="2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2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900" spc="-1" strike="noStrike">
                <a:solidFill>
                  <a:srgbClr val="330066"/>
                </a:solidFill>
                <a:latin typeface="Arial"/>
              </a:rPr>
              <a:t>Bohr Diagrams (continued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92280" indent="-347760"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energy level represents a specific value of energy of an electron and corresponds to a general location around the nucle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number of occupied energy levels in any atom is normally the same as the period number in which an atom appe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0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20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200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Content Placeholder 3" descr="laser1.jpg"/>
          <p:cNvPicPr/>
          <p:nvPr/>
        </p:nvPicPr>
        <p:blipFill>
          <a:blip r:embed="rId1"/>
          <a:stretch/>
        </p:blipFill>
        <p:spPr>
          <a:xfrm>
            <a:off x="2209680" y="1371600"/>
            <a:ext cx="4343400" cy="4206960"/>
          </a:xfrm>
          <a:prstGeom prst="rect">
            <a:avLst/>
          </a:prstGeom>
          <a:ln w="0">
            <a:noFill/>
          </a:ln>
        </p:spPr>
      </p:pic>
      <p:sp>
        <p:nvSpPr>
          <p:cNvPr id="1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92280" indent="-34776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the first 3 energy levels, the maximum number of electrons that can be present are 2, 8 and 8 in order of increasing energy (increasing distance from the nucleu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lower energy level is filled with electrons to its maximum level before the next level is star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lectrons in the highest (outermost) occupied energy level are called valence electrons. Number of valence electrons is the same as the group number for group A elements (1,2,13-18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20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20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200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900" spc="-1" strike="noStrike">
                <a:solidFill>
                  <a:srgbClr val="330066"/>
                </a:solidFill>
                <a:latin typeface="Arial"/>
              </a:rPr>
              <a:t>Bohr Diagrams (continued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Arial"/>
              </a:rPr>
              <a:t>Draw a circle for the nucleu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Arial"/>
              </a:rPr>
              <a:t>Put in the number of protons and neutrons inside the circl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Arial"/>
              </a:rPr>
              <a:t>Determine the number of electrons and place them in energy levels starting closest to the nucleus and filling them in the order of 2, 8, 8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0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20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20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2" descr=""/>
          <p:cNvPicPr/>
          <p:nvPr/>
        </p:nvPicPr>
        <p:blipFill>
          <a:blip r:embed="rId1"/>
          <a:stretch/>
        </p:blipFill>
        <p:spPr>
          <a:xfrm>
            <a:off x="1752480" y="1514520"/>
            <a:ext cx="5083200" cy="3438360"/>
          </a:xfrm>
          <a:prstGeom prst="rect">
            <a:avLst/>
          </a:prstGeom>
          <a:ln w="0">
            <a:noFill/>
          </a:ln>
        </p:spPr>
      </p:pic>
      <p:sp>
        <p:nvSpPr>
          <p:cNvPr id="2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330066"/>
                </a:solidFill>
                <a:latin typeface="Arial"/>
              </a:rPr>
              <a:t>Stable Atoms</a:t>
            </a:r>
            <a:br>
              <a:rPr sz="3900"/>
            </a:b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low chemical reactiv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clude noble gases, all of which have 8 valence electrons (except He, which has 2)</a:t>
            </a: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tability is a function of having a full complement of valence electron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toms that do not have full electrons energy levels are unstable and must gain, lose or share electrons to become stabl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ther atoms can become more stable by reacting and changing the number of their electr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0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20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2000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2000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2000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2000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330066"/>
                </a:solidFill>
                <a:latin typeface="Arial"/>
              </a:rPr>
              <a:t>Stable Atoms</a:t>
            </a:r>
            <a:br>
              <a:rPr sz="3900"/>
            </a:b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toms can follow one of 2 rule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) Octet rule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toms attempt to obtain 8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alence electr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cludes most atom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) Duet rul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toms attempt to obtain 2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alence electron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cludes H, Li and B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toms can achieve a stable octet or duet by forming ion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nodeType="clickEffect" fill="hold">
                      <p:stCondLst>
                        <p:cond delay="0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20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2000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2000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2000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2000"/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2000"/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330066"/>
                </a:solidFill>
                <a:latin typeface="Arial"/>
              </a:rPr>
              <a:t>Ions</a:t>
            </a:r>
            <a:br>
              <a:rPr sz="3900"/>
            </a:b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n atom or groups of atoms that have a positive or negative charge, due to the loss or gain of one or more electron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ngle atoms form simple ions (monatomic ions); groups of atoms form complex ions (polyatomic ion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xample: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dium metal and chlorine gas react to produce NaCl, a very stable and unreactive substance, compared to Na or Cl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sodium atom loses 1 electron to the chlorine atom so both of their outer levels are filled. In doing so, the atoms form ions of opposite charg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odium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43" name="Picture 4" descr=""/>
          <p:cNvPicPr/>
          <p:nvPr/>
        </p:nvPicPr>
        <p:blipFill>
          <a:blip r:embed="rId1"/>
          <a:stretch/>
        </p:blipFill>
        <p:spPr>
          <a:xfrm>
            <a:off x="2362320" y="2403360"/>
            <a:ext cx="3843360" cy="2644920"/>
          </a:xfrm>
          <a:prstGeom prst="rect">
            <a:avLst/>
          </a:prstGeom>
          <a:ln w="0">
            <a:noFill/>
          </a:ln>
        </p:spPr>
      </p:pic>
      <p:sp>
        <p:nvSpPr>
          <p:cNvPr id="24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odium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46" name="Picture 4" descr="b11_5"/>
          <p:cNvPicPr/>
          <p:nvPr/>
        </p:nvPicPr>
        <p:blipFill>
          <a:blip r:embed="rId1"/>
          <a:stretch/>
        </p:blipFill>
        <p:spPr>
          <a:xfrm>
            <a:off x="1295280" y="1998720"/>
            <a:ext cx="6477120" cy="3806640"/>
          </a:xfrm>
          <a:prstGeom prst="rect">
            <a:avLst/>
          </a:prstGeom>
          <a:ln w="0">
            <a:noFill/>
          </a:ln>
        </p:spPr>
      </p:pic>
      <p:sp>
        <p:nvSpPr>
          <p:cNvPr id="2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hlorin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49" name="Picture 4" descr=""/>
          <p:cNvPicPr/>
          <p:nvPr/>
        </p:nvPicPr>
        <p:blipFill>
          <a:blip r:embed="rId1"/>
          <a:stretch/>
        </p:blipFill>
        <p:spPr>
          <a:xfrm>
            <a:off x="1828800" y="2209680"/>
            <a:ext cx="4910040" cy="3592800"/>
          </a:xfrm>
          <a:prstGeom prst="rect">
            <a:avLst/>
          </a:prstGeom>
          <a:ln w="0">
            <a:noFill/>
          </a:ln>
        </p:spPr>
      </p:pic>
      <p:sp>
        <p:nvSpPr>
          <p:cNvPr id="2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Atom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basic building block of all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smallest particle of an element that retains the properties of that ele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lectrically neutral: the number of positive charges (protons) equals the number of negative charges (electron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osed of 3 subatomic particles: protons (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), electrons (e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) and neutrons (n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330066"/>
                </a:solidFill>
                <a:latin typeface="Arial"/>
              </a:rPr>
              <a:t>How ionic bonds form:</a:t>
            </a:r>
            <a:br>
              <a:rPr sz="3900"/>
            </a:b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Begin with atoms of two different elements that do not have 8 electrons in their outer most energy level.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odium + chlorin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55" name="Picture 4" descr="Sodium_atom_and_Chlorine_atom"/>
          <p:cNvPicPr/>
          <p:nvPr/>
        </p:nvPicPr>
        <p:blipFill>
          <a:blip r:embed="rId1"/>
          <a:stretch/>
        </p:blipFill>
        <p:spPr>
          <a:xfrm>
            <a:off x="1447920" y="2232000"/>
            <a:ext cx="5295960" cy="2868480"/>
          </a:xfrm>
          <a:prstGeom prst="rect">
            <a:avLst/>
          </a:prstGeom>
          <a:ln w="0">
            <a:noFill/>
          </a:ln>
        </p:spPr>
      </p:pic>
      <p:sp>
        <p:nvSpPr>
          <p:cNvPr id="2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/>
          </p:nvPr>
        </p:nvSpPr>
        <p:spPr>
          <a:xfrm>
            <a:off x="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e sodium atom (Na ) donates 1 electron becoming a positively sodium ion ( Na+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e chlorine atom (Cl) accepts the donated electron becoming a negatively charged chloride ion (Cl-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2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20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odium + chlorin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60" name="Picture 4" descr="sodium_ion_and_chlorine_ion"/>
          <p:cNvPicPr/>
          <p:nvPr/>
        </p:nvPicPr>
        <p:blipFill>
          <a:blip r:embed="rId1"/>
          <a:stretch/>
        </p:blipFill>
        <p:spPr>
          <a:xfrm>
            <a:off x="1924200" y="2419200"/>
            <a:ext cx="5295600" cy="3009960"/>
          </a:xfrm>
          <a:prstGeom prst="rect">
            <a:avLst/>
          </a:prstGeom>
          <a:ln w="0">
            <a:noFill/>
          </a:ln>
        </p:spPr>
      </p:pic>
      <p:sp>
        <p:nvSpPr>
          <p:cNvPr id="2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odels of the Atom - History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mocritus a fifth century B.C. Greek philosopher proposed that all matter was composed of indivisible particles called atoms (“atoma” - Greek for indivisible)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2" descr="http://www.lsua.info/chem1001/vocabulary/Module3/AtomHistory.jpg"/>
          <p:cNvPicPr/>
          <p:nvPr/>
        </p:nvPicPr>
        <p:blipFill>
          <a:blip r:embed="rId1"/>
          <a:stretch/>
        </p:blipFill>
        <p:spPr>
          <a:xfrm>
            <a:off x="1549440" y="1028880"/>
            <a:ext cx="6146640" cy="4609800"/>
          </a:xfrm>
          <a:prstGeom prst="rect">
            <a:avLst/>
          </a:prstGeom>
          <a:ln w="0">
            <a:noFill/>
          </a:ln>
        </p:spPr>
      </p:pic>
      <p:sp>
        <p:nvSpPr>
          <p:cNvPr id="1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330066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330066"/>
                </a:solidFill>
                <a:latin typeface="Arial"/>
              </a:rPr>
              <a:t>John Dalton (1803)- Billiard Ball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4832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5" descr="10312949"/>
          <p:cNvPicPr/>
          <p:nvPr/>
        </p:nvPicPr>
        <p:blipFill>
          <a:blip r:embed="rId1"/>
          <a:stretch/>
        </p:blipFill>
        <p:spPr>
          <a:xfrm>
            <a:off x="380880" y="2057400"/>
            <a:ext cx="4724640" cy="353232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9" descr="s4"/>
          <p:cNvPicPr/>
          <p:nvPr/>
        </p:nvPicPr>
        <p:blipFill>
          <a:blip r:embed="rId2"/>
          <a:stretch/>
        </p:blipFill>
        <p:spPr>
          <a:xfrm>
            <a:off x="5334120" y="2362320"/>
            <a:ext cx="2857320" cy="2857320"/>
          </a:xfrm>
          <a:prstGeom prst="rect">
            <a:avLst/>
          </a:prstGeom>
          <a:ln w="0">
            <a:noFill/>
          </a:ln>
        </p:spPr>
      </p:pic>
      <p:sp>
        <p:nvSpPr>
          <p:cNvPr id="1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John Dalton (1803)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illiard Ball Model 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iewed the atom as a small solid sphere.  He really got the "ball" rolling for modern chemistry!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ch element was composed of the same kind of atoms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ounds are composed of atoms in specific ratios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mical reactions are rearrangements of atoms (mass is conserved)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66"/>
                </a:solidFill>
                <a:latin typeface="Arial"/>
              </a:rPr>
              <a:t>J. J. Thomson (1897) – Plum Pudding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4832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7" descr="Thomson_model_E"/>
          <p:cNvPicPr/>
          <p:nvPr/>
        </p:nvPicPr>
        <p:blipFill>
          <a:blip r:embed="rId1"/>
          <a:stretch/>
        </p:blipFill>
        <p:spPr>
          <a:xfrm>
            <a:off x="1181160" y="2666880"/>
            <a:ext cx="2598840" cy="274320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9" descr="rutherford3"/>
          <p:cNvPicPr/>
          <p:nvPr/>
        </p:nvPicPr>
        <p:blipFill>
          <a:blip r:embed="rId2"/>
          <a:stretch/>
        </p:blipFill>
        <p:spPr>
          <a:xfrm>
            <a:off x="5715000" y="2743200"/>
            <a:ext cx="1765440" cy="2743200"/>
          </a:xfrm>
          <a:prstGeom prst="rect">
            <a:avLst/>
          </a:prstGeom>
          <a:ln w="0">
            <a:noFill/>
          </a:ln>
        </p:spPr>
      </p:pic>
      <p:sp>
        <p:nvSpPr>
          <p:cNvPr id="1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J. J. Thomson (1897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lum Pudding Mod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posed that the atom was a sphere of positive electricity with negative particles imbedded throughout after discovering the electr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discovery for which he was awarded the Nobel Prize in physics in 1906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0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3T19:07:21Z</dcterms:created>
  <dc:creator>gwinsor</dc:creator>
  <dc:description/>
  <dc:language>en-US</dc:language>
  <cp:lastModifiedBy>LEGION</cp:lastModifiedBy>
  <dcterms:modified xsi:type="dcterms:W3CDTF">2017-01-26T09:19:26Z</dcterms:modified>
  <cp:revision>15</cp:revision>
  <dc:subject/>
  <dc:title>The ATOM</dc:title>
</cp:coreProperties>
</file>