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png" ContentType="image/png"/>
  <Override PartName="/ppt/media/image54.jpeg" ContentType="image/jpeg"/>
  <Override PartName="/ppt/media/image33.png" ContentType="image/png"/>
  <Override PartName="/ppt/media/image53.jpeg" ContentType="image/jpeg"/>
  <Override PartName="/ppt/media/image23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.png" ContentType="image/png"/>
  <Override PartName="/ppt/media/image16.png" ContentType="image/png"/>
  <Override PartName="/ppt/media/image2.png" ContentType="image/png"/>
  <Override PartName="/ppt/media/image25.png" ContentType="image/png"/>
  <Override PartName="/ppt/media/image6.wmf" ContentType="image/x-wmf"/>
  <Override PartName="/ppt/media/image29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63.wmf" ContentType="image/x-wmf"/>
  <Override PartName="/ppt/media/image62.wmf" ContentType="image/x-wmf"/>
  <Override PartName="/ppt/media/image24.jpeg" ContentType="image/jpeg"/>
  <Override PartName="/ppt/media/image59.png" ContentType="image/png"/>
  <Override PartName="/ppt/media/image44.png" ContentType="image/png"/>
  <Override PartName="/ppt/media/image6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60.png" ContentType="image/png"/>
  <Override PartName="/ppt/media/image58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1.wmf" ContentType="image/x-wmf"/>
  <Override PartName="/ppt/media/image48.wmf" ContentType="image/x-wmf"/>
  <Override PartName="/ppt/media/image7.wmf" ContentType="image/x-wmf"/>
  <Override PartName="/ppt/media/image12.jpeg" ContentType="image/jpeg"/>
  <Override PartName="/ppt/media/image37.wmf" ContentType="image/x-wmf"/>
  <Override PartName="/ppt/media/image9.wmf" ContentType="image/x-wmf"/>
  <Override PartName="/ppt/media/image41.png" ContentType="image/png"/>
  <Override PartName="/ppt/media/image8.wmf" ContentType="image/x-wmf"/>
  <Override PartName="/ppt/media/image38.wmf" ContentType="image/x-wmf"/>
  <Override PartName="/ppt/media/image30.wmf" ContentType="image/x-wmf"/>
  <Override PartName="/ppt/media/image32.wmf" ContentType="image/x-wmf"/>
  <Override PartName="/ppt/media/image34.wmf" ContentType="image/x-wmf"/>
  <Override PartName="/ppt/media/image36.png" ContentType="image/png"/>
  <Override PartName="/ppt/media/image61.wmf" ContentType="image/x-wmf"/>
  <Override PartName="/ppt/media/image39.png" ContentType="image/png"/>
  <Override PartName="/ppt/media/image18.png" ContentType="image/png"/>
  <Override PartName="/ppt/media/image40.wmf" ContentType="image/x-wmf"/>
  <Override PartName="/ppt/media/image42.png" ContentType="image/png"/>
  <Override PartName="/ppt/media/image43.png" ContentType="image/png"/>
  <Override PartName="/ppt/media/image20.wmf" ContentType="image/x-wmf"/>
  <Override PartName="/ppt/media/image57.jpeg" ContentType="image/jpeg"/>
  <Override PartName="/ppt/media/image45.wmf" ContentType="image/x-wmf"/>
  <Override PartName="/ppt/media/image46.wmf" ContentType="image/x-wmf"/>
  <Override PartName="/ppt/media/image13.jpeg" ContentType="image/jpeg"/>
  <Override PartName="/ppt/media/image47.wmf" ContentType="image/x-wmf"/>
  <Override PartName="/ppt/media/image49.png" ContentType="image/png"/>
  <Override PartName="/ppt/media/image50.jpeg" ContentType="image/jpeg"/>
  <Override PartName="/ppt/media/image51.jpeg" ContentType="image/jpeg"/>
  <Override PartName="/ppt/media/image52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973236-602B-4DCB-B567-C3F438BF4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The Chemistry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– Chapter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Chemistry I HD – Chapte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ICP – Chapter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66 Helvetica MediumItalic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red litmus paper to blue     “Basic Blu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quid so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bilizer for pl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gnesi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MOM” Milk of mag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alox (ant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1:  Arrhenius (traditiona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– produce H+ ions (or hydronium ions H3O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– produce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blem:  some bases don’t have hydroxide ions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acid is a substance that produces H+ (H3O+)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henius base is a substance that produces OH-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/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finition #2: Brønsted – Low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–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–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“proton” is really just a hydrogen atom that has lost it’s electr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acid is a proton d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ønsted-Lowry base is a proto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ønsted definition means NH3 is a BASE in water — and water is itself an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cid, base, conjugate acid, and conjugate base in each re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Cl + OH-     Cl- + H2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+ H2SO4    HSO4- + H3O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 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 - a substance that accept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base - a substance that donates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#3 – Lew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hydronium ion is also an excellent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air of the new O-H bond originates on the Lewis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wis Acid/Bas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Acid-Base Interactions in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me group in hemoglobin can interact with O2 and 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 ion in hemoglobin is a Lewi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and CO can act as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a way of expressing the strength of acids and bases.  Instead of using very small numbers, we just use the NEGATIVE power of 10 on the Molarity of the H+ (or OH-) io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7  = aci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 = neutr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7 =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member that the [ ] mean Molarity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 X 10-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 X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1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If [H+] = 1.8 X 10-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(- 4.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4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pH of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 0.15 M solution of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A 3.00 X 10-7 M solution of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H of Coke is 3.12, [H+] =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pH = - log [H+] 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ntilog (10x) of bo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ides and 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pH 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+] = 10-3.12 = 7.6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 to find antilog on your calculator, look for “Shift” or “2nd function” and then the log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calculations – Solving for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has a pH of 8.5.  What is the Molarity of hydrogen ions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5 = -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.5 = log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log -8.5 = antilog (log [H+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-8.5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6 X 10-9 = 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can function as both an ACID and a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ure water there can be 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 for water =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bou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=  [H3O+] [OH-] =  1.00 x 10-14 at 2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utral solution [H3O+] = 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w  =  [H3O+]2 = [OH-]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 [H3O+] =  [OH-]  = 1.00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acids and bases are opposites, pH and pOH are opposi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does not really exist, but it is useful for changing bases to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looks at the perspective of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pH and pOH are on opposite en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+ pOH 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, [OH-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0 M NaOH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 = 0.0010 (or 1.0 X 10-3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- log 0.0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H =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= 14 – 3 = 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Kw = [H3O+]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(1.0 x 10-11) = 1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rainwater collected in a certain region of the northeastern United States on a particular day was 4.82.  What is the H+ ion concentration of the rain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-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Log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 -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[H3O+], pH, [OH-], and p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1:    A chemist dilutes concentrated hydrochloric acid to make two solutions: (a) 3.0 M and (b) 0.0024 M. Calculate the [H3O+], pH, [OH-], and pOH of the two solutions at 25°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2:  What is the [H3O+], [OH-], and pOH of a solution with pH = 3.67? Is this an acid, base, or neutr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3:  Problem #2 with pH = 8.05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, HCl, H2SO4 and HClO4 are among the only known strong ac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an acid (or base) is determined by the amount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ly divide acids and bases into STRONG or WEAK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:  HNO3 (aq)   +  H2O (l)   -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3O+ (aq)   +   NO3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3 is about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are much less than 100% ioniz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is acetic acid = CH3CO2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Base:  100% dissociated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---&gt;  Na+ (aq)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common strong bases include KOH and Ca(OH)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O (lime) + H2O  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(slaked l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:  less than 100% ionized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est known weak bases is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(aq) + H2O (l)   NH4+ (aq) +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ak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sider acetic acid, HC2H3O2 (HO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2H3O2 + H2O   H3O+    +     C2H3O2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Conj.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K is designated Ka for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 gives the ratio of ions (split up) to molecules (don’t split u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Constants for Acids/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ju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 has Ka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H3O+] and a pH of 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 Constants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Weak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 has Kb &lt;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small [OH-] and a pH of 12 -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of Ka, Kb,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. Define equilibrium concs. in IC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OAc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Ac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-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Writ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quadratic. Solve using quadratic formu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can make an approximation if x is very small! (Rule of thumb: 10-5 or smaller is 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sour taste.  Vinegar is a solution of acetic acid.  Cit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uits contain citr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ertain metals to produce hydrogen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 with carbonates and bicarbonates to produce carb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xide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ve a bitte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el slippery.  Many soaps contain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sume x is very small because Ka is so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can more easily solve this approximate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0.20 – x is just about 0.20 if x is real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K is 10-5 or smaller (10-6, 10-7, etc.), you should approximate. Otherwise, you have to use the quadr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. Solve Ka approximate expres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1.00 M HOAc. Calc. the equilibrium concs. of HOAc, H3O+, OAc-, and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=  [H3O+] =  [OAc-] = 4.2 x 10-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- log [H3O+]  =  -log (4.2 x 10-3)  =  2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ulate the pH of a 0.0010 M solution of formic acid, HCO2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O2H   +   H2O    HCO2-   +   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a = 1.8 x 10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pproxim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4.2 x 10-4 M, pH =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ac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 = [HCO2-]  =  3.4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CO2H]  =  0.0010 - 3.4 x 10-4 = 0.000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3.4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1. Define equilibrium concs. in ICE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3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NH4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itia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10 - 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. Solve the equilibrium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x is small, 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[OH-] = [NH4+] =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[NH3] = 0.010 - 4.2 x 10-4 ≈  0.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pproximation is val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quilibria Involving A 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 have 0.010 M NH3. Calc. the 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H3  +  H2O    NH4+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b = 1.8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ep 3. Calculate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=  4.2 x 10-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 pOH = - log [OH-]  =  3.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cause pH + pOH = 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10.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id/Base Reactions: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re are several ways to test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ue litmus paper (red =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 litmus paper (blue = bas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meter (7 is neutral, &lt;7 acid, &gt;7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versal indicator (multi-color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icators like phenolphthal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ural indicators like red cabbage, ra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of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  (the hydronium ion is a hydrogen ion attached to a water molec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ly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a salt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s less tha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blue litmus paper to red  “Blue to Red A-CI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tests like litmus paper and 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a stirring rod into the solution and s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and record the color change.  Note what the color indic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only use a small portion of the paper.  You can use one piece of paper for several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s the voltage of the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the voltage to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cheap, 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calibrated with a buffer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are dyes that can be added that will change color in the presence of an acid o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dicators only work in a specific range of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drops are added, the sample is ru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yes are natural, like radish skin or red cabb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-BASE REACTION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2O4(aq)   +   2 NaOH(aq) 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2C2O4(aq)  +  2 H2O(li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ry out this reaction using a TI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up for titrating an acid with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dd solution from the bur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gent (base) reacts with compound (acid) in solution in the flas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 shows when exact stoichiometric reaction has occurred. (Acid = 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NEUTR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.62 mL of NaOH is neutralized with 25.2 mL of 0.0998 M HCl by titration to an equivalence point.  What is the concentration of the NaO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water to the 3.0 M solution to lower its concentration to 0.50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ute the solu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xygen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/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asy way to remember which goes with whic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afeteria, you ATE something ICk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water is ad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oint is that -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original solution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• V 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.0 mol/L)(0.050 L)  =  0.5 M NaOH  X 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NaOH in final solution must also = 0.15 mol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final solutio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0.15 mol NaOH)  /  (0.50 M)  = 0.30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     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 You have 50.0 mL of 3.0 M NaOH and you want 0.50 M NaOH.  What do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50 mL of water to 50.0 mL of 3.0 M NaOH to make 300 mL of 0.50 M NaOH.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hortc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• V1  =  M2 •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ing Solutions by Di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 this dilution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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 Nomenclatur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ame ‘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I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847"/>
            </a:gs>
            <a:gs pos="100000">
              <a:srgbClr val="cc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182800" y="16668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CEFE-E5A5-4444-9C0C-5AF6426BC49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785000" cy="417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cfeb9"/>
                </a:solidFill>
                <a:latin typeface="Comic Sans MS"/>
              </a:rPr>
              <a:t>The Chemistry of Acids and B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24120" y="1523880"/>
            <a:ext cx="26672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– Chapter 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Chemistry I HD – Chapter 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feb9"/>
                </a:solidFill>
                <a:latin typeface="Arial"/>
              </a:rPr>
              <a:t>ICP – Chapter 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124080" y="1981080"/>
            <a:ext cx="320040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PAPER AND INK!!! When you print out the notes on PowerPoint, print "Handouts" instead of "Slides" in the print setup. Also, turn off the backgrounds (Tools&gt;Options&gt;Print&gt;UNcheck "Background Printing"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Properties of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O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ons in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bitter, chalk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electrolyt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el soapy, slipper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acids to form salts and water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greater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88"/>
              </a:spcBef>
              <a:buClr>
                <a:srgbClr val="cc66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red litmus paper to blue     “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ic </a:t>
            </a:r>
            <a:r>
              <a:rPr b="0" lang="en-US" sz="21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ue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4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Some Common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Na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od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y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KOH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potas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liquid soap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bar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stabilizer for plastic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g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2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gnesi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“MOM” Milk of magnesi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(OH)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3</a:t>
            </a:r>
            <a:r>
              <a:rPr b="0" lang="en-US" sz="2100" spc="-1" strike="noStrike" baseline="-25000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aluminum hydroxide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cecece"/>
                </a:solidFill>
                <a:latin typeface="Arial"/>
              </a:rPr>
              <a:t>Maalox (antacid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1:  Arrhenius (traditional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s – produce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 (or hydronium ions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es – produce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problem:  some bases don’t have hydroxide ions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5160" y="304920"/>
            <a:ext cx="85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acid is a substance that produces 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) 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cha56011_0407L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1812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ha56011_0408L"/>
          <p:cNvPicPr/>
          <p:nvPr/>
        </p:nvPicPr>
        <p:blipFill>
          <a:blip r:embed="rId2"/>
          <a:stretch/>
        </p:blipFill>
        <p:spPr>
          <a:xfrm>
            <a:off x="228600" y="3886200"/>
            <a:ext cx="8686800" cy="2117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317520" y="3352680"/>
            <a:ext cx="79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Arrhenius base is a substance that produces OH</a:t>
            </a:r>
            <a:r>
              <a:rPr b="0" lang="en-US" sz="2400" spc="-1" strike="noStrike" baseline="30000">
                <a:solidFill>
                  <a:srgbClr val="fcfeb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i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/Base Defin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c1ce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ceff"/>
                </a:solidFill>
                <a:latin typeface="Arial"/>
              </a:rPr>
              <a:t>Definition #2: Brønsted – Low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cids – proton don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Bases – proton accep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eff"/>
                </a:solidFill>
                <a:latin typeface="Arial"/>
              </a:rPr>
              <a:t>A “proton” is really just a hydrogen atom that has lost it’s electr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hydrogen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46920" y="228600"/>
            <a:ext cx="7128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 proto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ha56011_0408L"/>
          <p:cNvPicPr/>
          <p:nvPr/>
        </p:nvPicPr>
        <p:blipFill>
          <a:blip r:embed="rId1"/>
          <a:stretch/>
        </p:blipFill>
        <p:spPr>
          <a:xfrm>
            <a:off x="0" y="1849320"/>
            <a:ext cx="9144000" cy="22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3063600" y="48006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29480" y="46227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36040" y="4800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638680" y="463536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jugat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3de8"/>
                </a:solidFill>
                <a:latin typeface="Comic Sans MS"/>
              </a:rPr>
              <a:t>ACID-BASE THE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Brønsted definition means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water — and water is itself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C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977080" cy="809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08" name="Line 6"/>
          <p:cNvSpPr/>
          <p:nvPr/>
        </p:nvSpPr>
        <p:spPr>
          <a:xfrm>
            <a:off x="609480" y="1676520"/>
            <a:ext cx="7594560" cy="0"/>
          </a:xfrm>
          <a:prstGeom prst="line">
            <a:avLst/>
          </a:prstGeom>
          <a:ln w="255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7M02AN2.avi" descr=""/>
          <p:cNvPicPr/>
          <p:nvPr/>
        </p:nvPicPr>
        <p:blipFill>
          <a:blip r:embed="rId2"/>
          <a:stretch/>
        </p:blipFill>
        <p:spPr>
          <a:xfrm>
            <a:off x="2438280" y="41911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Conjugate Pai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16000" y="1536840"/>
            <a:ext cx="8712000" cy="4101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112" name="Line 4"/>
          <p:cNvSpPr/>
          <p:nvPr/>
        </p:nvSpPr>
        <p:spPr>
          <a:xfrm>
            <a:off x="914400" y="1447920"/>
            <a:ext cx="7391520" cy="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</a:rPr>
              <a:t>Learning Check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the acid, base, conjugate acid, and conjugate base in each reac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887480" y="3079440"/>
            <a:ext cx="464040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Cl + O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Cl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714680" y="4848120"/>
            <a:ext cx="5805360" cy="66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  HSO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+ H</a:t>
            </a:r>
            <a:r>
              <a:rPr b="0" lang="en-US" sz="3200" spc="-1" strike="noStrike" baseline="-30000">
                <a:solidFill>
                  <a:srgbClr val="ffffff"/>
                </a:solidFill>
                <a:latin typeface="Trebuchet MS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rebuchet MS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4dc"/>
                </a:solidFill>
                <a:latin typeface="Comic Sans MS"/>
              </a:rPr>
              <a:t>Acids &amp; Base Defini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acid - a substance that accepts an electron 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17M11AN2.avi" descr=""/>
          <p:cNvPicPr/>
          <p:nvPr/>
        </p:nvPicPr>
        <p:blipFill>
          <a:blip r:embed="rId1"/>
          <a:stretch/>
        </p:blipFill>
        <p:spPr>
          <a:xfrm>
            <a:off x="6019920" y="1523880"/>
            <a:ext cx="2819160" cy="23497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609480" y="990720"/>
            <a:ext cx="7925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11360" y="990720"/>
            <a:ext cx="7797600" cy="0"/>
          </a:xfrm>
          <a:prstGeom prst="line">
            <a:avLst/>
          </a:prstGeom>
          <a:ln w="50760">
            <a:solidFill>
              <a:srgbClr val="0034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990720" y="4343400"/>
            <a:ext cx="458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wis base - a substance that donates an electron p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" y="1219320"/>
            <a:ext cx="48006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ceff"/>
                </a:solidFill>
                <a:latin typeface="Arial"/>
              </a:rPr>
              <a:t>Definition #3 – Lew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17M11AN3.avi" descr="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400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49" name="Line 5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tion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dronium 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also an excellent examp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feb9"/>
                </a:solidFill>
                <a:latin typeface="Comic Sans MS"/>
              </a:rPr>
              <a:t>Lewis Acids &amp;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28"/>
          <p:cNvSpPr/>
          <p:nvPr/>
        </p:nvSpPr>
        <p:spPr>
          <a:xfrm>
            <a:off x="635040" y="1066680"/>
            <a:ext cx="7873920" cy="0"/>
          </a:xfrm>
          <a:prstGeom prst="line">
            <a:avLst/>
          </a:prstGeom>
          <a:ln w="5076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29"/>
          <p:cNvSpPr/>
          <p:nvPr/>
        </p:nvSpPr>
        <p:spPr>
          <a:xfrm>
            <a:off x="771480" y="4343400"/>
            <a:ext cx="75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ctron pair of the new O-H bond originates on the Lewis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30" descr="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1714680" y="2449440"/>
            <a:ext cx="5676840" cy="16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Lewis Acid/Base Rea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050840" y="1515960"/>
            <a:ext cx="7026480" cy="4969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Comic Sans MS"/>
              </a:rPr>
              <a:t>Lewis Acid-Base Interactions in Biolo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eme group in hemoglobin can interact with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e ion in hemoglobin is a Lewis aci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CO can act as Lewis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4125960"/>
            <a:ext cx="2895480" cy="20606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</p:pic>
      <p:sp>
        <p:nvSpPr>
          <p:cNvPr id="136" name="Text Box 5"/>
          <p:cNvSpPr/>
          <p:nvPr/>
        </p:nvSpPr>
        <p:spPr>
          <a:xfrm>
            <a:off x="1662120" y="62848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7S12AN1.avi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26668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5486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H scale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is a way of expressing the strength of acids and bases.  Instead of using very small numbers, we just use the NEGATIVE power of 10 on the Molarity of the 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(or OH</a:t>
            </a:r>
            <a:r>
              <a:rPr b="1" lang="en-US" sz="36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) ion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Under 7  = aci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   7 = neutral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Over 7 = b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Zumdahl16_03"/>
          <p:cNvPicPr/>
          <p:nvPr/>
        </p:nvPicPr>
        <p:blipFill>
          <a:blip r:embed="rId1"/>
          <a:stretch/>
        </p:blipFill>
        <p:spPr>
          <a:xfrm>
            <a:off x="6019920" y="304920"/>
            <a:ext cx="2447640" cy="5943600"/>
          </a:xfrm>
          <a:prstGeom prst="rect">
            <a:avLst/>
          </a:prstGeom>
          <a:ln w="28440">
            <a:solidFill>
              <a:srgbClr val="919191"/>
            </a:solidFill>
            <a:miter/>
          </a:ln>
        </p:spPr>
      </p:pic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18ffd"/>
                </a:solidFill>
                <a:latin typeface="Comic Sans MS"/>
              </a:rPr>
              <a:t>pH of Common Sub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228600" y="2095560"/>
            <a:ext cx="8750160" cy="281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Calculating the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H = - log [H+]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member that the [ ] mean Molarity)</a:t>
            </a:r>
            <a:br>
              <a:rPr sz="32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10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 If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(- 4.7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4.7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Try These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pH of thes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A 0.15 M solution of Hydrochlo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A 3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 solution of Nitric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543800" cy="838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pH of Coke is 3.12,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= ??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cause pH = -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pH = log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ntilog (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of bot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ides and g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pH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.1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7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*** to find antilog on your calculator, look for “Shift” or “2</a:t>
            </a:r>
            <a:r>
              <a:rPr b="1" lang="en-US" sz="2000" spc="-1" strike="noStrike" baseline="30000">
                <a:solidFill>
                  <a:srgbClr val="00ae00"/>
                </a:solidFill>
                <a:latin typeface="Arial"/>
              </a:rPr>
              <a:t>nd 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function” and then the log but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76720" cy="3214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calculations – Solving for H+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olution has a pH of 8.5.  What is the Molarity of hydrogen ions in the solut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971800" y="2490840"/>
            <a:ext cx="5715000" cy="4412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5 = -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8.5 = 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log -8.5 = antilog (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8.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can function as both an ACID and a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pure water there can 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UTOI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28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708800" cy="2449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</p:pic>
      <p:sp>
        <p:nvSpPr>
          <p:cNvPr id="155" name="Rectangle 1031"/>
          <p:cNvSpPr/>
          <p:nvPr/>
        </p:nvSpPr>
        <p:spPr>
          <a:xfrm>
            <a:off x="662040" y="5410080"/>
            <a:ext cx="739764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quilibrium constant for water = 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]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1.00 x 10</a:t>
            </a:r>
            <a:r>
              <a:rPr b="1" lang="en-US" sz="3200" spc="-1" strike="noStrike" baseline="30000">
                <a:solidFill>
                  <a:srgbClr val="fc0128"/>
                </a:solidFill>
                <a:latin typeface="Times New Roman"/>
              </a:rPr>
              <a:t>-1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17M03AN1.avi" descr=""/>
          <p:cNvPicPr/>
          <p:nvPr/>
        </p:nvPicPr>
        <p:blipFill>
          <a:blip r:embed="rId2"/>
          <a:stretch/>
        </p:blipFill>
        <p:spPr>
          <a:xfrm>
            <a:off x="5943600" y="2819520"/>
            <a:ext cx="2895480" cy="1780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3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7120" cy="479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More About 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4840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] =  1.00 x 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t 25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ution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= 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84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 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1.0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320840" y="1003320"/>
            <a:ext cx="6337440" cy="273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161" name="Rectangle 5"/>
          <p:cNvSpPr/>
          <p:nvPr/>
        </p:nvSpPr>
        <p:spPr>
          <a:xfrm>
            <a:off x="1224360" y="10382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EBTechnical"/>
              </a:rPr>
              <a:t>Auto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162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acids and bases are opposites, pH and pOH are opposit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does not really exist, but it is useful for changing bases to p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H looks at the perspective of a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H = - log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ce pH and pOH are on opposite ends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H + pOH = 1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34600" cy="5410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1371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7672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18148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[OH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5943600"/>
            <a:ext cx="137160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[H</a:t>
            </a:r>
            <a:r>
              <a:rPr b="1" lang="en-US" sz="40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, [OH</a:t>
            </a:r>
            <a:r>
              <a:rPr b="1" lang="en-US" sz="40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H of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10 M NaOH solution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OH-] = 0.0010 (or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- log 0.0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OH = 3</a:t>
            </a: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ecece"/>
                </a:solidFill>
                <a:latin typeface="Arial"/>
              </a:rPr>
              <a:t>pH  = 14 – 3 =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  =  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 = - log (1.0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11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5915160" y="4200480"/>
          <a:ext cx="262224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5160" y="4200480"/>
                    <a:ext cx="2622240" cy="2317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9080" y="320760"/>
            <a:ext cx="81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he pH of rainwater collected in a certain region of the northeastern United States on a particular day was 4.82.  What is the H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ion concentration of the rainwa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ject 3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17840" cy="1368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52280" y="2987640"/>
            <a:ext cx="8991720" cy="1368360"/>
            <a:chOff x="152280" y="2987640"/>
            <a:chExt cx="8991720" cy="1368360"/>
          </a:xfrm>
        </p:grpSpPr>
        <p:sp>
          <p:nvSpPr>
            <p:cNvPr id="178" name="Text Box 9"/>
            <p:cNvSpPr/>
            <p:nvPr/>
          </p:nvSpPr>
          <p:spPr>
            <a:xfrm>
              <a:off x="838080" y="32320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The OH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 ion concentration of a blood sample is </a:t>
              </a:r>
              <a:br>
                <a:rPr sz="2400"/>
              </a:b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2.5 x 10</a:t>
              </a:r>
              <a:r>
                <a:rPr b="1" lang="en-US" sz="2400" spc="-1" strike="noStrike" baseline="30000">
                  <a:solidFill>
                    <a:srgbClr val="66ff33"/>
                  </a:solidFill>
                  <a:latin typeface="Arial"/>
                </a:rPr>
                <a:t>-7 </a:t>
              </a:r>
              <a:r>
                <a:rPr b="1" lang="en-US" sz="2400" spc="-1" strike="noStrike">
                  <a:solidFill>
                    <a:srgbClr val="66ff33"/>
                  </a:solidFill>
                  <a:latin typeface="Arial"/>
                </a:rPr>
                <a:t>M.  What is the pH of the bloo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Object 10" descr=""/>
            <p:cNvPicPr/>
            <p:nvPr/>
          </p:nvPicPr>
          <p:blipFill>
            <a:blip r:embed="rId2"/>
            <a:stretch/>
          </p:blipFill>
          <p:spPr>
            <a:xfrm>
              <a:off x="152280" y="2987640"/>
              <a:ext cx="71784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206960" y="27162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038480" y="1522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[OH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33520" y="304812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[H</a:t>
            </a:r>
            <a:r>
              <a:rPr b="1" lang="en-US" sz="3600" spc="-1" strike="noStrike" baseline="30000">
                <a:solidFill>
                  <a:srgbClr val="1008a6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7010280" y="3048120"/>
            <a:ext cx="1752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733920" y="5715000"/>
            <a:ext cx="175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8a6"/>
                </a:solidFill>
                <a:latin typeface="Comic Sans MS"/>
              </a:rPr>
              <a:t>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8"/>
          <p:cNvSpPr/>
          <p:nvPr/>
        </p:nvSpPr>
        <p:spPr>
          <a:xfrm flipV="1">
            <a:off x="1981080" y="990360"/>
            <a:ext cx="213372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9"/>
          <p:cNvSpPr/>
          <p:nvPr/>
        </p:nvSpPr>
        <p:spPr>
          <a:xfrm flipH="1">
            <a:off x="1676520" y="762120"/>
            <a:ext cx="2133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V="1">
            <a:off x="5334120" y="4114440"/>
            <a:ext cx="213336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 flipH="1">
            <a:off x="5028840" y="3886200"/>
            <a:ext cx="2133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H="1" flipV="1">
            <a:off x="5752800" y="88128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5445000" y="118476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 flipV="1">
            <a:off x="2325240" y="3702240"/>
            <a:ext cx="1829520" cy="2199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017440" y="4005720"/>
            <a:ext cx="1832400" cy="212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 rot="3073800">
            <a:off x="6351120" y="1385640"/>
            <a:ext cx="106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 rot="3073800">
            <a:off x="3078000" y="4264200"/>
            <a:ext cx="9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 rot="3073800">
            <a:off x="1863000" y="491724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-Log[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 rot="3073800">
            <a:off x="5094000" y="2028600"/>
            <a:ext cx="16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[OH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0"/>
          <p:cNvSpPr/>
          <p:nvPr/>
        </p:nvSpPr>
        <p:spPr>
          <a:xfrm rot="19069200">
            <a:off x="5054760" y="43095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14 - p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1"/>
          <p:cNvSpPr/>
          <p:nvPr/>
        </p:nvSpPr>
        <p:spPr>
          <a:xfrm rot="19069200">
            <a:off x="5888160" y="5182560"/>
            <a:ext cx="13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14 - 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2"/>
          <p:cNvSpPr/>
          <p:nvPr/>
        </p:nvSpPr>
        <p:spPr>
          <a:xfrm rot="19069200">
            <a:off x="1503000" y="80784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008a6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[OH</a:t>
            </a:r>
            <a:r>
              <a:rPr b="0" lang="en-US" sz="2800" spc="-1" strike="noStrike" baseline="30000">
                <a:solidFill>
                  <a:srgbClr val="1008a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1008a6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 rot="19069200">
            <a:off x="2542680" y="1829880"/>
            <a:ext cx="174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1.0 x 10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[H</a:t>
            </a:r>
            <a:r>
              <a:rPr b="0" lang="en-US" sz="28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853200" y="15840"/>
            <a:ext cx="750888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lculating [H</a:t>
            </a:r>
            <a:r>
              <a:rPr b="1" lang="en-US" sz="32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pH, [OH</a:t>
            </a:r>
            <a:r>
              <a:rPr b="1" lang="en-US" sz="32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], and p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127080" y="685800"/>
            <a:ext cx="8940600" cy="0"/>
          </a:xfrm>
          <a:prstGeom prst="line">
            <a:avLst/>
          </a:prstGeom>
          <a:ln w="12708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61920" y="708120"/>
            <a:ext cx="83199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1:    A chemist dilutes concentrated hydrochloric acid to make two solutions: (a) 3.0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and (b) 0.0024 </a:t>
            </a:r>
            <a:r>
              <a:rPr b="1" i="1" lang="en-US" sz="2800" spc="-1" strike="noStrike">
                <a:solidFill>
                  <a:srgbClr val="fcfeb9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. Calculate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pH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the two solutions at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2:  What is the [H</a:t>
            </a:r>
            <a:r>
              <a:rPr b="1" lang="en-US" sz="2800" spc="-1" strike="noStrike" baseline="-25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[OH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], and pOH of a solution with pH = 3.67? Is this an acid, base, or neut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Problem 3:  Problem #2 with pH = 8.05?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890360" y="371952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905120" y="5181480"/>
            <a:ext cx="180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043000" y="5472000"/>
            <a:ext cx="1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41360" y="4419720"/>
            <a:ext cx="816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480" y="5562720"/>
            <a:ext cx="755676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HCl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HCl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among the only known strong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534160" cy="2706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13" name="Text Box 8"/>
          <p:cNvSpPr/>
          <p:nvPr/>
        </p:nvSpPr>
        <p:spPr>
          <a:xfrm>
            <a:off x="838080" y="1143000"/>
            <a:ext cx="7696440" cy="15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strength of an acid (or base) is determined by the amount of </a:t>
            </a:r>
            <a:r>
              <a:rPr b="1" lang="en-US" sz="3200" spc="-1" strike="noStrike">
                <a:solidFill>
                  <a:srgbClr val="cecece"/>
                </a:solidFill>
                <a:latin typeface="Arial"/>
              </a:rPr>
              <a:t>IO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divide acids and bases into STRONG or WEAK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TRONG ACI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  ---&gt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  +   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bout 100% dissociated in w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47640" y="4114800"/>
            <a:ext cx="295920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18" name="17M02AN1.avi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3657600" cy="2367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9044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104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eak acid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re much less than 100% ionized in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the best known is acetic acid = 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755640" y="2895480"/>
            <a:ext cx="7632720" cy="35053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23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Comic Sans MS"/>
              </a:rPr>
              <a:t>Acid and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838080" y="160020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584280" y="1905120"/>
            <a:ext cx="3987720" cy="4470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pic>
        <p:nvPicPr>
          <p:cNvPr id="56" name="Picture 6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86200" cy="31366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09120" y="12189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Strong Base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0% dissociated in wate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OH (aq)   ---&gt;  Na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100400" y="3376440"/>
            <a:ext cx="4584960" cy="28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common strong bases include KOH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O (lime)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-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(slaked l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7"/>
          <p:cNvGrpSpPr/>
          <p:nvPr/>
        </p:nvGrpSpPr>
        <p:grpSpPr>
          <a:xfrm>
            <a:off x="584280" y="3340080"/>
            <a:ext cx="3390840" cy="3276720"/>
            <a:chOff x="584280" y="3340080"/>
            <a:chExt cx="3390840" cy="3276720"/>
          </a:xfrm>
        </p:grpSpPr>
        <p:pic>
          <p:nvPicPr>
            <p:cNvPr id="228" name="Picture 4" descr=""/>
            <p:cNvPicPr/>
            <p:nvPr/>
          </p:nvPicPr>
          <p:blipFill>
            <a:blip r:embed="rId1"/>
            <a:stretch/>
          </p:blipFill>
          <p:spPr>
            <a:xfrm>
              <a:off x="584280" y="3340080"/>
              <a:ext cx="3390840" cy="327672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229" name="Rectangle 6"/>
            <p:cNvSpPr/>
            <p:nvPr/>
          </p:nvSpPr>
          <p:spPr>
            <a:xfrm>
              <a:off x="3034440" y="6035760"/>
              <a:ext cx="911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Arial"/>
                </a:rPr>
                <a:t>Ca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Weak bas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than 100% ionized in wa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best known weak bases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mo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 (l)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 +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Strong and Weak Acids/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888840" y="4038480"/>
            <a:ext cx="3073680" cy="2362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pic>
        <p:nvPicPr>
          <p:cNvPr id="234" name="17M02AN2.avi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581280" cy="23180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9" dur="1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8ffd"/>
                </a:solidFill>
                <a:latin typeface="Comic Sans MS"/>
              </a:rPr>
              <a:t>Weak B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152280" y="1646280"/>
            <a:ext cx="8877600" cy="43736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38" name="Line 4"/>
          <p:cNvSpPr/>
          <p:nvPr/>
        </p:nvSpPr>
        <p:spPr>
          <a:xfrm>
            <a:off x="685800" y="1295280"/>
            <a:ext cx="7543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a Involving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Weak Acids and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ider acetic acid, 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HOA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+     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Conj.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1752480" y="3681360"/>
          <a:ext cx="55803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681360"/>
                    <a:ext cx="5580360" cy="1008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44" name="Line 5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57200" y="4954680"/>
            <a:ext cx="838188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K is designated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or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 gives the ratio of ions (split up) to molecules (don’t split 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omic Sans MS"/>
              </a:rPr>
              <a:t>Ionization Constants for Acids/Bas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1673280" y="838080"/>
            <a:ext cx="5794200" cy="58928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49" name="Text Box 4"/>
          <p:cNvSpPr/>
          <p:nvPr/>
        </p:nvSpPr>
        <p:spPr>
          <a:xfrm>
            <a:off x="543240" y="152244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328160" y="1503360"/>
            <a:ext cx="174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Conju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 flipV="1">
            <a:off x="914400" y="2971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8077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380880" y="2209680"/>
            <a:ext cx="108288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7620120" y="5867280"/>
            <a:ext cx="1082520" cy="64260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7760" y="1981080"/>
            <a:ext cx="7188480" cy="24768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59" name="Text Box 5"/>
          <p:cNvSpPr/>
          <p:nvPr/>
        </p:nvSpPr>
        <p:spPr>
          <a:xfrm>
            <a:off x="1200240" y="4730760"/>
            <a:ext cx="6698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acid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Equilibrium Constants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for Weak 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622440" y="17524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85840" y="4730760"/>
            <a:ext cx="67309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ak base has 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ds to small 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and a pH of 12 - 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1103400" y="1981080"/>
            <a:ext cx="6933960" cy="2349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702400" cy="6222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48160" y="1981080"/>
            <a:ext cx="24382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Relation of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K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b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, [H</a:t>
            </a:r>
            <a:r>
              <a:rPr b="1" lang="en-US" sz="3600" spc="-1" strike="noStrike" baseline="-25000">
                <a:solidFill>
                  <a:srgbClr val="fc0128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O</a:t>
            </a:r>
            <a:r>
              <a:rPr b="1" lang="en-US" sz="3600" spc="-1" strike="noStrike" baseline="30000">
                <a:solidFill>
                  <a:srgbClr val="fc0128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] and 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OAc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A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2592720" y="437184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1.0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2516760" y="502920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2592720" y="5562720"/>
            <a:ext cx="403632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.00-x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rit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5"/>
          <p:cNvGraphicFramePr/>
          <p:nvPr/>
        </p:nvGraphicFramePr>
        <p:xfrm>
          <a:off x="1460520" y="2705040"/>
          <a:ext cx="631188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2705040"/>
                    <a:ext cx="6311880" cy="83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1050840" y="403848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s is a quadratic. Solve using quadratic 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380880" y="533412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 you can make an approximation if x is very small! (Rule of thumb: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or smaller is 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6360" y="1616040"/>
            <a:ext cx="84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ave a sour taste.  Vinegar is a solution of acetic acid.  Cit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ruits contain cit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8520" y="2560680"/>
            <a:ext cx="71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ertain metals to produce hydrogen g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9960" y="3139920"/>
            <a:ext cx="824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act with carbonates and bicarbonates to produce car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dioxid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4920" y="5103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a bitter t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08880" y="571356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l slippery.  Many soaps contain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j0079109"/>
          <p:cNvPicPr/>
          <p:nvPr/>
        </p:nvPicPr>
        <p:blipFill>
          <a:blip r:embed="rId1"/>
          <a:stretch/>
        </p:blipFill>
        <p:spPr>
          <a:xfrm>
            <a:off x="3808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pe02251_"/>
          <p:cNvPicPr/>
          <p:nvPr/>
        </p:nvPicPr>
        <p:blipFill>
          <a:blip r:embed="rId2"/>
          <a:stretch/>
        </p:blipFill>
        <p:spPr>
          <a:xfrm>
            <a:off x="7391520" y="4267080"/>
            <a:ext cx="14414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1104840" y="2629080"/>
          <a:ext cx="6311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629080"/>
                    <a:ext cx="6311880" cy="83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0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914400" y="3657600"/>
            <a:ext cx="6491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assume x is very small becaus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s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8"/>
          <p:cNvGraphicFramePr/>
          <p:nvPr/>
        </p:nvGraphicFramePr>
        <p:xfrm>
          <a:off x="3137040" y="4622760"/>
          <a:ext cx="328932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7040" y="4622760"/>
                    <a:ext cx="328932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294" name="Text Box 9"/>
          <p:cNvSpPr/>
          <p:nvPr/>
        </p:nvSpPr>
        <p:spPr>
          <a:xfrm>
            <a:off x="1143000" y="556272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e can more easily solve this approximate ex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roxim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K is really small, the equilibrium concentrations will be nearly the same as the initial concentr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Example: 0.20 – x is just about 0.20 if x is really sm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If the K is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5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 or smaller (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6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10</a:t>
            </a:r>
            <a:r>
              <a:rPr b="1" lang="en-US" sz="2800" spc="-1" strike="noStrike" baseline="30000">
                <a:solidFill>
                  <a:srgbClr val="f2f2f2"/>
                </a:solidFill>
                <a:latin typeface="Arial"/>
              </a:rPr>
              <a:t>-7</a:t>
            </a: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, etc.), you should approximate. Otherwise, you have to use the quadrati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pprox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595440" y="1031760"/>
            <a:ext cx="7785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.00 M HOAc. Calc. the equilibrium concs. of HOAc,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O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nd the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5"/>
          <p:cNvGraphicFramePr/>
          <p:nvPr/>
        </p:nvGraphicFramePr>
        <p:xfrm>
          <a:off x="2927520" y="2641680"/>
          <a:ext cx="328896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7520" y="2641680"/>
                    <a:ext cx="3288960" cy="787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03" name="Line 6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990000" y="3657600"/>
            <a:ext cx="7163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 [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Ac</a:t>
            </a:r>
            <a:r>
              <a:rPr b="1" lang="en-US" sz="2400" spc="-1" strike="noStrike" baseline="30000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c0128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= - log [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-log (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3152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Ac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the pH of a 0.0010 M solution of formic acid,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Approximat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Exact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]  =  0.0010 -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0.0007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pH = 3.47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"/>
          <p:cNvSpPr/>
          <p:nvPr/>
        </p:nvSpPr>
        <p:spPr>
          <a:xfrm>
            <a:off x="698400" y="83808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equilibrium concs. in ICE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initial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change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equilib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592720" y="403848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.01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790015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2516760" y="4676760"/>
            <a:ext cx="4243680" cy="52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-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5400"/>
                </a:solidFill>
                <a:latin typeface="Arial"/>
              </a:rPr>
              <a:t>+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592720" y="5257800"/>
            <a:ext cx="4036320" cy="605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0.010 - x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symb_ch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ve the equilibrium expre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4"/>
          <p:cNvGraphicFramePr/>
          <p:nvPr/>
        </p:nvGraphicFramePr>
        <p:xfrm>
          <a:off x="990720" y="3301920"/>
          <a:ext cx="65404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01920"/>
                    <a:ext cx="6540480" cy="86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19191"/>
                    </a:outerShdw>
                  </a:effectLst>
                </p:spPr>
              </p:pic>
            </p:oleObj>
          </a:graphicData>
        </a:graphic>
      </p:graphicFrame>
      <p:sp>
        <p:nvSpPr>
          <p:cNvPr id="328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716760" y="4408560"/>
            <a:ext cx="8026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ume x is small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 =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[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0.010 -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≈  0.01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approximation is valid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Equilibria Involving A Weak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have 0.010 M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Calc. the p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+  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Step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culate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=  4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pOH = - 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]  =  3.3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cause pH + pOH = 14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H = 10.6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6568920" y="2158920"/>
            <a:ext cx="1187640" cy="33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34" name="Line 5"/>
          <p:cNvSpPr/>
          <p:nvPr/>
        </p:nvSpPr>
        <p:spPr>
          <a:xfrm>
            <a:off x="698400" y="990720"/>
            <a:ext cx="75945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ypes of Acid/Base Reactions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990720" y="1523880"/>
            <a:ext cx="71625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152280" y="1922400"/>
            <a:ext cx="8915400" cy="27259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  <p:sp>
        <p:nvSpPr>
          <p:cNvPr id="339" name="Text Box 5"/>
          <p:cNvSpPr/>
          <p:nvPr/>
        </p:nvSpPr>
        <p:spPr>
          <a:xfrm>
            <a:off x="0" y="0"/>
            <a:ext cx="2590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NORS ON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H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several ways to test p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 litmus paper (red = ac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 litmus paper (blue = basi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pape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 meter (7 is neutral, &lt;7 acid, &gt;7 bas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versal indicator (multi-color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ors like phenolphthale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indicators like red cabbage, radis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Some Properties of Aci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roduce H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(as H</a:t>
            </a:r>
            <a:r>
              <a:rPr b="0" lang="en-US" sz="21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ions in water  (the hydronium ion is a hydrogen ion attached to a water molecule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aste sour           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rrode metal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lectrolyt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act with bases to form a salt and water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H is less than 7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88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urns blue litmus paper to red  “Blue to Red A-CID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Paper 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586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per tests like litmus paper and pH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stirring rod into the solution and sti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the stirring rod out, and place a drop of the solution from the end of the stirring rod onto a piece of th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d and record the color change.  Note what the color indicat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should only use a small portion of the paper.  You can use one piece of paper for several te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litmus"/>
          <p:cNvPicPr/>
          <p:nvPr/>
        </p:nvPicPr>
        <p:blipFill>
          <a:blip r:embed="rId1"/>
          <a:stretch/>
        </p:blipFill>
        <p:spPr>
          <a:xfrm>
            <a:off x="6397560" y="2590920"/>
            <a:ext cx="274644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litmus bottles"/>
          <p:cNvPicPr/>
          <p:nvPr/>
        </p:nvPicPr>
        <p:blipFill>
          <a:blip r:embed="rId2"/>
          <a:stretch/>
        </p:blipFill>
        <p:spPr>
          <a:xfrm>
            <a:off x="6934320" y="6094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ph-paper-0-14"/>
          <p:cNvPicPr/>
          <p:nvPr/>
        </p:nvPicPr>
        <p:blipFill>
          <a:blip r:embed="rId3"/>
          <a:stretch/>
        </p:blipFill>
        <p:spPr>
          <a:xfrm>
            <a:off x="6696000" y="4767120"/>
            <a:ext cx="2448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304920" y="6265800"/>
            <a:ext cx="1600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rcRect l="0" t="3000" r="0" b="0"/>
          <a:stretch/>
        </p:blipFill>
        <p:spPr>
          <a:xfrm>
            <a:off x="609480" y="942840"/>
            <a:ext cx="8129880" cy="59151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352680" y="228600"/>
            <a:ext cx="213372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H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Comic Sans MS"/>
              </a:rPr>
              <a:t>pH met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s the voltage of the electroly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s the voltage to 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cheap, accu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st be calibrated with a buffer sol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791320" y="2362320"/>
            <a:ext cx="2971800" cy="29145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H indica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s are dyes that can be added that will change color in the presence of an acid or ba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indicators only work in a specific range of 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the drops are added, the sample is ru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yes are natural, like radish skin or red cabb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pool pH kit"/>
          <p:cNvPicPr/>
          <p:nvPr/>
        </p:nvPicPr>
        <p:blipFill>
          <a:blip r:embed="rId1"/>
          <a:stretch/>
        </p:blipFill>
        <p:spPr>
          <a:xfrm>
            <a:off x="4038480" y="4168800"/>
            <a:ext cx="2743200" cy="26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universal indicator"/>
          <p:cNvPicPr/>
          <p:nvPr/>
        </p:nvPicPr>
        <p:blipFill>
          <a:blip r:embed="rId2"/>
          <a:stretch/>
        </p:blipFill>
        <p:spPr>
          <a:xfrm>
            <a:off x="0" y="4314960"/>
            <a:ext cx="3276720" cy="2543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6" descr="cabjuice2"/>
          <p:cNvPicPr/>
          <p:nvPr/>
        </p:nvPicPr>
        <p:blipFill>
          <a:blip r:embed="rId3"/>
          <a:stretch/>
        </p:blipFill>
        <p:spPr>
          <a:xfrm>
            <a:off x="5905440" y="838080"/>
            <a:ext cx="3238560" cy="25401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redcabba"/>
          <p:cNvPicPr/>
          <p:nvPr/>
        </p:nvPicPr>
        <p:blipFill>
          <a:blip r:embed="rId4"/>
          <a:stretch/>
        </p:blipFill>
        <p:spPr>
          <a:xfrm>
            <a:off x="6838920" y="2971800"/>
            <a:ext cx="2305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CID-BASE REA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t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919191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919191"/>
                </a:solidFill>
                <a:latin typeface="Arial"/>
              </a:rPr>
              <a:t>(aq)   +   2 NaOH(aq)  ---&gt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q)  +  2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(li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y out this reaction using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I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2419200" y="4184640"/>
            <a:ext cx="5309640" cy="2158920"/>
            <a:chOff x="2419200" y="4184640"/>
            <a:chExt cx="5309640" cy="2158920"/>
          </a:xfrm>
        </p:grpSpPr>
        <p:pic>
          <p:nvPicPr>
            <p:cNvPr id="362" name="Picture 5" descr=""/>
            <p:cNvPicPr/>
            <p:nvPr/>
          </p:nvPicPr>
          <p:blipFill>
            <a:blip r:embed="rId1"/>
            <a:stretch/>
          </p:blipFill>
          <p:spPr>
            <a:xfrm>
              <a:off x="2419200" y="4184640"/>
              <a:ext cx="3225960" cy="21589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</p:pic>
        <p:sp>
          <p:nvSpPr>
            <p:cNvPr id="363" name="Rectangle 6"/>
            <p:cNvSpPr/>
            <p:nvPr/>
          </p:nvSpPr>
          <p:spPr>
            <a:xfrm>
              <a:off x="5851080" y="4800600"/>
              <a:ext cx="1877760" cy="10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xalic aci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28680" y="925560"/>
            <a:ext cx="8483400" cy="50036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592560" y="203040"/>
            <a:ext cx="786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Comic Sans MS"/>
              </a:rPr>
              <a:t>Setup for titrating an acid with a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Comic Sans MS"/>
              </a:rPr>
              <a:t>Titr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Add solution from the bur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 Reagent (base) reacts with compound (acid) in solution in the flas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ator shows when exact stoichiometric reaction has occurred. (Acid = Ba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NEUTRAL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05M14VD1.avi" descr=""/>
          <p:cNvPicPr/>
          <p:nvPr/>
        </p:nvPicPr>
        <p:blipFill>
          <a:blip r:embed="rId1"/>
          <a:stretch/>
        </p:blipFill>
        <p:spPr>
          <a:xfrm>
            <a:off x="0" y="2133720"/>
            <a:ext cx="319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809520" y="23619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.62 mL of NaOH is neutralized with 25.2 mL of 0.0998 M HCl by titration to an equivalence point.  What is the concentration of the NaOH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7239240" cy="14479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 PROBLEM #1:   Standardize a solution of NaOH — i.e., accurately determine its concent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630360" y="1652760"/>
            <a:ext cx="3008160" cy="32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water to the 3.0 M solution to lower its concentration to 0.50 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Comic Sans MS"/>
              </a:rPr>
              <a:t>Dilute the solution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3716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1015920" y="2019240"/>
            <a:ext cx="6019920" cy="44960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3563280" y="2333520"/>
            <a:ext cx="4270320" cy="106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how much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we ad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981080" y="1523880"/>
          <a:ext cx="6915240" cy="39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9152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Acid Nomenclature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4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No Oxygen</a:t>
            </a:r>
            <a:r>
              <a:rPr b="0" lang="en-US" sz="2400" spc="-1" strike="noStrike">
                <a:solidFill>
                  <a:srgbClr val="fcfeb9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0880" y="4267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feb9"/>
                </a:solidFill>
                <a:latin typeface="Arial"/>
              </a:rPr>
              <a:t>w/Oxy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V="1">
            <a:off x="198108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9810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228600" y="541008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 easy way to remember which goes with wh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 the cafeteria, you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T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something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much water is add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he important point is that ---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14400" y="3578400"/>
            <a:ext cx="7273440" cy="1222200"/>
            <a:chOff x="914400" y="3578400"/>
            <a:chExt cx="7273440" cy="1222200"/>
          </a:xfrm>
        </p:grpSpPr>
        <p:sp>
          <p:nvSpPr>
            <p:cNvPr id="380" name="Rectangle 5"/>
            <p:cNvSpPr/>
            <p:nvPr/>
          </p:nvSpPr>
          <p:spPr>
            <a:xfrm>
              <a:off x="914400" y="3581280"/>
              <a:ext cx="7238880" cy="12193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6"/>
            <p:cNvSpPr/>
            <p:nvPr/>
          </p:nvSpPr>
          <p:spPr>
            <a:xfrm>
              <a:off x="1455480" y="3578400"/>
              <a:ext cx="6732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ORIGINAL solution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oles of NaOH in FINAL solu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162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of NaOH in original solution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 •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3.0 mol/L)(0.050 L)  =  0.5 M NaOH  X 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ount of NaOH in final solution must also = 0.15 mol NaO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ume of final solution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0.15 mol NaOH)  /  (0.50 M)  = 0.30 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00 m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144792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BLEM:  You have 50.0 mL of 3.0 M NaOH and you want 0.50 M NaOH.  What do you d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5520" y="1904760"/>
            <a:ext cx="2667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onclus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 250 mL of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50.0 mL of 3.0 M NaOH to make 300 mL of 0.50 M NaOH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254160" y="1790640"/>
            <a:ext cx="60195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09480" y="3200400"/>
            <a:ext cx="4724640" cy="1295280"/>
          </a:xfrm>
          <a:prstGeom prst="rect">
            <a:avLst/>
          </a:prstGeom>
          <a:solidFill>
            <a:srgbClr val="ffc5c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hortc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=  M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• V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503280" y="1754280"/>
            <a:ext cx="1866960" cy="1803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7294680" y="3587760"/>
            <a:ext cx="1401480" cy="27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</p:pic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9624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Comic Sans MS"/>
              </a:rPr>
              <a:t>Preparing Solutions by Di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You try this dilu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914040"/>
            <a:ext cx="71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stock bottle of hydrochloric acid, which is 12.1 M.  You need 400. mL of 0.10 M HCl.  How much of the acid and how much water will you ne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79520" y="1946160"/>
            <a:ext cx="5259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Br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3472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819520" y="1981080"/>
            <a:ext cx="4233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hydr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2819520" y="2895480"/>
            <a:ext cx="37526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bon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819520" y="4038480"/>
            <a:ext cx="381132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lfur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Acid Nomenclature Re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feb9"/>
                </a:solidFill>
                <a:latin typeface="Comic Sans MS"/>
              </a:rPr>
              <a:t>Name ‘Em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24573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l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(a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fanfare 07.wav" descr=""/>
          <p:cNvPicPr/>
          <p:nvPr/>
        </p:nvPicPr>
        <p:blipFill>
          <a:blip r:embed="rId1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27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5T23:08:44Z</dcterms:created>
  <dc:creator>Neil Rapp</dc:creator>
  <dc:description/>
  <cp:keywords>acids bases pH</cp:keywords>
  <dc:language>en-US</dc:language>
  <cp:lastModifiedBy>LEGION</cp:lastModifiedBy>
  <cp:lastPrinted>1997-03-04T21:31:49Z</cp:lastPrinted>
  <dcterms:modified xsi:type="dcterms:W3CDTF">2017-01-26T09:11:38Z</dcterms:modified>
  <cp:revision>258</cp:revision>
  <dc:subject>Chemistry I (High School)</dc:subject>
  <dc:title>Acids and Bases</dc:title>
</cp:coreProperties>
</file>