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ing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 x 10 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0 x 10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nter 1.0  EE   +/-   14    4.0   EE   +/-  5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 2.5 x 10 -10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solution is 5 x 10 -5 M.  What is the [H3O+ 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 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] of a water solution is 5 x 10-5 M.  What is the [H3O+] in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]  =  1.0 x 10 -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10-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ome calcula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 EE  +/-  14   5  EE  +/-  5 =  2 x 10 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The [OH-] when [H3O+ ] of 1 x 10- 4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6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-8 M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The [H3O+] when [OH- ] of 5 x  10-9 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 x 10- 6 M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2 x 10- 6 M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2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p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Kw  =   [H3O+ ][OH-]   =  1.0 x 10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(3) [OH- ] =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1.0 x 10 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.0 x 10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(2) [H3O+]  =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1.0 x 10 -14    =  2 x 10 -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 x 10- 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s the acidity [H3O+] of th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  =  - log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French pouvoir hydroge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“hydrogen power” or pow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 for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ex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 =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   1   2   3  4  5   6    7  8  9  10  11  12  13 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&gt;[OH-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[H+] = [OH-]             [OH-]&gt;[H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me [H3O+]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3O+]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5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9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11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of Some Common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mon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inega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ange juic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ffe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k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zat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asionally, in water, a H+ is transferred between H2O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          . .                   . .    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:O:  +    :O:H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:O:H +     +   :O: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. 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. 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lecules     hydronium     hydrox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ion (+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ion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f Some Common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7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8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k of magnes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hold ammon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The  [H3O+] of tomato juice is 1 x 10-4 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- 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The [OH-] of an ammonia solu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3 M.  What is the pH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 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H = - log [ 1 x 10-4] = -(- 4)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[H3O+]  = 1 x 10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- log [ 1 x 10- 11] = -(- 11) =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 - 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1 x 10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1 x 10 - 1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of a soap is 10.  What is the [H3O+] of the soap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pH 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on the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is 4.5 x 10-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=   4.5  x  EXP(or EE) 6+/- LOG +/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5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 x 10-8 M.  What is the pH of the solu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ap solution has a [H3O+] = 2.0 x 10-8 M.  What is the pH of the solution?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 2.0    EE    8    +/-    LOG   +/-  =  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arning Check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____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 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__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 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pH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dentify each solution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acid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2. basic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_1__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HCl with a pH = 1.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ncreatic fluid  [H+] =  1 x 10-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prite soft drink   pH =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. _3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 = 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. _1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-]  =  3 x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. _2__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H+] =  5 x 10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is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ure water contains small, but equal amounts of ions:  H3O+ and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+   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nium hydroxide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ion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ion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x 10-7 M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1 x 10-7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olluted rain has a pH of 5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with a pH below 5.6 is “acid rain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in the air forms carbon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+  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to H+ of r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CO3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(aq) +  HCO3-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acid rai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St Helens (1980) 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eactions in the atmosphere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SO2  + O2     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actions with atmosphere wate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3  +  H2O      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 +  H2O      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NO2 +  H2O    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Acid Rai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l refin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with high S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and truck emi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decomposition, and lighting hitting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6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and NO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2 million tons in 19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t. St Helens (1980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00,000 tons 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oxygen in air form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SO2  + O2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S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ctions with water in air form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3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SO4  sulf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  +  H2O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 nitrous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2 +  H2O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NO3  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ches Al from soil, which kills fis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s waxy coatings that protect leaves fro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odes metals, textiles, paper and le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Product of Water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           ] =  Molar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H3O+ ]  [ OH-  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 1 x 10-7  ][ 1 x 10-7 ]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crease H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Cl (g)  +  H2O (l)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 (aq)  +  Cl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ore [H3O+] than water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s H3O+ increases, OH-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[H3O+] &gt; 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crease the hydroxide ions (OH-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s)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Na+(aq)    +   OH- (a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re [OH-] than water, [OH-] &gt; 1 x 10-7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OH- increases, H3O+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[OH] &gt; [H3O+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K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OH- ] of a solution is 1.0 x 10- 3 M. What is the [H3O+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w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 ] [OH- 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3O+]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   1.0 x 10-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3 M.  What is the [OH-] of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cturePLUS Timberl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p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[H3O+] of lemon juice is 1.0 x 10- 3 M.  What is the [OH-]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OH- ]  =   1.0 x 10 -14     =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-1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x 10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BB0-95F8-443C-889C-3B794BE2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79A-1F1D-49D1-968E-2E82BA47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704-CC42-4A75-9B44-76CAFE915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EC61-4C30-44C8-A8C6-86164F57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4E20-21FD-4755-8D6E-331A002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741-C22E-4C02-9DFF-32B054AE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5CB8-4808-4E79-8469-A66BE38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8259-B6F0-492F-A1B1-0A8BF9CE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218-F164-4895-9811-062E06AB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C40E-1B71-43DC-8D8B-3D0505E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E876-9DF8-4071-894A-FF6A9E46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14E-D70C-492B-BAE0-BAD6F5EF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04DD-22D6-49A8-B081-3C4C53605725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ff33"/>
                </a:solidFill>
                <a:latin typeface="Arial"/>
              </a:rPr>
              <a:t>The pH Scal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Enter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EE   +/-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ffff00"/>
                </a:solidFill>
                <a:latin typeface="Symbol"/>
                <a:ea typeface="Symbol"/>
              </a:rPr>
              <a:t>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.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E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/-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5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.5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7238880" y="4419720"/>
            <a:ext cx="1551240" cy="2209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0968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04812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343400" y="335268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7913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05720" y="3429000"/>
            <a:ext cx="685800" cy="68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-] of a solution is 5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5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a water solution is 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in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1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n some calculator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EE  +/-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66ff33"/>
                </a:solidFill>
                <a:latin typeface="Symbol"/>
                <a:ea typeface="Symbol"/>
              </a:rPr>
              <a:t>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E  +/-</a:t>
            </a:r>
            <a:r>
              <a:rPr b="1" lang="en-US" sz="3600" spc="-1" strike="noStrike">
                <a:solidFill>
                  <a:srgbClr val="66ff33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 -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2438280" y="3886200"/>
            <a:ext cx="1828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8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0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when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5 x 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 6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2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=   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][OH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 =  1.0 x 10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3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0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4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(2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14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2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- 6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9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8001000" cy="129564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dicates the acidity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he solu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  =  - log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51"/>
              </a:spcBef>
              <a:buClr>
                <a:srgbClr val="66ff33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rom the French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pouvoir hydrogene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(“hydrogen power” or power of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hydrogen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 the expression for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exponent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exponent = pH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  =   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pH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Line 4"/>
          <p:cNvSpPr/>
          <p:nvPr/>
        </p:nvSpPr>
        <p:spPr>
          <a:xfrm>
            <a:off x="4267080" y="4114800"/>
            <a:ext cx="129564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5345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Rang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0   1   2   3  4  5   6    7  8  9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10  11  12  13  14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Neutral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0" y="2895480"/>
            <a:ext cx="4495680" cy="1371600"/>
          </a:xfrm>
          <a:prstGeom prst="leftArrow">
            <a:avLst>
              <a:gd name="adj1" fmla="val 50000"/>
              <a:gd name="adj2" fmla="val 81942"/>
            </a:avLst>
          </a:prstGeom>
          <a:solidFill>
            <a:srgbClr val="ff33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Acid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4495680" y="2930400"/>
            <a:ext cx="4648320" cy="1295640"/>
          </a:xfrm>
          <a:prstGeom prst="rightArrow">
            <a:avLst>
              <a:gd name="adj1" fmla="val 50000"/>
              <a:gd name="adj2" fmla="val 89692"/>
            </a:avLst>
          </a:prstGeom>
          <a:solidFill>
            <a:srgbClr val="00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Basic</a:t>
            </a:r>
            <a:endParaRPr b="0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me [H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] and 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[H</a:t>
            </a:r>
            <a:r>
              <a:rPr b="1" lang="en-US" sz="4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4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pH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9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40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Acid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stric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nega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range juic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.5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ffe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6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6705720" y="2819520"/>
            <a:ext cx="203184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zation of Wat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ccasionally, in water, a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s transferred between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molecul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          . .                   . .    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 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+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. 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. .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. 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 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water molecules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hydronium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ydroxid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ion (+)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ion (-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143000" y="4495680"/>
            <a:ext cx="533520" cy="533520"/>
          </a:xfrm>
          <a:prstGeom prst="ellipse">
            <a:avLst/>
          </a:prstGeom>
          <a:noFill/>
          <a:ln w="2844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1676520" y="3962520"/>
            <a:ext cx="914400" cy="76176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3809880" y="3962520"/>
            <a:ext cx="5335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3657600" y="4191120"/>
            <a:ext cx="914400" cy="0"/>
          </a:xfrm>
          <a:prstGeom prst="line">
            <a:avLst/>
          </a:prstGeom>
          <a:ln w="284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Arial"/>
              </a:rPr>
              <a:t>pH of Some Common Bases</a:t>
            </a:r>
            <a:endParaRPr b="0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loo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7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awater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8.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lk of magnes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.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usehold ammonia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1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1" name="Object 4" descr=""/>
          <p:cNvPicPr/>
          <p:nvPr/>
        </p:nvPicPr>
        <p:blipFill>
          <a:blip r:embed="rId1"/>
          <a:stretch/>
        </p:blipFill>
        <p:spPr>
          <a:xfrm>
            <a:off x="7391520" y="2133720"/>
            <a:ext cx="118404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5" descr=""/>
          <p:cNvPicPr/>
          <p:nvPr/>
        </p:nvPicPr>
        <p:blipFill>
          <a:blip r:embed="rId2"/>
          <a:stretch/>
        </p:blipFill>
        <p:spPr>
          <a:xfrm>
            <a:off x="6705720" y="4038480"/>
            <a:ext cx="865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4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The 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tomato juice is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- 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n ammonia solution i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.  What is the pH of the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  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4) = 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]  = 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- log [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1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= -(- 11) = 11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6000"/>
          </a:bodyPr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4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1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 1 x 10 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 10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26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5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pH of a soap is 10.  What is 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ap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]  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pH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 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=   1 x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600" spc="-1" strike="noStrike" baseline="30000">
                <a:solidFill>
                  <a:srgbClr val="66ff33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Comic Sans MS"/>
              </a:rPr>
              <a:t>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H on the Calculato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is 4.5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H =   4.5  x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EXP(or EE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6+/- 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LOG +/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5.35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6629400" y="3886200"/>
            <a:ext cx="1925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8000"/>
          </a:bodyPr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 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2" name="Object 4" descr=""/>
          <p:cNvPicPr/>
          <p:nvPr/>
        </p:nvPicPr>
        <p:blipFill>
          <a:blip r:embed="rId1"/>
          <a:stretch/>
        </p:blipFill>
        <p:spPr>
          <a:xfrm>
            <a:off x="6629400" y="3048120"/>
            <a:ext cx="15289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6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soap solution has a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= 2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8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pH of the solution?   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B)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2.0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E 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8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+/-    LOG  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 +/-  =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7.7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8288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4419720" y="4724280"/>
            <a:ext cx="1143000" cy="762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5715000" y="4800600"/>
            <a:ext cx="838080" cy="609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____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_____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7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dentify each solution 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. acid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     2. basic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3. neutr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. _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Cl with a pH = 1.5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ncreatic fluid  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1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8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rite soft drink   pH = 3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3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H = 7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1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 =  3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.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_2__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[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] =  5 x 10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ure Water is Neutral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ure water contains small, but equal amounts of ions: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3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 + 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   +   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                        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dronium hydroxi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ion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io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7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809880" y="3886200"/>
            <a:ext cx="457200" cy="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3429000" y="419112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85800" y="434340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1981080" y="4343400"/>
            <a:ext cx="99072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noFill/>
          <a:ln w="572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Unpolluted rain has a pH of 5.6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ain with a pH below 5.6 is “acid rain“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 the air forms carbonic acid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-95760">
              <a:lnSpc>
                <a:spcPct val="13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dds to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f rain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(aq) +  HC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-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Formation of acid rain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Emission of sulfur and nitrogen oxides from the burning of fuels expecially coal with high S content, power stations,  oil refineries, vehicles as well as bacterial decomposition, and lighting hitting N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Reactions in the atmosphere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2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.  Reactions with atmosphere wate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  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.   Effects of Acid Rai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cline in fish populations in rivers and lasts due to toxic effect of Al leached from soil by acid rai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tensive fish kills in spring from runoff due to accumulation of large amounts of acid on the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minerals Mg, Ca, and K from the soil and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20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9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3581280" y="5562720"/>
            <a:ext cx="609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419112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urces of Acid Rain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wer stat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il refineri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al with high S content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r and truck emiss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cterial decomposition, and lighting hitting N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73" name="Object 4" descr="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6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O and N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2 million tons in 198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t. St Helens (1980)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00,000 tons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1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oxygen in air form S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 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actions with water in air form aci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sulfu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NO 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ous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+  H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O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NO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 nitric aci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3276720" y="3200400"/>
            <a:ext cx="137160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3276720" y="457200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3276720" y="5181480"/>
            <a:ext cx="14475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3505320" y="5715000"/>
            <a:ext cx="121896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s of Acid Rai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aches Al from soil, which kills fis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sh kills in spring from runoff due to accumulation of large amounts of acid in  snow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solves waxy coatings that protect leaves from bacteri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rrodes metals, textiles, paper and leath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 Product of Water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[            ] =  Molar concentration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12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K</a:t>
            </a:r>
            <a:r>
              <a:rPr b="1" lang="en-US" sz="3400" spc="-1" strike="noStrike" baseline="-25000">
                <a:solidFill>
                  <a:srgbClr val="ff9900"/>
                </a:solidFill>
                <a:latin typeface="Arial"/>
              </a:rPr>
              <a:t>w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H</a:t>
            </a:r>
            <a:r>
              <a:rPr b="1" lang="en-US" sz="3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+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[ OH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[ 1 x 10</a:t>
            </a:r>
            <a:r>
              <a:rPr b="1" lang="en-US" sz="3400" spc="-1" strike="noStrike" baseline="30000">
                <a:solidFill>
                  <a:srgbClr val="ffff00"/>
                </a:solidFill>
                <a:latin typeface="Arial"/>
              </a:rPr>
              <a:t>-7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]   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ff9900"/>
                </a:solidFill>
                <a:latin typeface="Arial"/>
              </a:rPr>
              <a:t>1 x 10</a:t>
            </a:r>
            <a:r>
              <a:rPr b="1" lang="en-US" sz="3400" spc="-1" strike="noStrike" baseline="30000">
                <a:solidFill>
                  <a:srgbClr val="ff9900"/>
                </a:solidFill>
                <a:latin typeface="Arial"/>
              </a:rPr>
              <a:t>-14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g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l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Cl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 &gt; 1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66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s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 &gt;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095880" y="4419720"/>
            <a:ext cx="990720" cy="18288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238880" y="5334120"/>
            <a:ext cx="8384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267080" y="2590920"/>
            <a:ext cx="6098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Increase the hydroxide ions (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          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s)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Na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aq)    +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(aq)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or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than water,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 &gt; 1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7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00ffff"/>
              </a:buClr>
              <a:buSzPct val="12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increases,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decrease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00ffff"/>
                </a:solidFill>
                <a:latin typeface="Symbol"/>
                <a:ea typeface="Symbol"/>
              </a:rPr>
              <a:t>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&gt;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172200" y="5638680"/>
            <a:ext cx="838080" cy="762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7162920" y="4876920"/>
            <a:ext cx="91440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590920" y="3657600"/>
            <a:ext cx="5331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K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Arial"/>
              </a:rPr>
              <a:t>w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e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of a solution is 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. What is the [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w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[H</a:t>
            </a:r>
            <a:r>
              <a:rPr b="1" lang="en-US" sz="3000" spc="-1" strike="noStrike" baseline="-25000">
                <a:solidFill>
                  <a:srgbClr val="ff66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]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ffff"/>
                </a:solidFill>
                <a:uFillTx/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=  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66ff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66ff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the solution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3)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200" spc="-1" strike="noStrike" baseline="30000">
                <a:solidFill>
                  <a:srgbClr val="ff9900"/>
                </a:solidFill>
                <a:latin typeface="Arial"/>
              </a:rPr>
              <a:t>11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716292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pH1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[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 of lemon juice is 1.0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.  What is the [OH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]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[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]  =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00ffff"/>
                </a:solidFill>
                <a:latin typeface="Arial"/>
              </a:rPr>
              <a:t>-1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.0 x 10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-11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baseline="30000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.0 x 10 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3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2209680" y="4343400"/>
            <a:ext cx="2438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22:30:38Z</dcterms:created>
  <dc:creator>Karen Timberlake</dc:creator>
  <dc:description/>
  <dc:language>en-US</dc:language>
  <cp:lastModifiedBy>LEGION</cp:lastModifiedBy>
  <dcterms:modified xsi:type="dcterms:W3CDTF">2017-01-26T09:13:18Z</dcterms:modified>
  <cp:revision>4</cp:revision>
  <dc:subject/>
  <dc:title>Chapter 9 Acids and 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9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