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8A5B-4346-4284-A73A-8B49727D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have a nucleus that contains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contained in shells that sur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is made of mostly empty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have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have a negative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are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shells are filled from the insid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have full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elements have partially filled outer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ell containing electrons that is furthest from the nucleus is called the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period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es are usually un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have full valence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wo atoms to join together atoms must gain, lose or sha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with full valence shells do not easily gain or los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ant to gain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will try to gain or lose electrons to have a full valence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try to los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Metals try to gain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negatively charg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re posi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with a charge is called an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5760-E5AC-4750-9D3E-D0347DA2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1F5-1A9C-4DAA-9582-6A221B6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CE9-BDD5-4210-97C0-872E5EC3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0B7-58E8-4308-AF20-307D61BD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EF4-8942-4461-AD3E-67DBAC6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14D-AE09-4FB6-A18F-7D7AF9D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7C4-68FC-4E16-85F4-4FD1D23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D5E-C84A-4C95-AFB1-815509BA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A13-6E63-4153-A927-0AA48587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083-59D4-4DFB-8C59-4A2F977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983-71F6-4D5A-A423-576C2F1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D1F-24E5-4E88-B7BE-2BB26C9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4EA6-8B53-4623-809B-331D1D8D7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400800" cy="39625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have a nucleus that contai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ns an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contain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ll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surround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is made of most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ty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ctron shell can hold a certain number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shells are filled 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ble Gase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ther elements ha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er electron sh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8320" y="1600200"/>
          <a:ext cx="4038480" cy="4905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Sh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Elec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s in the outer most electron shell are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ell containing electrons tha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rthe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nucleus is called the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electron shells with electrons is the same a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i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le gases are us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ment with a full valence shell is a happy el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wo atoms to join together atoms mus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, lose or shar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with full valence shel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gain or los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ble Gas S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ant to ga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ll try to gain or lose electrons to hav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ence 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Metals try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oming An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atoms do not have a charge because the number of protons is the same as th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toms gain or lose electrons they become positively or negativ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 with a charge is called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ls Bohr created a visual model of the atom to make them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hr Model contains a central nucleus surrounded by electron sh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model you state the number of protons and neutrons in the nucleus and draw a dot on the electron shells for each 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2:43:07Z</dcterms:created>
  <dc:creator>Doug</dc:creator>
  <dc:description/>
  <dc:language>en-US</dc:language>
  <cp:lastModifiedBy>LEGION</cp:lastModifiedBy>
  <dcterms:modified xsi:type="dcterms:W3CDTF">2017-01-26T09:17:48Z</dcterms:modified>
  <cp:revision>4</cp:revision>
  <dc:subject/>
  <dc:title>Valence Electrons  &amp;  Bohr Diagrams</dc:title>
</cp:coreProperties>
</file>