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-46080" bIns="-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pent most of his life trying to prove the theories of Coperni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rst to effectively use the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man Catholic Philosoph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rth and humans are the center of all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would the Roman Catholics care whether the Earth was the center of 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retrograde mo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the difference between heliocentric and geocentr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was Ptolemy’s theor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was Galileo importa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reek philosop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lieved the Earth was the center of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rth was surrounded by water, air, and f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 thought that the moon, sun, five planets, and the stars all revolved around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ocentr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n is the center of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liocentr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rst to measure the distance to the sun and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VOLUTION is the cycle in which a planet orbits the sun (one ye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TATION is the cycle of a planet spinning on its axis; day to night (one da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maginary line on which an object ro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rth’s axis goes through its center from the North to the South 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the major difference between the universe models of Aristotle and Aristarch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is rotation different from rev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greed with ARISTOTLE’S geocentr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trograde motion is the idea that a planet moves back and forth in a looping motion; “Mars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liocentr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panded the ideas of Aristarch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dentified the positions of the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3A44-45F4-46BA-A53C-E378C0E82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222A-E52B-4054-9D37-1B2C620B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5658-A5A6-4FEB-88F5-DF8575A05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40C2-42F3-46AB-8030-3526664A1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CD27-43F2-4589-AD7F-1E52016E0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CDB1-247A-45EB-925B-DCDE8C7F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828C-52C8-4ABA-B1BC-07051639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4993-0F83-4A2A-A0A5-FFF34996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1630-E8D1-4680-AAF6-A948D9C4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8664-3A10-4CBA-96C2-37AD22CD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3B1C-0BCB-4370-A21E-A3D96814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0FE8-E98C-42F1-BCF3-CDCF672E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2155-8EA0-4214-AF4F-A6AF6C7C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D7BA-BBFE-4F98-A44C-EC7097DA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0299-B37A-4248-A3E6-0BBA70B4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7362-B11F-492F-908B-4E950716B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66A5-60DD-4507-84F5-6238297A2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BF70-09A1-48E6-A616-AE908B68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6FD3-4692-49F1-A130-3D1C89C3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1870-469F-4C46-9329-58406A28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9193-90A7-497B-A8E1-F86E05FC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C607-BB8B-4A37-8C1E-89681EF6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C1AD-5075-4028-BC69-50DFF613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4F07-A857-44BA-AC22-5E2BA6B9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5EFA-5A82-4A60-9F77-43F4D4F336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2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  <p:sp>
          <p:nvSpPr>
            <p:cNvPr id="48" name="Arc 3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  <p:sp>
          <p:nvSpPr>
            <p:cNvPr id="49" name="Arc 4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D0EA-CB92-4F79-B3A8-D48906B0ECF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Astronomy</a:t>
            </a:r>
            <a:br>
              <a:rPr sz="4400"/>
            </a:b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Ancient Philosophi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Galileo (1564-1642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Spent most of his life trying to prove the theories of Copernicu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First to effectively use the telescop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page 43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Roman Catholic Philosoph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Earth and humans are the center of all thing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0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Ques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y would the Roman Catholics care whether the Earth was the center of the universe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at is retrograde motion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Ques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at is the difference between heliocentric and geocentric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at was Ptolemy’s theory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y was Galileo important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1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16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Aristotle (384-322) B.C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Greek philosopher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Believed the Earth was the center of the univers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Earth was surrounded by water, air, and fir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Aristot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He thought that the moon, sun, five planets, and the stars all revolved around the Eart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Geocentric model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Aristarchus (3rd Century B.C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Sun is the center of the univers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Heliocentric model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First to measure the distance to the sun and mo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Aristarchu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REVOLUTION is the cycle in which a planet orbits the sun (one year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ROTATION is the cycle of a planet spinning on its axis; day to night (one day)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8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What is an axis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Imaginary line on which an object rotat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Earth’s axis goes through its center from the North to the South Pol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Ques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at is the major difference between the universe models of Aristotle and Aristarchus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How is rotation different from revolution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Ptolemy (2nd century A.D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Agreed with ARISTOTLE’S geocentric model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Retrograde motion is the idea that a planet moves back and forth in a looping motion; “Mars” (p.434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Copernicus (1473-1543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Heliocentric model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Expanded the ideas of Aristarchu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Identified the positions of the plane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9T22:06:38Z</dcterms:created>
  <dc:creator>Newport News</dc:creator>
  <dc:description/>
  <dc:language>en-US</dc:language>
  <cp:lastModifiedBy>Legion</cp:lastModifiedBy>
  <dcterms:modified xsi:type="dcterms:W3CDTF">2017-01-26T09:03:56Z</dcterms:modified>
  <cp:revision>5</cp:revision>
  <dc:subject/>
  <dc:title>Astronomy </dc:title>
</cp:coreProperties>
</file>