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pent most of his life trying to prove the theories of Coperni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o effectively use th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man Catholic Philoso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 and humans are the center of all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would the Roman Catholics care whether the Earth was the center of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retrograde mo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difference between heliocentric and geocentr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as Ptolemy’s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was Galileo impor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eek philosop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lieved the Earth was the center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 was surrounded by water, air, and 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thought that the moon, sun, five planets, and the stars all revolved around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n is the center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o measure the distance to the sun and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VOLUTION is the cycle in which a planet orbits the sun (one y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TATION is the cycle of a planet spinning on its axis; day to night (one da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maginary line on which an object ro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’s axis goes through its center from the North to the South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major difference between the universe models of Aristotle and Aristarch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is rotation different from rev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greed with ARISTOTLE’S ge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trograde motion is the idea that a planet moves back and forth in a looping motion; “Mar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anded the ideas of Aristarch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ntified the positions of the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1F5-D263-40AC-829C-18C21F8B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17F-0542-4E34-813C-D2183173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59B-C696-4F27-90CC-C848CF70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BD8-584E-4AE2-AE88-B6D021B6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C29C-274A-4CC4-B0FE-44A531F4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805F-B968-494D-B5BE-D0D6A8AA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F1D4-FB50-4054-846B-A5E01109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7EEE-CC00-4F0B-AE84-50E23FC8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EA0E-04DE-46C6-A092-AFE33A48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97A3-B8B4-4F7E-AD13-A4BA5E15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097E-6632-42C8-864B-B9A98D47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82A-F669-49B6-9CF0-ACA23300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8A5D-9491-4FBE-9B01-F03F5E19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5E66-235B-4E93-9344-231E1F2A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8877-E1B5-491A-935E-D7D03FF0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9F9A-C8C4-484F-A317-0D208850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730A-DED2-4815-A07F-0AD053F5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CAE-379E-4217-9893-3A674AA0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80F-9DCE-41E4-98D8-A4B06AC9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BE7-ED2F-4619-909E-2D2C312B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093-CE08-4F89-8E43-F0B93BEC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53D-EF7E-4468-8771-7C6A3509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3BC-2486-4949-A2C2-53D2379E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269-EB21-4C5A-A35E-E1F44DF2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0512-6CA8-4534-99C6-C620D8FF03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81A5-29BD-4D40-A6F1-DFA83DF196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Astronomy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Ancient Philosoph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Galileo (1564-1642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pent most of his life trying to prove the theories of Copernic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First to effectively use the telescop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age 43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Roman Catholic Philosoph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 and humans are the center of all thin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y would the Roman Catholics care whether the Earth was the center of the universe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retrograde mo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the difference between heliocentric and geocentric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was Ptolemy’s theory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y was Galileo important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otle (384-322) B.C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Greek philosopher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Believed the Earth was the center of the univer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 was surrounded by water, air, and fi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ot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 thought that the moon, sun, five planets, and the stars all revolved around the Eart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Ge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archus (3rd Century B.C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un is the center of the univer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li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First to measure the distance to the sun and mo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arch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EVOLUTION is the cycle in which a planet orbits the sun (one year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OTATION is the cycle of a planet spinning on its axis; day to night (one day)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What is an axi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maginary line on which an object rota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’s axis goes through its center from the North to the South Po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the major difference between the universe models of Aristotle and Aristarchus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ow is rotation different from revolu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Ptolemy (2nd century A.D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Agreed with ARISTOTLE’S ge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etrograde motion is the idea that a planet moves back and forth in a looping motion; “Mars” (p.434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pernicus (1473-1543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li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xpanded the ideas of Aristarch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dentified the positions of the plane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4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22:06:38Z</dcterms:created>
  <dc:creator>Newport News</dc:creator>
  <dc:description/>
  <dc:language>en-US</dc:language>
  <cp:lastModifiedBy>Legion</cp:lastModifiedBy>
  <dcterms:modified xsi:type="dcterms:W3CDTF">2017-01-26T09:03:56Z</dcterms:modified>
  <cp:revision>5</cp:revision>
  <dc:subject/>
  <dc:title>Astronomy </dc:title>
</cp:coreProperties>
</file>