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2384-E97B-44DE-ABB2-133A4C55E6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picyc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retrograde (westward) 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plane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tolemaic syst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as considered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standard model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Universe until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A12E-1BBC-4600-ACBE-AAC53E7CCF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t the time of Ptolemy, the introduction of epicycle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was considered a very elegant idea because 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9DF-8F6A-4BCF-8A76-CC374B3588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3A68-A1D7-4E34-94B7-16D2C07F0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 (and correct) explanation f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Retrogra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westward)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motion of a planet occu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r retrograde motion of the planet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tolemy’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picy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unnecessary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scribed in Copernicus’ famous book “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 Revolutionibus Orbium Coelestium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8C97-A661-4899-BCA5-AD8291726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In the Copernikan “Universe”, the orbits of pl</a:t>
            </a:r>
            <a:br>
              <a:rPr sz="1200"/>
            </a:b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nets and moons were …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F56B-4DFD-40F4-BCFF-C7171DF5EB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Tycho Brahe (1546 – 160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udy planetary motion mathematicall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onsistent descri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abandon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elliptical path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ith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non-uniform velo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A1B-9615-434F-8097-AD77875F15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lipse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cu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D34C-88B0-443F-A6DE-E918318CB9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68E3-E241-4A16-B664-28E8497613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en did mankind first become interested in the science of astronomy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advent of modern computer technology (mid-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development of the theory of relativity (early 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D3F9-E3B8-4AE4-BCAC-5E662BA502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s of planets are virtually indistinguishable from circles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E2D0-1A84-45FA-9F9B-88C6CD65B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 from a planet to the 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E797-4CCB-4EAC-89FF-14ECAE5078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re all four seasons equally long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933E-5C1F-46D4-A7F2-DA7B3F1023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the summer longer than winter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moon’s 5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rotating around its axis more slowly in the summer (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→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4B4B-FC8C-4797-9A6E-DA7D44EAB7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 planet’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orbital period (P) squar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is proportional to its averag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stance from the sun (a) cub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P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y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= period in years; a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AU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known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→ Calculate 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AU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= P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, known → Calculate 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1776-4B88-407B-BFF4-C7AB1160A1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CFF4-8B5B-495B-BBEF-F3997F230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79AE-5184-4A5C-BA6D-CC4FC111D1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one and bronze 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ating back to ~ 3000 B.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show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lignments with astronomical signific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even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redict eclip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CEDB-C33F-4995-96DE-C59F56106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 and Acceleration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 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body’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velocity (v) with time (t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ed qua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cceleration in the conventional 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.e. incr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 speed)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cele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 th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7AA-2DE1-4062-BA08-DF0CCDC1C8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E558-C47E-4F88-A39C-DB9F85347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body i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verse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ass 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et force 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 the sam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F24-874E-4EE9-81CA-0A63C2718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very 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is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qual and opposite re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2682-D43D-496A-94BD-764066A6E8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Universal Law of Gra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force proportional to the product of their masses and inversely proportional to the square of their dis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6417-9635-4224-A9F0-10336965B2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ccording to Newton’s universal law of gravity, the sun is attracting the Earth with a force of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3.6*10</a:t>
            </a:r>
            <a:r>
              <a:rPr b="0" lang="en-US" sz="1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22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 N.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89B9-14BD-4106-822A-0D54F30AE2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642-3D4A-43CF-BC30-610CDE37CF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Stonehenge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23CF-7F0B-446A-91F3-A3374A6762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E3D7-4809-4593-88EC-A51A57C9E0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AD16-C6AB-46CD-9857-75B6FAAABA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it so difficult to find out about the state of astronomical knowledge of bronze-age civilizations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944E-26CC-4BF1-9455-519E1BC27D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unpro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first principles”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. Geocentric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t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enter of the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. “Perfect Heavens”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motions of all celestial bodies can be described by motions involving object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perfect” sha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.e.,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pheres or cir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BCED-9B85-4A17-8392-342C499EE4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853-6AF8-4ECC-B92A-B52E5109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84D-7FA3-44C3-9B2B-3B26F7FF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EAB-0320-41BD-9678-42BFBE2F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62E-307D-4A63-9055-B6B3F78F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9CF-5417-4EAB-897E-DCB30D08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F26-5CA5-46D9-AD50-9B7FE557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14E-9A5B-41DE-A9AC-DE1A0ED5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521-6709-4B14-B7F9-C8DB0D62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9DD-DE2E-4299-9F65-FE5799C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63F-4B3D-40FE-AF35-DA2FCBA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400-3495-4218-B8EB-C680450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B2D-942F-4B04-ABF4-F44400FD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C381-A4E2-4D4B-ADA1-174689366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xt Box 6" descr=""/>
          <p:cNvPicPr/>
          <p:nvPr/>
        </p:nvPicPr>
        <p:blipFill>
          <a:blip r:embed="rId1"/>
          <a:stretch/>
        </p:blipFill>
        <p:spPr>
          <a:xfrm>
            <a:off x="993600" y="1847880"/>
            <a:ext cx="788220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a"/>
          <p:cNvPicPr/>
          <p:nvPr/>
        </p:nvPicPr>
        <p:blipFill>
          <a:blip r:embed="rId2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3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6" descr=""/>
          <p:cNvPicPr/>
          <p:nvPr/>
        </p:nvPicPr>
        <p:blipFill>
          <a:blip r:embed="rId1"/>
          <a:stretch/>
        </p:blipFill>
        <p:spPr>
          <a:xfrm>
            <a:off x="841320" y="324000"/>
            <a:ext cx="799164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0c"/>
          <p:cNvPicPr/>
          <p:nvPr/>
        </p:nvPicPr>
        <p:blipFill>
          <a:blip r:embed="rId2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00160" y="12193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58960" y="340524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5392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96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944880" y="91584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828800" y="6248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7-01-26T09:14:22Z</dcterms:modified>
  <cp:revision>296</cp:revision>
  <dc:subject/>
  <dc:title>The Roots of Astronomy</dc:title>
</cp:coreProperties>
</file>