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F24AB-C945-4102-8B68-947F27328FE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pace Exploration</a:t>
            </a:r>
            <a:br>
              <a:rPr sz="1800"/>
            </a:b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Past, Present, Fu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51498-5C7C-468B-B665-3C6380F5133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he Futur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Exploration at greater dista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Extended st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Humans need to be ready and educated for the space travel of the fu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C8840-53DB-4CCC-8217-656953FA1F7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ome Difficulties Includ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adiation expos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Lunar du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Food and Nutr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Exerci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iffering levels of pressure, atmosphere composition, and grav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leep lo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isk of bone fra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educed muscle m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educed aerobic capac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Mental disorders arising from extreme, confined, and isolated condi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EBA52-2AD0-4670-9ACA-9D44AAF86B2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pace Exploration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he Big Pictur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pace exploration is still in infancy. Although we have learned a lot, we still have a lot of ques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he cost of space exploration mandates that we work together with other countri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Example: International Space Station (IS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10062-F78F-4515-8D4F-4A593CFF0BB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ASA</a:t>
            </a:r>
            <a:br>
              <a:rPr sz="3200"/>
            </a:b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National A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ccomplishment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First to land someone on the mo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Invented the space shutt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veloped many products for space that we now use as everyday produ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Example: Velcr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eronautics and Space Administ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510C9-A5BE-4686-B2A8-141467F5867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e Are C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…and so we study space. Things that we need to know about space exploration includ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ock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rtificial satell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pace prob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pace st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pace shutt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emote sensoring devi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pace su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ad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omput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Fuel sour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Landing modu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Materials that can survive heat and press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olar pa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Living quart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Biomedical equip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ir purification devi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ele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nd many more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978FE-3EB3-4AE9-8793-A8C74F34125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pace Exploration History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he space age began on October 4, 1957, when the Soviet Union launched Sputnik, the first artificial satellite to orbit Ear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he Soviets also achieved the first piloted space flight on April 12, 196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he first cosmonaut was Yuri Gagarin. He orbited Earth in a ship named Vosto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ADE49-5C0E-44C4-81FA-E1949CA82E0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Let’s Go to the Moon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pollo 8 orbited the moon 10 times and returned to Earth safely on December 21, 196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Neil Armstrong and Buzz Aldrin landed Apollo 11 on the moon on July 20, 1969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Neil Armstrong was the first person to set foot on the mo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he laptops in our classroom are more powerful than the computers used to run the Apollo program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0F5C9-4D11-4569-A0E6-B5AB403056E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pace Shuttles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 space shuttle is a reusable space craf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First used in 198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ble to land on an ordinary airfiel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wo shuttle tragedies in 1987 and 200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huttles replaced the previous method of space flight – Rockets and capsu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5F289-1CF4-4E73-9088-213BE0648B6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Our ability to achieve our space goals became an indicator of our status as a great nation, and the Soviets were our top competito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his occurred during a time in our history known as the Cold Wa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his was a time when our relationship with the Soviets was, well, col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he intense rivalry between our two countries led us to some amazing accomplishme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Khrushchev &amp; Kenned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EAF00-2581-4763-B8C1-F4080D5E029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We need both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We need balan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Probes can make space flight cheaper, safer, and fas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Human pilots can make decisions when things don’t go as plann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DE1CC-E216-434F-9222-B1839CE68D2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01F8-EB4A-4A0D-988A-F97E05C2D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AB12-8805-4FE3-9FD8-74FDCDCCE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FB46-78A3-4287-8262-FD0A3FEE6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71F2-0F98-474D-9F9C-69D1D2ABB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0F22-F3A5-483C-A2E6-BAFFAC1E6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EA01-5134-4C3E-A2A2-91A77FFD4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2A6F-7BE3-4455-BE5A-EB59976DA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C31A-BF95-4C62-B8DC-F0F0EA722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F00F-EFC5-4C02-9AFF-5026BE29D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5A2A-FD21-4539-BBE7-1A8E2DD4F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7C0C-B71D-4712-B09F-83EEDC2A7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35DD-388C-4868-8CD0-8A3A7F8D1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C5E86-9561-424B-8A33-2714926BB0B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42387-A363-468B-9250-DBDCF646D6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5638680" y="2209680"/>
            <a:ext cx="3048120" cy="23004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Space Exploration</a:t>
            </a:r>
            <a:br>
              <a:rPr sz="6000"/>
            </a:b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ast, Present, Fu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533520" y="2209680"/>
            <a:ext cx="3001680" cy="1981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"/>
          <p:cNvPicPr/>
          <p:nvPr/>
        </p:nvPicPr>
        <p:blipFill>
          <a:blip r:embed="rId3"/>
          <a:stretch/>
        </p:blipFill>
        <p:spPr>
          <a:xfrm>
            <a:off x="2743200" y="3886200"/>
            <a:ext cx="3352680" cy="215892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The Futur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3"/>
          <p:cNvSpPr/>
          <p:nvPr/>
        </p:nvSpPr>
        <p:spPr>
          <a:xfrm>
            <a:off x="228600" y="1523880"/>
            <a:ext cx="4114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Exploration at greater dista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Extended stay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Humans need to be ready and educated for the space travel of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4876920" y="2438280"/>
            <a:ext cx="3733560" cy="3419640"/>
          </a:xfrm>
          <a:prstGeom prst="rect">
            <a:avLst/>
          </a:prstGeom>
          <a:ln w="0">
            <a:noFill/>
          </a:ln>
        </p:spPr>
      </p:pic>
      <p:sp>
        <p:nvSpPr>
          <p:cNvPr id="9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Some Difficulties Includ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Box 3"/>
          <p:cNvSpPr/>
          <p:nvPr/>
        </p:nvSpPr>
        <p:spPr>
          <a:xfrm>
            <a:off x="228600" y="1523880"/>
            <a:ext cx="80010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adiation expo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Lunar du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od and Nutr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Exerc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Differing levels of pressure, atmosphere composition, and gra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leep lo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isk of bone fra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educed muscle m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educed aerobic capa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ental disorders arising from extreme, confined, and isolated cond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Space Exploration</a:t>
            </a:r>
            <a:br>
              <a:rPr sz="6000"/>
            </a:b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e Big Pi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3"/>
          <p:cNvSpPr/>
          <p:nvPr/>
        </p:nvSpPr>
        <p:spPr>
          <a:xfrm>
            <a:off x="304920" y="2362320"/>
            <a:ext cx="85341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pace exploration is still in infancy. Although we have learned a lot, we still have a lot of ques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cost of space exploration mandates that we work together with other countri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xample: International Space Station (I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NASA</a:t>
            </a:r>
            <a:br>
              <a:rPr sz="6000"/>
            </a:b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National Aeronautics and Space Administr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3"/>
          <p:cNvSpPr/>
          <p:nvPr/>
        </p:nvSpPr>
        <p:spPr>
          <a:xfrm>
            <a:off x="304920" y="2362320"/>
            <a:ext cx="51814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ccomplish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irst to land someone on the mo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nvented the space shut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eveloped many products for space that we now use as everyday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Example: Velc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495600" cy="2971800"/>
          </a:xfrm>
          <a:prstGeom prst="rect">
            <a:avLst/>
          </a:prstGeom>
          <a:ln w="0">
            <a:noFill/>
          </a:ln>
        </p:spPr>
      </p:pic>
      <p:sp>
        <p:nvSpPr>
          <p:cNvPr id="5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We Are Curious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3"/>
          <p:cNvSpPr/>
          <p:nvPr/>
        </p:nvSpPr>
        <p:spPr>
          <a:xfrm>
            <a:off x="380880" y="1371600"/>
            <a:ext cx="38862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…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nd so we study space. Things that we need to know about space exploration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oc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rtificial satell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pace prob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pace s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pace shutt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emote sensoring de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pace su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4"/>
          <p:cNvSpPr/>
          <p:nvPr/>
        </p:nvSpPr>
        <p:spPr>
          <a:xfrm>
            <a:off x="4724280" y="1371600"/>
            <a:ext cx="38862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ad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ompu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uel 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Landing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aterials that can survive heat and pres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olar pan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Living quar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Biomedical equi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ir purification de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elesco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nd many mor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pace Exploration Histo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3"/>
          <p:cNvSpPr/>
          <p:nvPr/>
        </p:nvSpPr>
        <p:spPr>
          <a:xfrm>
            <a:off x="3809880" y="1295280"/>
            <a:ext cx="518184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 space age began on October 4, 1957, when the Soviet Union launched Sputnik, the first artificial satellite to orbit Ear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 Soviets also achieved the first piloted space flight on April 12, 196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 first cosmonaut was Yuri Gagarin. He orbited Earth in a ship named Vosto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1143000" y="1371600"/>
            <a:ext cx="2286000" cy="30765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"/>
          <p:cNvPicPr/>
          <p:nvPr/>
        </p:nvPicPr>
        <p:blipFill>
          <a:blip r:embed="rId2"/>
          <a:stretch/>
        </p:blipFill>
        <p:spPr>
          <a:xfrm>
            <a:off x="380880" y="3809880"/>
            <a:ext cx="1938600" cy="2819520"/>
          </a:xfrm>
          <a:prstGeom prst="rect">
            <a:avLst/>
          </a:prstGeom>
          <a:ln w="0">
            <a:noFill/>
          </a:ln>
        </p:spPr>
      </p:pic>
      <p:sp>
        <p:nvSpPr>
          <p:cNvPr id="68" name="Oval Callout 7"/>
          <p:cNvSpPr/>
          <p:nvPr/>
        </p:nvSpPr>
        <p:spPr>
          <a:xfrm>
            <a:off x="2057400" y="4648320"/>
            <a:ext cx="1828800" cy="1904760"/>
          </a:xfrm>
          <a:prstGeom prst="wedgeEllipseCallout">
            <a:avLst>
              <a:gd name="adj1" fmla="val -79148"/>
              <a:gd name="adj2" fmla="val -3925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 got thi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Let’s Go to the Mo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3"/>
          <p:cNvSpPr/>
          <p:nvPr/>
        </p:nvSpPr>
        <p:spPr>
          <a:xfrm>
            <a:off x="4876920" y="1371600"/>
            <a:ext cx="40384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Apollo 8 orbited the moon 10 times and returned to Earth safely on December 21, 196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Neil Armstrong and Buzz Aldrin landed Apollo 11 on the moon on July 20, 196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Neil Armstrong was the first person to set foot on the mo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he laptops in our classroom are more powerful than the computers used to run the Apollo program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152280" y="1828800"/>
            <a:ext cx="4448160" cy="4495680"/>
          </a:xfrm>
          <a:prstGeom prst="rect">
            <a:avLst/>
          </a:prstGeom>
          <a:ln w="0">
            <a:noFill/>
          </a:ln>
        </p:spPr>
      </p:pic>
      <p:sp>
        <p:nvSpPr>
          <p:cNvPr id="7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Space Shuttle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Box 3"/>
          <p:cNvSpPr/>
          <p:nvPr/>
        </p:nvSpPr>
        <p:spPr>
          <a:xfrm>
            <a:off x="304920" y="1523880"/>
            <a:ext cx="40384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 space shuttle is a reusable space craf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irst used in 198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ble to land on an ordinary airfiel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wo shuttle tragedies in 1987 and 200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huttles replaced the previous method of space flight – Rockets and capsu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4724280" y="1523880"/>
            <a:ext cx="3962520" cy="31705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" descr=""/>
          <p:cNvPicPr/>
          <p:nvPr/>
        </p:nvPicPr>
        <p:blipFill>
          <a:blip r:embed="rId2"/>
          <a:stretch/>
        </p:blipFill>
        <p:spPr>
          <a:xfrm>
            <a:off x="5257800" y="4876920"/>
            <a:ext cx="142884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"/>
          <p:cNvPicPr/>
          <p:nvPr/>
        </p:nvPicPr>
        <p:blipFill>
          <a:blip r:embed="rId3"/>
          <a:stretch/>
        </p:blipFill>
        <p:spPr>
          <a:xfrm>
            <a:off x="6781680" y="3962520"/>
            <a:ext cx="2095560" cy="2657520"/>
          </a:xfrm>
          <a:prstGeom prst="rect">
            <a:avLst/>
          </a:prstGeom>
          <a:ln w="0">
            <a:noFill/>
          </a:ln>
        </p:spPr>
      </p:pic>
      <p:sp>
        <p:nvSpPr>
          <p:cNvPr id="79" name="Right Arrow 7"/>
          <p:cNvSpPr/>
          <p:nvPr/>
        </p:nvSpPr>
        <p:spPr>
          <a:xfrm>
            <a:off x="3505320" y="5791320"/>
            <a:ext cx="1828800" cy="838080"/>
          </a:xfrm>
          <a:prstGeom prst="rightArrow">
            <a:avLst>
              <a:gd name="adj1" fmla="val 50000"/>
              <a:gd name="adj2" fmla="val 5000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26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27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71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27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273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The Space Race and Cold Wa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3"/>
          <p:cNvSpPr/>
          <p:nvPr/>
        </p:nvSpPr>
        <p:spPr>
          <a:xfrm>
            <a:off x="4724280" y="1295280"/>
            <a:ext cx="41148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Our ability to achieve our space goals became an indicator of our status as a great nation, and the Soviets were our top competit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s occurred during a time in our history known as the Cold W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s was a time when our relationship with the Soviets was, well, co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e intense rivalry between our two countries led us to some amazing accomplish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3" descr=""/>
          <p:cNvPicPr/>
          <p:nvPr/>
        </p:nvPicPr>
        <p:blipFill>
          <a:blip r:embed="rId1"/>
          <a:stretch/>
        </p:blipFill>
        <p:spPr>
          <a:xfrm>
            <a:off x="380880" y="2133720"/>
            <a:ext cx="4019760" cy="3124080"/>
          </a:xfrm>
          <a:prstGeom prst="rect">
            <a:avLst/>
          </a:prstGeom>
          <a:ln w="0">
            <a:noFill/>
          </a:ln>
        </p:spPr>
      </p:pic>
      <p:sp>
        <p:nvSpPr>
          <p:cNvPr id="84" name="TextBox 6"/>
          <p:cNvSpPr/>
          <p:nvPr/>
        </p:nvSpPr>
        <p:spPr>
          <a:xfrm>
            <a:off x="852120" y="5867280"/>
            <a:ext cx="305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Khrushchev &amp; Kenne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Probes Vs. Human Pilot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Box 3"/>
          <p:cNvSpPr/>
          <p:nvPr/>
        </p:nvSpPr>
        <p:spPr>
          <a:xfrm>
            <a:off x="685800" y="1600200"/>
            <a:ext cx="80773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robes can make space flight cheaper, safer, and fa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Human pilots can make decisions when things don’t go as plann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1447920" y="3733920"/>
            <a:ext cx="2095560" cy="24764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"/>
          <p:cNvPicPr/>
          <p:nvPr/>
        </p:nvPicPr>
        <p:blipFill>
          <a:blip r:embed="rId2"/>
          <a:stretch/>
        </p:blipFill>
        <p:spPr>
          <a:xfrm>
            <a:off x="5181480" y="3048120"/>
            <a:ext cx="2762280" cy="3552840"/>
          </a:xfrm>
          <a:prstGeom prst="rect">
            <a:avLst/>
          </a:prstGeom>
          <a:ln w="0">
            <a:noFill/>
          </a:ln>
        </p:spPr>
      </p:pic>
      <p:pic>
        <p:nvPicPr>
          <p:cNvPr id="90" name="Rectangle 7" descr=""/>
          <p:cNvPicPr/>
          <p:nvPr/>
        </p:nvPicPr>
        <p:blipFill>
          <a:blip r:embed="rId3"/>
          <a:stretch/>
        </p:blipFill>
        <p:spPr>
          <a:xfrm>
            <a:off x="1554120" y="2077920"/>
            <a:ext cx="5992920" cy="2347920"/>
          </a:xfrm>
          <a:prstGeom prst="rect">
            <a:avLst/>
          </a:prstGeom>
          <a:ln w="0">
            <a:noFill/>
          </a:ln>
        </p:spPr>
      </p:pic>
      <p:sp>
        <p:nvSpPr>
          <p:cNvPr id="9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1T20:10:00Z</dcterms:created>
  <dc:creator> </dc:creator>
  <dc:description/>
  <dc:language>en-US</dc:language>
  <cp:lastModifiedBy>Legion</cp:lastModifiedBy>
  <dcterms:modified xsi:type="dcterms:W3CDTF">2017-01-26T09:21:36Z</dcterms:modified>
  <cp:revision>46</cp:revision>
  <dc:subject/>
  <dc:title>Space Exploration Past, Present, Future</dc:title>
</cp:coreProperties>
</file>