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B55E-5414-4580-BC30-C346D19A38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8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D84D-4391-4AF9-973E-5A50D6A709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utu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CE33-F67C-48DE-B6F0-8A9A2B731A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3593-AC12-4130-8E8A-CAF2FA3F4E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72F9-3558-4FCB-9FAC-59DDF32223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3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ational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ronautics and Space Admini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FD50-12A9-4C62-8B37-2E1C8F1783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Are C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and so we study space. Things that we need to know about space exploration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C8DF-3932-401B-83E8-8216D01B91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8413-98A1-426B-90F1-6FC2404F4A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A235-D4C0-450A-8B30-5F89B64A73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6CF2-007B-40DA-BAFE-9D8D91E219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F482-1D2E-4153-A934-0F0E7B2C92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o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DC3F-2DC7-44F3-A6E5-4EE2DFD651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8ED3-9C96-434F-AEDC-11683285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1AF7-9CD3-4646-8208-43FCBCE6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44D2-FE8E-46A9-819C-D4E6776F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2EAD-7810-4D90-872A-5D239377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203-ABCC-4FD9-9C5E-C1D9C162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374-25B1-41E5-8A95-0B50F3E0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1004-11BC-4F81-81F9-82D158F5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5869-F469-45DE-BE53-65A38A75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483-888F-468E-849E-8C6DAE88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CE8-ED41-4203-8DDC-E0C8FD25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238-53ED-4788-A275-7A5EC1B2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337-4A04-4234-9BEB-A93B5388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6B03-7ABA-4F50-AA87-1F9CF3D99F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E7AF-538C-4EFD-ABD9-F73C20DBD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048120" cy="2300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300168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335268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Fu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28600" y="1523880"/>
            <a:ext cx="4114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733560" cy="34196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28600" y="1523880"/>
            <a:ext cx="8001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2362320"/>
            <a:ext cx="8534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60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tional Aeronautics and Space Adminis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04920" y="2362320"/>
            <a:ext cx="5181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495600" cy="2971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We Are Curiou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380880" y="1371600"/>
            <a:ext cx="3886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so we study space. Things that we need to know about space exploration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724280" y="1371600"/>
            <a:ext cx="3886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809880" y="1295280"/>
            <a:ext cx="5181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2286000" cy="307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1938600" cy="2819520"/>
          </a:xfrm>
          <a:prstGeom prst="rect">
            <a:avLst/>
          </a:prstGeom>
          <a:ln w="0">
            <a:noFill/>
          </a:ln>
        </p:spPr>
      </p:pic>
      <p:sp>
        <p:nvSpPr>
          <p:cNvPr id="68" name="Oval Callout 7"/>
          <p:cNvSpPr/>
          <p:nvPr/>
        </p:nvSpPr>
        <p:spPr>
          <a:xfrm>
            <a:off x="2057400" y="4648320"/>
            <a:ext cx="1828800" cy="1904760"/>
          </a:xfrm>
          <a:prstGeom prst="wedgeEllipseCallout">
            <a:avLst>
              <a:gd name="adj1" fmla="val -79148"/>
              <a:gd name="adj2" fmla="val -392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 got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4876920" y="1371600"/>
            <a:ext cx="403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448160" cy="44956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304920" y="1523880"/>
            <a:ext cx="4038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962520" cy="317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257800" y="48769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6781680" y="3962520"/>
            <a:ext cx="2095560" cy="2657520"/>
          </a:xfrm>
          <a:prstGeom prst="rect">
            <a:avLst/>
          </a:prstGeom>
          <a:ln w="0">
            <a:noFill/>
          </a:ln>
        </p:spPr>
      </p:pic>
      <p:sp>
        <p:nvSpPr>
          <p:cNvPr id="79" name="Right Arrow 7"/>
          <p:cNvSpPr/>
          <p:nvPr/>
        </p:nvSpPr>
        <p:spPr>
          <a:xfrm>
            <a:off x="3505320" y="5791320"/>
            <a:ext cx="1828800" cy="838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Space Race and Cold W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724280" y="1295280"/>
            <a:ext cx="4114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019760" cy="31240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852120" y="586728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robes Vs. Human Pilo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85800" y="1600200"/>
            <a:ext cx="8077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447920" y="3733920"/>
            <a:ext cx="2095560" cy="2476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5181480" y="3048120"/>
            <a:ext cx="2762280" cy="355284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7" descr=""/>
          <p:cNvPicPr/>
          <p:nvPr/>
        </p:nvPicPr>
        <p:blipFill>
          <a:blip r:embed="rId3"/>
          <a:stretch/>
        </p:blipFill>
        <p:spPr>
          <a:xfrm>
            <a:off x="1554120" y="2077920"/>
            <a:ext cx="5992920" cy="23479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20:10:00Z</dcterms:created>
  <dc:creator> </dc:creator>
  <dc:description/>
  <dc:language>en-US</dc:language>
  <cp:lastModifiedBy>Legion</cp:lastModifiedBy>
  <dcterms:modified xsi:type="dcterms:W3CDTF">2017-01-26T09:21:36Z</dcterms:modified>
  <cp:revision>46</cp:revision>
  <dc:subject/>
  <dc:title>Space Exploration Past, Present, Future</dc:title>
</cp:coreProperties>
</file>