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F945-1D65-4421-91ED-FBB69A4207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5E8-DFC0-464A-AB01-394EE4A1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D7C-3304-484C-945A-593857EB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677-EBE8-4A29-8EE7-AC30DC15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F6D-E17C-4CD5-8A81-3DF13FE9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A86-3505-41E6-9178-B51BD225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F20-A652-428F-8615-8ED0DF6D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456-3F5D-4770-91D5-B387CE58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7D9-4AE5-4803-99A9-F6359CD6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9D4-E36B-4AFB-AA72-C0495847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CC8-8153-4449-89B2-E33970BD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DBF-A5A5-4663-919A-D4B8A235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2C6-02E1-4FF0-BF5E-920175B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1FA9-061F-4F0D-9D37-5FC4294DF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Material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Production of hydro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properti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Why is hydrogen u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Test for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Us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duction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clounaghscience.files.wordpress.com/2009/03/preparation-of-hydrogen.jpg"/>
          <p:cNvPicPr/>
          <p:nvPr/>
        </p:nvPicPr>
        <p:blipFill>
          <a:blip r:embed="rId1"/>
          <a:stretch/>
        </p:blipFill>
        <p:spPr>
          <a:xfrm>
            <a:off x="561960" y="1143000"/>
            <a:ext cx="8277120" cy="5210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" y="1143000"/>
            <a:ext cx="8381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3520" y="4419720"/>
            <a:ext cx="830556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As the reaction between a metal and acid produc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ydrogen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perti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4267080" y="457200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Left Brace 5"/>
          <p:cNvSpPr/>
          <p:nvPr/>
        </p:nvSpPr>
        <p:spPr>
          <a:xfrm rot="16200000">
            <a:off x="3238560" y="45338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1295280"/>
              <a:gd name="textAreaBottom" fmla="*/ 12715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0"/>
                  <a:pt x="10800" y="1280"/>
                </a:cubicBezTo>
                <a:lnTo>
                  <a:pt x="10800" y="9520"/>
                </a:lnTo>
                <a:cubicBezTo>
                  <a:pt x="10800" y="10160"/>
                  <a:pt x="5400" y="10800"/>
                  <a:pt x="0" y="10800"/>
                </a:cubicBezTo>
                <a:cubicBezTo>
                  <a:pt x="5400" y="10800"/>
                  <a:pt x="10800" y="11440"/>
                  <a:pt x="10800" y="12080"/>
                </a:cubicBezTo>
                <a:lnTo>
                  <a:pt x="10800" y="20320"/>
                </a:lnTo>
                <a:cubicBezTo>
                  <a:pt x="10800" y="2096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905120" y="5334120"/>
            <a:ext cx="4267080" cy="3045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hy is hydrogen uniqu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ydrogen is knows as a very unique element as: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Usually elements in group(I) are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+ is non as a proton (stable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- is known as a hydride (unst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st for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ages[13].jpg"/>
          <p:cNvPicPr/>
          <p:nvPr/>
        </p:nvPicPr>
        <p:blipFill>
          <a:blip r:embed="rId1"/>
          <a:stretch/>
        </p:blipFill>
        <p:spPr>
          <a:xfrm>
            <a:off x="228600" y="2286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981080" y="2438280"/>
            <a:ext cx="2971800" cy="1600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he problem is that their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d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ol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ast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"/>
          <p:cNvCxnSpPr/>
          <p:nvPr/>
        </p:nvCxnSpPr>
        <p:spPr>
          <a:xfrm>
            <a:off x="5943600" y="5715000"/>
            <a:ext cx="53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s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2 + N2             2NH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4"/>
          <p:cNvCxnSpPr/>
          <p:nvPr/>
        </p:nvCxnSpPr>
        <p:spPr>
          <a:xfrm>
            <a:off x="2971800" y="3657600"/>
            <a:ext cx="991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8:08:47Z</dcterms:created>
  <dc:creator>pc</dc:creator>
  <dc:description/>
  <dc:language>en-US</dc:language>
  <cp:lastModifiedBy>RomaK</cp:lastModifiedBy>
  <dcterms:modified xsi:type="dcterms:W3CDTF">2015-09-02T05:53:15Z</dcterms:modified>
  <cp:revision>8</cp:revision>
  <dc:subject/>
  <dc:title>Slide 1</dc:title>
</cp:coreProperties>
</file>