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A938-3613-4A2F-98CF-1C52ABA230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713-5977-418C-9308-6D248772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14A-AC38-4CF9-BF4F-62B6FF1E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3E7-0F22-42D7-AD52-83D8E501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781-F19C-49A3-AED2-DA656A41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B76-671D-4D5F-BC61-461DF6AC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22A-888E-4AD0-A8DE-84DDF33C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99A-8D69-473E-AF41-16B25A53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1DF-C1B9-45E9-B232-835B374E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AA7-27E5-4034-B778-F1ED8970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298-ECA0-4DA3-A2F6-F528368A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34B-038E-4880-B442-EB58907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97B-5F8D-4AD2-9614-ECC47B5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1BB-D79F-4892-95F5-C44297ABD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Material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Production of hydro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properti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Why is hydrogen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Test for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Us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tion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clounaghscience.files.wordpress.com/2009/03/preparation-of-hydrogen.jpg"/>
          <p:cNvPicPr/>
          <p:nvPr/>
        </p:nvPicPr>
        <p:blipFill>
          <a:blip r:embed="rId1"/>
          <a:stretch/>
        </p:blipFill>
        <p:spPr>
          <a:xfrm>
            <a:off x="561960" y="1143000"/>
            <a:ext cx="8277120" cy="5210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1143000"/>
            <a:ext cx="8381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3520" y="4419720"/>
            <a:ext cx="830556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As the reaction between a metal and acid produc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gen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perti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4267080" y="457200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Left Brace 5"/>
          <p:cNvSpPr/>
          <p:nvPr/>
        </p:nvSpPr>
        <p:spPr>
          <a:xfrm rot="16200000">
            <a:off x="3238560" y="45338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1295280"/>
              <a:gd name="textAreaBottom" fmla="*/ 12715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0"/>
                  <a:pt x="10800" y="1280"/>
                </a:cubicBezTo>
                <a:lnTo>
                  <a:pt x="10800" y="9520"/>
                </a:lnTo>
                <a:cubicBezTo>
                  <a:pt x="10800" y="10160"/>
                  <a:pt x="5400" y="10800"/>
                  <a:pt x="0" y="10800"/>
                </a:cubicBezTo>
                <a:cubicBezTo>
                  <a:pt x="5400" y="10800"/>
                  <a:pt x="10800" y="11440"/>
                  <a:pt x="10800" y="12080"/>
                </a:cubicBezTo>
                <a:lnTo>
                  <a:pt x="10800" y="20320"/>
                </a:lnTo>
                <a:cubicBezTo>
                  <a:pt x="10800" y="209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05120" y="5334120"/>
            <a:ext cx="4267080" cy="3045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y is hydrogen uniqu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gen is knows as a very unique element a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Usually elements in group(I) are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+ is non as a proton (stable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- is known as a hydride (unst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st for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[13].jpg"/>
          <p:cNvPicPr/>
          <p:nvPr/>
        </p:nvPicPr>
        <p:blipFill>
          <a:blip r:embed="rId1"/>
          <a:stretch/>
        </p:blipFill>
        <p:spPr>
          <a:xfrm>
            <a:off x="22860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2438280"/>
            <a:ext cx="2971800" cy="160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e problem is that thei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d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ol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as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>
            <a:off x="5943600" y="5715000"/>
            <a:ext cx="53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s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2 + N2             2NH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"/>
          <p:cNvCxnSpPr/>
          <p:nvPr/>
        </p:nvCxnSpPr>
        <p:spPr>
          <a:xfrm>
            <a:off x="2971800" y="3657600"/>
            <a:ext cx="991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08:47Z</dcterms:created>
  <dc:creator>pc</dc:creator>
  <dc:description/>
  <dc:language>en-US</dc:language>
  <cp:lastModifiedBy>RomaK</cp:lastModifiedBy>
  <dcterms:modified xsi:type="dcterms:W3CDTF">2015-09-02T05:53:15Z</dcterms:modified>
  <cp:revision>8</cp:revision>
  <dc:subject/>
  <dc:title>Slide 1</dc:title>
</cp:coreProperties>
</file>