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D865-6124-4153-B2B8-C9ACB68E01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: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reaction between a metal and acid produces hydrogen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reaction between a metal and acid produces hydrogen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knows as a very unique element as: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Usually elements in group(I) are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+ is non as a proton (stable)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- is known as a hydride (unstab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knows as a very unique element as: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Usually elements in group(I) are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+ is non as a proton (stable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- is known as a hydride (unst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s that their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s that thei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H2 + N2             2NH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H2 + N2             2N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8D2-E93A-46FB-9C1E-66AB201B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F49A-ADAE-4053-876D-CBD7DDA6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9F92-4060-4AF5-8678-4712C950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E34E-D096-43A9-A809-09B956CA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5E9-FEEB-4F2A-92C9-B96AE2F2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4B13-48C7-464E-8FDC-2644DF62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FD0-24AD-42D5-A697-7B9627FB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5FF-A43C-4F2F-87CE-4C747C01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F73-8F32-4CA4-A3A4-9BB6275B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B526-B75C-40BA-84E7-D9704C78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5FA-03C0-4382-9FAF-8DE394CA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7E6F-D3A2-4E00-B143-1F90A4EC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9775-20C4-49EF-AEE2-45E081F57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omic Sans MS"/>
              </a:rPr>
              <a:t>Material: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omic Sans MS"/>
              </a:rPr>
              <a:t>Production of hydro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properties of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Why is hydrogen u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Test for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Uses of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oduction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clounaghscience.files.wordpress.com/2009/03/preparation-of-hydrogen.jpg"/>
          <p:cNvPicPr/>
          <p:nvPr/>
        </p:nvPicPr>
        <p:blipFill>
          <a:blip r:embed="rId1"/>
          <a:stretch/>
        </p:blipFill>
        <p:spPr>
          <a:xfrm>
            <a:off x="561960" y="1143000"/>
            <a:ext cx="8277120" cy="5210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57200" y="1143000"/>
            <a:ext cx="8381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3520" y="4419720"/>
            <a:ext cx="8305560" cy="20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As the reaction between a metal and acid produce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ydrogen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operties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4"/>
          <p:cNvCxnSpPr/>
          <p:nvPr/>
        </p:nvCxnSpPr>
        <p:spPr>
          <a:xfrm>
            <a:off x="4267080" y="457200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Left Brace 5"/>
          <p:cNvSpPr/>
          <p:nvPr/>
        </p:nvSpPr>
        <p:spPr>
          <a:xfrm rot="16200000">
            <a:off x="3238560" y="453384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1295280"/>
              <a:gd name="textAreaBottom" fmla="*/ 127152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0"/>
                  <a:pt x="10800" y="1280"/>
                </a:cubicBezTo>
                <a:lnTo>
                  <a:pt x="10800" y="9520"/>
                </a:lnTo>
                <a:cubicBezTo>
                  <a:pt x="10800" y="10160"/>
                  <a:pt x="5400" y="10800"/>
                  <a:pt x="0" y="10800"/>
                </a:cubicBezTo>
                <a:cubicBezTo>
                  <a:pt x="5400" y="10800"/>
                  <a:pt x="10800" y="11440"/>
                  <a:pt x="10800" y="12080"/>
                </a:cubicBezTo>
                <a:lnTo>
                  <a:pt x="10800" y="20320"/>
                </a:lnTo>
                <a:cubicBezTo>
                  <a:pt x="10800" y="2096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905120" y="5334120"/>
            <a:ext cx="4267080" cy="30456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Why is hydrogen uniqu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ydrogen is knows as a very unique element as: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Usually elements in group(I) are 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H1+ is non as a proton (stable)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    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H1- is known as a hydride (unst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est for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images[13].jpg"/>
          <p:cNvPicPr/>
          <p:nvPr/>
        </p:nvPicPr>
        <p:blipFill>
          <a:blip r:embed="rId1"/>
          <a:stretch/>
        </p:blipFill>
        <p:spPr>
          <a:xfrm>
            <a:off x="228600" y="22860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1981080" y="2438280"/>
            <a:ext cx="2971800" cy="1600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The problem is that their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Odor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Color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Tast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6"/>
          <p:cNvCxnSpPr/>
          <p:nvPr/>
        </p:nvCxnSpPr>
        <p:spPr>
          <a:xfrm>
            <a:off x="5943600" y="5715000"/>
            <a:ext cx="5342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ses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2 + N2             2NH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Straight Arrow Connector 4"/>
          <p:cNvCxnSpPr/>
          <p:nvPr/>
        </p:nvCxnSpPr>
        <p:spPr>
          <a:xfrm>
            <a:off x="2971800" y="3657600"/>
            <a:ext cx="9914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8:08:47Z</dcterms:created>
  <dc:creator>pc</dc:creator>
  <dc:description/>
  <dc:language>en-US</dc:language>
  <cp:lastModifiedBy>RomaK</cp:lastModifiedBy>
  <dcterms:modified xsi:type="dcterms:W3CDTF">2015-09-02T05:53:15Z</dcterms:modified>
  <cp:revision>8</cp:revision>
  <dc:subject/>
  <dc:title>Slide 1</dc:title>
</cp:coreProperties>
</file>