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AF09-BFF7-4588-8AE2-0558FC1E5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5777-CC64-4C16-BCCA-88AEE8A43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convection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8FB7-F204-4EAA-9C1B-117D0DB1F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f a neutrino can escape from the solar core within minutes, then    how long does it take a photon to escap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hundred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amma ray photons are absorbed and re-emitted continuously in the layers above the c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y gradually shift in spectrum to visible and infrared light at the photosphe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0BA2-3817-4432-AB3D-F3FB7A07C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a higher rate of 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higher radiation pres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absorption of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convection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4E62-78E5-448B-8218-72CD993F4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br>
              <a:rPr sz="1200"/>
            </a:b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the higher rate of 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higher radiation pres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absorption of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convection current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parently the Sun’s magnetic field acts like a pump to increase the speeds of particles in the upper coro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16F3-A325-4E39-9EC2-3CCE8B884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number of sunspots and solar activity in general peak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every 27 days, the apparent rotation period of the Sun’s surf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once a y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every 5 ½ 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pproximately every 1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B5E1-3F49-4545-8D3F-3C263710C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number of sunspots and sola</a:t>
            </a:r>
            <a:br>
              <a:rPr sz="1200"/>
            </a:b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every 27 days, the apparent rotation period of the Sun’s surf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once a y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every 5 ½ 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approximately every 1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 activity in general pe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spot cycle shows a consistent 11-year pattern of activity dating back more than 3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523D-4CD1-46CD-9BBA-023C3138D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“Solar Neutrino Problem” refers to th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cannot explain how the Sun is s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cannot detect neutrino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are unable to explain how neutrinos oscillate between other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cannot create controlled fusion reactions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 fact that astron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BA1E-96DD-4369-8870-72E7C83ED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“Solar Neutrino Problem” refers to the fact that astron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cannot explain how the Sun is stable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cannot detect neutrino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are unable to explain how neutrinos oscillate between other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cannot create controlled fusion reactions on Earth.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urther experiments have shown that solar neutrinos can change into other types that were not initially det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AE79-24AF-408E-8BC5-5C5331AE6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convection z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hotosphere is a relatively narrow layer below the chromosphere and corona, with an average temperature of about 6000 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BE8B-5B9F-4894-AE06-357266DF7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add note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a com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interstellar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n aster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046A-43D0-494F-9D40-43E04DCA3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 a com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interstellar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an aster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 is a ball of charged gas, without a solid surfac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upiter has a similar composition, but not enough mass to be a 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CB49-2D39-4F0C-A8AB-EFA4CFCDA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the rate of fusion equals the rate of fis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radiation and convectio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mass is converted in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fusion doesn’t depend on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2255-D6BB-49B1-9F3E-837179463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the rate of fusion equals the rate of fis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radiation and convectio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mass is converted in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fusion doesn’t depend on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rinciple of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Hydrostatic Equilibrium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explains how stars maintain their st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554F-222B-4318-B572-7D6A00399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carbon (C) into oxygen (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helium (He) into carbon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neon (Ne) into silicon (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oxygen (O) into iron (F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E5F1-909E-467E-B9C3-15178782F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carbon (C) into oxygen (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helium (He) into carbon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neon (Ne) into silicon (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oxygen (O) into iron (F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 the P-P cycle, four Hydrogen nuclei (protons) fuse into one Helium nucleus, releasing gamma rays and neutrin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BEE5-C9D6-424E-8956-9824B7436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f a neutrino can escape from the solar core within m1)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hundred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utes, then    how long does it take a photon to escap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BBA9-F4A9-4236-B7DB-D50D8AB7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A11C-197C-44C8-8039-9BA8BCD4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D012-5CBE-44DE-9E63-E2606FCD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B911-1AFF-4D66-B8B8-B32C6367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B7C3-C7C9-4294-8807-75825C16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F6B4-9A5C-432C-B9C6-B61368C4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8FE6-6540-4003-BC1E-CCC0E782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40DB-31DE-42B0-AE3C-EDA53EEE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E308-0329-48EC-8740-6768B10B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1FC1-5378-460B-BE24-2571074B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B65E-C8B3-4013-AEFE-A36009D3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0946-EC6F-4076-A5DE-87559124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13A2-1B76-49BE-B129-CBC71D70F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5105520" y="914400"/>
            <a:ext cx="2819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chrom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convection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85800" y="12193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33520" y="106668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neutrino can escape from the solar core within minutes, then    how long does it take a photon to esca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48320" y="1143000"/>
            <a:ext cx="312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hundreds of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4176720" y="2514600"/>
            <a:ext cx="390060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4267080" y="3581280"/>
            <a:ext cx="47246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mma ray photons are absorbed and re-emitted continuously in the layers above the c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gradually shift in spectrum to visible and infrared light at the photospher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16_02Figure-F"/>
          <p:cNvPicPr/>
          <p:nvPr/>
        </p:nvPicPr>
        <p:blipFill>
          <a:blip r:embed="rId1"/>
          <a:srcRect l="0" t="0" r="0" b="1614"/>
          <a:stretch/>
        </p:blipFill>
        <p:spPr>
          <a:xfrm>
            <a:off x="304920" y="3429000"/>
            <a:ext cx="3581280" cy="34275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8600" y="91440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724280" y="9907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a higher rate of fu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higher radiation pres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absorption of X-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convection cur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28600" y="91440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724280" y="9907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the higher rate of fu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higher radiation pres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absorption of X-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convection cur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4419720" y="1295280"/>
            <a:ext cx="390024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114800" y="403848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arently the Sun’s magnetic field acts like a pump to increase the speeds of particles in the upper cor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16_23Figure-P"/>
          <p:cNvPicPr/>
          <p:nvPr/>
        </p:nvPicPr>
        <p:blipFill>
          <a:blip r:embed="rId1"/>
          <a:srcRect l="0" t="0" r="0" b="9717"/>
          <a:stretch/>
        </p:blipFill>
        <p:spPr>
          <a:xfrm>
            <a:off x="152280" y="3355920"/>
            <a:ext cx="3505320" cy="35020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umber of sunspots and solar activity in general p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every 27 days, the apparent rotation period of the Sun’s surfa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once a y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every 5 ½ 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pproximately every 10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every 27 days, the apparent rotation period of the Sun’s surfa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once a y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every 5 ½ 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approximately every 10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3505320" y="2362320"/>
            <a:ext cx="3900240" cy="53316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04920" y="5883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spot cycle shows a consistent 11-year pattern of activity dating back more than 300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umber of sunspots and solar activity in general p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16_20Figure-F"/>
          <p:cNvPicPr/>
          <p:nvPr/>
        </p:nvPicPr>
        <p:blipFill>
          <a:blip r:embed="rId1"/>
          <a:srcRect l="0" t="0" r="0" b="2727"/>
          <a:stretch/>
        </p:blipFill>
        <p:spPr>
          <a:xfrm>
            <a:off x="2514600" y="3349800"/>
            <a:ext cx="4280040" cy="25556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/>
          <p:cNvSpPr/>
          <p:nvPr/>
        </p:nvSpPr>
        <p:spPr>
          <a:xfrm>
            <a:off x="0" y="0"/>
            <a:ext cx="9144000" cy="3809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Solar Neutrino Problem” refers to the fact that astron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cannot explain how the Sun is sta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cannot detect neutrinos eas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are unable to explain how neutrinos oscillate between other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cannot create controlled fusion reactions on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/>
          <p:cNvSpPr/>
          <p:nvPr/>
        </p:nvSpPr>
        <p:spPr>
          <a:xfrm>
            <a:off x="0" y="0"/>
            <a:ext cx="9144000" cy="3809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Solar Neutrino Problem” refers to the fact that astron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cannot explain how the Sun is stab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cannot detect neutrinos eas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are unable to explain how neutrinos oscillate between other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cannot create controlled fusion reactions on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3678120" y="1295280"/>
            <a:ext cx="5486400" cy="83844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267080" y="4419720"/>
            <a:ext cx="426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rther experiments have shown that solar neutrinos can change into other types that were not initially det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16_29Figureb-P"/>
          <p:cNvPicPr/>
          <p:nvPr/>
        </p:nvPicPr>
        <p:blipFill>
          <a:blip r:embed="rId1"/>
          <a:srcRect l="0" t="0" r="0" b="7943"/>
          <a:stretch/>
        </p:blipFill>
        <p:spPr>
          <a:xfrm>
            <a:off x="457200" y="3956040"/>
            <a:ext cx="3220920" cy="29019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85800" y="12193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105520" y="9144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chrom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convection z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419720" y="373392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hotosphere is a relatively narrow layer below the chromosphere and corona, with an average temperature of about 6000 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4648320" y="1600200"/>
            <a:ext cx="289548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16_01Figure-P"/>
          <p:cNvPicPr/>
          <p:nvPr/>
        </p:nvPicPr>
        <p:blipFill>
          <a:blip r:embed="rId1"/>
          <a:srcRect l="0" t="0" r="0" b="10806"/>
          <a:stretch/>
        </p:blipFill>
        <p:spPr>
          <a:xfrm>
            <a:off x="380880" y="3429000"/>
            <a:ext cx="3505320" cy="33274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33520" y="10666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5257800" y="91440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a co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the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interstellar 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n astero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5257800" y="91440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 a co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the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interstellar 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an astero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4724280" y="1219320"/>
            <a:ext cx="2590920" cy="53316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4419720" y="3733920"/>
            <a:ext cx="3657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 is a ball of charged gas, without a solid surfac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piter has a similar composition, but not enough mass to be a s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533520" y="10666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16_01Figure-P"/>
          <p:cNvPicPr/>
          <p:nvPr/>
        </p:nvPicPr>
        <p:blipFill>
          <a:blip r:embed="rId1"/>
          <a:srcRect l="0" t="0" r="0" b="10806"/>
          <a:stretch/>
        </p:blipFill>
        <p:spPr>
          <a:xfrm>
            <a:off x="380880" y="3429000"/>
            <a:ext cx="3505320" cy="3327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04920" y="10666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276720" y="9144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the rate of fusion equals the rate of fis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radiation and convection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mass is converted into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fusion doesn’t depend on temp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16_01Figure-P"/>
          <p:cNvPicPr/>
          <p:nvPr/>
        </p:nvPicPr>
        <p:blipFill>
          <a:blip r:embed="rId1"/>
          <a:srcRect l="0" t="0" r="0" b="10806"/>
          <a:stretch/>
        </p:blipFill>
        <p:spPr>
          <a:xfrm>
            <a:off x="380880" y="3429000"/>
            <a:ext cx="3505320" cy="33274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4920" y="10666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276720" y="9144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the rate of fusion equals the rate of fis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radiation and convection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mass is converted into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fusion doesn’t depend on temp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7"/>
          <p:cNvSpPr/>
          <p:nvPr/>
        </p:nvSpPr>
        <p:spPr>
          <a:xfrm>
            <a:off x="3200400" y="838080"/>
            <a:ext cx="563868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724280" y="419112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inciple of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ydrostatic Equilibriu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xplains how stars maintain their st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16_04Figure-F"/>
          <p:cNvPicPr/>
          <p:nvPr/>
        </p:nvPicPr>
        <p:blipFill>
          <a:blip r:embed="rId1"/>
          <a:stretch/>
        </p:blipFill>
        <p:spPr>
          <a:xfrm>
            <a:off x="457200" y="3429000"/>
            <a:ext cx="3557520" cy="31464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04920" y="10666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4495680" y="9144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carbon (C) into oxygen (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helium (He) into carbon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neon (Ne) into silicon (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oxygen (O) into iron (F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562720" y="3962520"/>
            <a:ext cx="350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 P-P cycle, four Hydrogen nuclei (protons) fuse into one Helium nucleus, releasing gamma rays and neutri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4920" y="10666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495680" y="9144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carbon (C) into oxygen (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helium (He) into carbon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neon (Ne) into silicon (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oxygen (O) into iron (F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4114800" y="1600200"/>
            <a:ext cx="496728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16_28Figure-F"/>
          <p:cNvPicPr/>
          <p:nvPr/>
        </p:nvPicPr>
        <p:blipFill>
          <a:blip r:embed="rId1"/>
          <a:srcRect l="0" t="0" r="0" b="6193"/>
          <a:stretch/>
        </p:blipFill>
        <p:spPr>
          <a:xfrm>
            <a:off x="152280" y="3429000"/>
            <a:ext cx="5257800" cy="33289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33520" y="106668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neutrino can escape from the solar core within minutes, then    how long does it take a photon to esca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648320" y="1143000"/>
            <a:ext cx="312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hundreds of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01:33:30Z</dcterms:created>
  <dc:creator>UBOTTCH</dc:creator>
  <dc:description/>
  <dc:language>en-US</dc:language>
  <cp:lastModifiedBy>Legion</cp:lastModifiedBy>
  <dcterms:modified xsi:type="dcterms:W3CDTF">2017-01-26T09:48:06Z</dcterms:modified>
  <cp:revision>38</cp:revision>
  <dc:subject/>
  <dc:title>Slide 1</dc:title>
</cp:coreProperties>
</file>