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805B-F1B7-472D-AB7E-5BD7657C4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2477-ADF5-402B-A97B-8ED911E7E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313F-83A7-464A-B503-DF6B0B8CC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BAE7-3EF5-4A54-A42B-41A0EC849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2182-C3A6-45C5-B0F0-33FD5E064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044B-156F-4386-971A-265E954CB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AE44-9161-4184-9909-36240AD0D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 activity in general p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6E47-3009-4B36-9485-290DFC514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298D-71A7-42FE-BDAC-3B483294B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CDE1-6F35-45C2-8479-6BB77343D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04D4-4895-4813-9B5E-EC6FCFE2F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add not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21F6-64C0-486F-9DF3-AEA95BEC6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50E8-AAD9-49C6-9554-766323C44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9149-12BA-429D-81F1-C334F79DB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5564-23B6-4BE1-9C7E-BAA7910D0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283D-1A8A-4B03-B8F1-D61C2E1FD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5ABB-45CC-4E2D-9A26-B1A5FB170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A37B-207C-40BC-8407-FA29E151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231-0BAF-4FBB-AD40-CB26B880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3AEB-53C8-4D96-9587-810373C7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8D4-4A6E-4CE0-9710-BFE82820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058-EFFF-4363-B317-EC6369B8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2C6-0223-4B9C-8566-18869134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46A-A684-41E9-86E2-B25BDA58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514D-BC55-49AA-AEB2-4B5996C2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701-FBC6-4AB0-8BE8-98FCD206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B34-6FEC-445F-997A-DFA6EDBF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D9D-8811-4F8B-8018-812E02AE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EA3-1A84-4C6C-AC9D-4ACBBC48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CC12-475B-4C1D-88CE-B070F7A0B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105520" y="91440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4176720" y="2514600"/>
            <a:ext cx="390060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267080" y="3581280"/>
            <a:ext cx="4724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16_02Figure-F"/>
          <p:cNvPicPr/>
          <p:nvPr/>
        </p:nvPicPr>
        <p:blipFill>
          <a:blip r:embed="rId1"/>
          <a:srcRect l="0" t="0" r="0" b="1614"/>
          <a:stretch/>
        </p:blipFill>
        <p:spPr>
          <a:xfrm>
            <a:off x="304920" y="3429000"/>
            <a:ext cx="3581280" cy="3427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419720" y="1295280"/>
            <a:ext cx="390024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114800" y="4038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16_23Figure-P"/>
          <p:cNvPicPr/>
          <p:nvPr/>
        </p:nvPicPr>
        <p:blipFill>
          <a:blip r:embed="rId1"/>
          <a:srcRect l="0" t="0" r="0" b="9717"/>
          <a:stretch/>
        </p:blipFill>
        <p:spPr>
          <a:xfrm>
            <a:off x="152280" y="3355920"/>
            <a:ext cx="350532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505320" y="2362320"/>
            <a:ext cx="390024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04920" y="5883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16_20Figure-F"/>
          <p:cNvPicPr/>
          <p:nvPr/>
        </p:nvPicPr>
        <p:blipFill>
          <a:blip r:embed="rId1"/>
          <a:srcRect l="0" t="0" r="0" b="2727"/>
          <a:stretch/>
        </p:blipFill>
        <p:spPr>
          <a:xfrm>
            <a:off x="2514600" y="3349800"/>
            <a:ext cx="4280040" cy="2555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3678120" y="1295280"/>
            <a:ext cx="5486400" cy="83844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267080" y="441972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16_29Figureb-P"/>
          <p:cNvPicPr/>
          <p:nvPr/>
        </p:nvPicPr>
        <p:blipFill>
          <a:blip r:embed="rId1"/>
          <a:srcRect l="0" t="0" r="0" b="7943"/>
          <a:stretch/>
        </p:blipFill>
        <p:spPr>
          <a:xfrm>
            <a:off x="457200" y="3956040"/>
            <a:ext cx="3220920" cy="29019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105520" y="9144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419720" y="37339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4648320" y="1600200"/>
            <a:ext cx="28954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4724280" y="1219320"/>
            <a:ext cx="259092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419720" y="3733920"/>
            <a:ext cx="3657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3200400" y="838080"/>
            <a:ext cx="56386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724280" y="41911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16_04Figure-F"/>
          <p:cNvPicPr/>
          <p:nvPr/>
        </p:nvPicPr>
        <p:blipFill>
          <a:blip r:embed="rId1"/>
          <a:stretch/>
        </p:blipFill>
        <p:spPr>
          <a:xfrm>
            <a:off x="457200" y="3429000"/>
            <a:ext cx="3557520" cy="31464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562720" y="3962520"/>
            <a:ext cx="350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4114800" y="1600200"/>
            <a:ext cx="49672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16_28Figure-F"/>
          <p:cNvPicPr/>
          <p:nvPr/>
        </p:nvPicPr>
        <p:blipFill>
          <a:blip r:embed="rId1"/>
          <a:srcRect l="0" t="0" r="0" b="6193"/>
          <a:stretch/>
        </p:blipFill>
        <p:spPr>
          <a:xfrm>
            <a:off x="152280" y="3429000"/>
            <a:ext cx="5257800" cy="33289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1:33:30Z</dcterms:created>
  <dc:creator>UBOTTCH</dc:creator>
  <dc:description/>
  <dc:language>en-US</dc:language>
  <cp:lastModifiedBy>Legion</cp:lastModifiedBy>
  <dcterms:modified xsi:type="dcterms:W3CDTF">2017-01-26T09:48:06Z</dcterms:modified>
  <cp:revision>38</cp:revision>
  <dc:subject/>
  <dc:title>Slide 1</dc:title>
</cp:coreProperties>
</file>