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CC2E-3F8F-4E72-811A-DDF67D179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8F4E-CE14-4FCD-BF96-739442089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visible light we see from our Sun comes from which pa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convection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D526-2B59-4760-8788-D746F2272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f a neutrino can escape from the solar core within minutes, then    how long does it take a photon to escap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2) h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hundreds of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about a million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amma ray photons are absorbed and re-emitted continuously in the layers above the c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y gradually shift in spectrum to visible and infrared light at the photosphe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3625-7061-4FAF-94C6-B59A63794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hat is probably responsible for the increase in temperature of the </a:t>
            </a:r>
            <a:r>
              <a:rPr b="1" i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oron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far from the Sun’s surface?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a higher rate of 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the Sun’s magnet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higher radiation pres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absorption of 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convection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9B03-7DCA-44F9-8EE5-E665D26BC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hat is probably responsible for the increase in temperature of the </a:t>
            </a:r>
            <a:r>
              <a:rPr b="1" i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oron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far from the Sun’s surface?</a:t>
            </a:r>
            <a:br>
              <a:rPr sz="1200"/>
            </a:b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the higher rate of 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the Sun’s magnet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higher radiation pres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absorption of 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convection currents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parently the Sun’s magnetic field acts like a pump to increase the speeds of particles in the upper coro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193C-00F2-436C-BDC6-78E457FFA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number of sunspots and solar activity in general peaks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every 27 days, the apparent rotation period of the Sun’s surf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once a ye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every 5 ½ 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every 11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approximately every 100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DDED-6DD5-4991-B8B6-41804775A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number of sunspots and sola</a:t>
            </a:r>
            <a:br>
              <a:rPr sz="1200"/>
            </a:b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every 27 days, the apparent rotation period of the Sun’s surf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2) once a ye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every 5 ½ 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every 11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approximately every 100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 activity in general pe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sunspot cycle shows a consistent 11-year pattern of activity dating back more than 300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4B57-ABBF-4111-9B08-954E4572F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“Solar Neutrino Problem” refers to th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cannot explain how the Sun is sta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detect only one-third the number of neutrinos expected by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cannot detect neutrinos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are unable to explain how neutrinos oscillate between other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cannot create controlled fusion reactions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 fact that astron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2C4F-6388-4E4C-BDE6-0B7F52B79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“Solar Neutrino Problem” refers to the fact that astron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cannot explain how the Sun is stable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detect only one-third the number of neutrinos expected by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cannot detect neutrinos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are unable to explain how neutrinos oscillate between other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cannot create controlled fusion reactions on Earth.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urther experiments have shown that solar neutrinos can change into other types that were not initially det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1E1C-6C93-49E7-A243-B072515C1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visible light we see from our Sun comes from which pa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2) 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convection z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photosphere is a relatively narrow layer below the chromosphere and corona, with an average temperature of about 6000 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BC68-0B8F-464E-AF85-9F73A9996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add notes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density of the Sun is most similar to that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a com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Jupi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interstellar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an astero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56B8-A9ED-4CE7-8781-A0B17430B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density of the Sun is most similar to that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 a com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Jupi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interstellar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an astero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Sun is a ball of charged gas, without a solid surfac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upiter has a similar composition, but not enough mass to be a s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A15E-032C-4C5B-B1C0-9855015DC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Sun is stable as a star be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gravity balances forces from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the rate of fusion equals the rate of fiss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radiation and convection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mass is converted into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fusion doesn’t depend on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AF6D-A458-4676-A3DA-D436D84A3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Sun is stable as a star be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gravity balances forces from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2) the rate of fusion equals the rate of fiss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radiation and convection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mass is converted into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fusion doesn’t depend on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principle of </a:t>
            </a:r>
            <a:r>
              <a:rPr b="1" i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Hydrostatic Equilibrium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explains how stars maintain their sta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61CC-A59F-4F5D-8B0A-7AB0FFCFA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proton–proton cycle involves what kind of fusion proce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carbon (C) into oxygen (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helium (He) into carbon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hydrogen (H) into helium (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neon (Ne) into silicon (S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oxygen (O) into iron (F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B920-4DA5-4D31-894F-39921CFB5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proton–proton cycle involves what kind of fusion proce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carbon (C) into oxygen (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2) helium (He) into carbon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hydrogen (H) into helium (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neon (Ne) into silicon (S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oxygen (O) into iron (F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 the P-P cycle, four Hydrogen nuclei (protons) fuse into one Helium nucleus, releasing gamma rays and neutrin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1BCF-826D-4C27-AF8D-18C117B08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f a neutrino can escape from the solar core within m1)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h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hundreds of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about a million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utes, then    how long does it take a photon to escap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0F2A-C688-486C-82E8-75B6BC571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1F80-1FBF-4D99-B8BC-C33370B1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EDF4-F7B4-496F-8161-9AA78BCA9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B453-7CB1-40DB-B319-2C357393A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9100-4F32-4889-8361-BD4772E4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9EF3-6175-45B8-B946-CA080EAA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9581-2CDA-40FE-8AF7-A497E56D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21A8-E130-4E0B-AB20-CC850EE5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D6C2-15F3-481F-9075-171B4BD0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16CA-216E-4C36-9BAB-F31F3757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A232-D6E0-4997-8917-A9EF018A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FB89-D732-4FA5-9497-214874C9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1810-0CA4-480C-9C7D-A37437E84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5105520" y="914400"/>
            <a:ext cx="2819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co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phot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chrom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convection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85800" y="12193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visible light we see from our Sun comes from which pa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533520" y="106668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a neutrino can escape from the solar core within minutes, then    how long does it take a photon to esca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648320" y="1143000"/>
            <a:ext cx="3124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2)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hundreds of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about a million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6"/>
          <p:cNvSpPr/>
          <p:nvPr/>
        </p:nvSpPr>
        <p:spPr>
          <a:xfrm>
            <a:off x="4176720" y="2514600"/>
            <a:ext cx="3900600" cy="53352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4267080" y="3581280"/>
            <a:ext cx="47246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mma ray photons are absorbed and re-emitted continuously in the layers above the c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gradually shift in spectrum to visible and infrared light at the photospher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16_02Figure-F"/>
          <p:cNvPicPr/>
          <p:nvPr/>
        </p:nvPicPr>
        <p:blipFill>
          <a:blip r:embed="rId1"/>
          <a:srcRect l="0" t="0" r="0" b="1614"/>
          <a:stretch/>
        </p:blipFill>
        <p:spPr>
          <a:xfrm>
            <a:off x="304920" y="3429000"/>
            <a:ext cx="3581280" cy="34275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28600" y="91440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probably responsible for the increase in temperature of the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ron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ar from the Sun’s surf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724280" y="990720"/>
            <a:ext cx="4419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a higher rate of fu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the Sun’s magnetis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higher radiation pres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absorption of X-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convection cur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28600" y="91440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probably responsible for the increase in temperature of the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ron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ar from the Sun’s surf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724280" y="990720"/>
            <a:ext cx="4419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the higher rate of fu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the Sun’s magnetis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higher radiation pres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absorption of X-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convection cur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4419720" y="1295280"/>
            <a:ext cx="3900240" cy="53352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4114800" y="4038480"/>
            <a:ext cx="38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arently the Sun’s magnetic field acts like a pump to increase the speeds of particles in the upper coro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16_23Figure-P"/>
          <p:cNvPicPr/>
          <p:nvPr/>
        </p:nvPicPr>
        <p:blipFill>
          <a:blip r:embed="rId1"/>
          <a:srcRect l="0" t="0" r="0" b="9717"/>
          <a:stretch/>
        </p:blipFill>
        <p:spPr>
          <a:xfrm>
            <a:off x="152280" y="3355920"/>
            <a:ext cx="3505320" cy="35020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28600" y="12952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number of sunspots and solar activity in general pea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4114800" y="990720"/>
            <a:ext cx="5029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every 27 days, the apparent rotation period of the Sun’s surfa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once a ye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every 5 ½ 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every 11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approximately every 100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114800" y="990720"/>
            <a:ext cx="5029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every 27 days, the apparent rotation period of the Sun’s surfa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2) once a ye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every 5 ½ 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every 11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approximately every 100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3505320" y="2362320"/>
            <a:ext cx="3900240" cy="53316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04920" y="58831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unspot cycle shows a consistent 11-year pattern of activity dating back more than 300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228600" y="12952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number of sunspots and solar activity in general pea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16_20Figure-F"/>
          <p:cNvPicPr/>
          <p:nvPr/>
        </p:nvPicPr>
        <p:blipFill>
          <a:blip r:embed="rId1"/>
          <a:srcRect l="0" t="0" r="0" b="2727"/>
          <a:stretch/>
        </p:blipFill>
        <p:spPr>
          <a:xfrm>
            <a:off x="2514600" y="3349800"/>
            <a:ext cx="4280040" cy="25556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2"/>
          <p:cNvSpPr/>
          <p:nvPr/>
        </p:nvSpPr>
        <p:spPr>
          <a:xfrm>
            <a:off x="0" y="0"/>
            <a:ext cx="9144000" cy="38098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28600" y="12952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“Solar Neutrino Problem” refers to the fact that astron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114800" y="990720"/>
            <a:ext cx="5029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cannot explain how the Sun is sta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detect only one-third the number of neutrinos expected by the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cannot detect neutrinos eas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are unable to explain how neutrinos oscillate between other ty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cannot create controlled fusion reactions on Ea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2"/>
          <p:cNvSpPr/>
          <p:nvPr/>
        </p:nvSpPr>
        <p:spPr>
          <a:xfrm>
            <a:off x="0" y="0"/>
            <a:ext cx="9144000" cy="38098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28600" y="12952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“Solar Neutrino Problem” refers to the fact that astron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4114800" y="990720"/>
            <a:ext cx="5029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cannot explain how the Sun is stable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detect only one-third the number of neutrinos expected by the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cannot detect neutrinos eas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are unable to explain how neutrinos oscillate between other ty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cannot create controlled fusion reactions on Ea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3678120" y="1295280"/>
            <a:ext cx="5486400" cy="83844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4267080" y="4419720"/>
            <a:ext cx="426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rther experiments have shown that solar neutrinos can change into other types that were not initially det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9" descr="16_29Figureb-P"/>
          <p:cNvPicPr/>
          <p:nvPr/>
        </p:nvPicPr>
        <p:blipFill>
          <a:blip r:embed="rId1"/>
          <a:srcRect l="0" t="0" r="0" b="7943"/>
          <a:stretch/>
        </p:blipFill>
        <p:spPr>
          <a:xfrm>
            <a:off x="457200" y="3956040"/>
            <a:ext cx="3220920" cy="290196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85800" y="12193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visible light we see from our Sun comes from which pa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5105520" y="91440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2) co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phot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chrom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convection z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4419720" y="3733920"/>
            <a:ext cx="4495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hotosphere is a relatively narrow layer below the chromosphere and corona, with an average temperature of about 6000 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4648320" y="1600200"/>
            <a:ext cx="2895480" cy="53352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16_01Figure-P"/>
          <p:cNvPicPr/>
          <p:nvPr/>
        </p:nvPicPr>
        <p:blipFill>
          <a:blip r:embed="rId1"/>
          <a:srcRect l="0" t="0" r="0" b="10806"/>
          <a:stretch/>
        </p:blipFill>
        <p:spPr>
          <a:xfrm>
            <a:off x="380880" y="3429000"/>
            <a:ext cx="3505320" cy="33274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533520" y="106668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density of the Sun is most similar to tha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5257800" y="91440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a com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Jupi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the Ea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interstellar g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an astero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5257800" y="91440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 a com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Jupi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the Ea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interstellar g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an astero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7"/>
          <p:cNvSpPr/>
          <p:nvPr/>
        </p:nvSpPr>
        <p:spPr>
          <a:xfrm>
            <a:off x="4724280" y="1219320"/>
            <a:ext cx="2590920" cy="53316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4419720" y="3733920"/>
            <a:ext cx="36576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un is a ball of charged gas, without a solid surfac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upiter has a similar composition, but not enough mass to be a st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533520" y="106668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density of the Sun is most similar to tha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" descr="16_01Figure-P"/>
          <p:cNvPicPr/>
          <p:nvPr/>
        </p:nvPicPr>
        <p:blipFill>
          <a:blip r:embed="rId1"/>
          <a:srcRect l="0" t="0" r="0" b="10806"/>
          <a:stretch/>
        </p:blipFill>
        <p:spPr>
          <a:xfrm>
            <a:off x="380880" y="3429000"/>
            <a:ext cx="3505320" cy="33274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304920" y="10666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un is stable as a star be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3276720" y="9144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gravity balances forces from pres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the rate of fusion equals the rate of fiss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radiation and convection bal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mass is converted into ener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fusion doesn’t depend on temper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16_01Figure-P"/>
          <p:cNvPicPr/>
          <p:nvPr/>
        </p:nvPicPr>
        <p:blipFill>
          <a:blip r:embed="rId1"/>
          <a:srcRect l="0" t="0" r="0" b="10806"/>
          <a:stretch/>
        </p:blipFill>
        <p:spPr>
          <a:xfrm>
            <a:off x="380880" y="3429000"/>
            <a:ext cx="3505320" cy="332748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04920" y="10666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un is stable as a star be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276720" y="9144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gravity balances forces from pres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2) the rate of fusion equals the rate of fiss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radiation and convection bal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mass is converted into ener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fusion doesn’t depend on temper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7"/>
          <p:cNvSpPr/>
          <p:nvPr/>
        </p:nvSpPr>
        <p:spPr>
          <a:xfrm>
            <a:off x="3200400" y="838080"/>
            <a:ext cx="5638680" cy="53352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4724280" y="419112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rinciple of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ydrostatic Equilibriu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explains how stars maintain their st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16_04Figure-F"/>
          <p:cNvPicPr/>
          <p:nvPr/>
        </p:nvPicPr>
        <p:blipFill>
          <a:blip r:embed="rId1"/>
          <a:stretch/>
        </p:blipFill>
        <p:spPr>
          <a:xfrm>
            <a:off x="457200" y="3429000"/>
            <a:ext cx="3557520" cy="31464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304920" y="10666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roton–proton cycle involves what kind of fusion proc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4495680" y="91440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carbon (C) into oxygen (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helium (He) into carbon 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hydrogen (H) into helium (H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neon (Ne) into silicon (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oxygen (O) into iron (F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5562720" y="3962520"/>
            <a:ext cx="3504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the P-P cycle, four Hydrogen nuclei (protons) fuse into one Helium nucleus, releasing gamma rays and neutri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304920" y="10666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roton–proton cycle involves what kind of fusion proc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4495680" y="91440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carbon (C) into oxygen (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2) helium (He) into carbon 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hydrogen (H) into helium (H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neon (Ne) into silicon (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oxygen (O) into iron (F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0"/>
          <p:cNvSpPr/>
          <p:nvPr/>
        </p:nvSpPr>
        <p:spPr>
          <a:xfrm>
            <a:off x="4114800" y="1600200"/>
            <a:ext cx="4967280" cy="53352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1" descr="16_28Figure-F"/>
          <p:cNvPicPr/>
          <p:nvPr/>
        </p:nvPicPr>
        <p:blipFill>
          <a:blip r:embed="rId1"/>
          <a:srcRect l="0" t="0" r="0" b="6193"/>
          <a:stretch/>
        </p:blipFill>
        <p:spPr>
          <a:xfrm>
            <a:off x="152280" y="3429000"/>
            <a:ext cx="5257800" cy="33289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533520" y="106668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a neutrino can escape from the solar core within minutes, then    how long does it take a photon to esca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4648320" y="1143000"/>
            <a:ext cx="3124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hundreds of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about a million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2T01:33:30Z</dcterms:created>
  <dc:creator>UBOTTCH</dc:creator>
  <dc:description/>
  <dc:language>en-US</dc:language>
  <cp:lastModifiedBy>Legion</cp:lastModifiedBy>
  <dcterms:modified xsi:type="dcterms:W3CDTF">2017-01-26T09:48:06Z</dcterms:modified>
  <cp:revision>38</cp:revision>
  <dc:subject/>
  <dc:title>Slide 1</dc:title>
</cp:coreProperties>
</file>