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9485-FF10-4ECA-AD0A-4266AF3FB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9D9-42FE-4564-A604-2769D664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3A4-D213-42A6-BCE8-33118EDC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00D-9531-4834-A87C-16D32120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BB5-B830-4C63-A38B-C9BF04CB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15A-55EF-4CCB-B3C9-C363179A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E9E-D5EA-4CD7-A7BC-076F622F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068-F086-44AB-8E62-594B705E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D46-9EEB-4ED5-AF61-9CCF161D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792-7A85-4739-A6E4-ECDDF08E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64E-AFAC-423A-A9AA-BBB294E7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2A6C-DE8B-4425-B17B-CB759C68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F0D-5720-432A-82CF-21A867F2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288D-A498-4991-87F9-09B73D01E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Text Box 6"/>
          <p:cNvSpPr/>
          <p:nvPr/>
        </p:nvSpPr>
        <p:spPr>
          <a:xfrm>
            <a:off x="152280" y="5943600"/>
            <a:ext cx="8534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9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Legion</cp:lastModifiedBy>
  <dcterms:modified xsi:type="dcterms:W3CDTF">2017-01-26T10:04:30Z</dcterms:modified>
  <cp:revision>237</cp:revision>
  <dc:subject/>
  <dc:title>Elements of the Sun; Solar Radiation</dc:title>
</cp:coreProperties>
</file>