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434A-0D0A-4C49-A4A1-553794737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599-58FA-4A0F-9D62-095357E9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DA5-A704-4932-9F6C-1CD5B498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19F-8EE4-4793-87FA-E6D0C3E7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918-FA08-4FAD-88FC-FC06D3B8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793-7F00-41A1-A5CF-9DDFB5E3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6FA-F97B-40EF-AFC4-0ED8FE44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E1B-4661-4B50-A9B8-2B07C8F5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1AE-3360-43E0-B898-F70D8DAE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D7B-EDEB-40E2-9BBA-E4F7F207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91E-3804-4A77-B31B-27CD8901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FEC-4085-4B1C-9E94-016571B1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2F6-78C5-49F5-B043-F05A130B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3BB3-B489-45B7-A871-E2F4FC3F8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Text Box 6"/>
          <p:cNvSpPr/>
          <p:nvPr/>
        </p:nvSpPr>
        <p:spPr>
          <a:xfrm>
            <a:off x="152280" y="5943600"/>
            <a:ext cx="8534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9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Legion</cp:lastModifiedBy>
  <dcterms:modified xsi:type="dcterms:W3CDTF">2017-01-26T10:04:30Z</dcterms:modified>
  <cp:revision>237</cp:revision>
  <dc:subject/>
  <dc:title>Elements of the Sun; Solar Radiation</dc:title>
</cp:coreProperties>
</file>