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3A4A7-92A2-46E0-B001-65E39914265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1FDB7C-3AF8-4FA3-8431-C277A236C0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A26E4B-AED3-49C7-816C-615F6E307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6CA6BB-CDDB-4C67-A468-5495B834FD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714065-02A5-4F4D-BB40-564A32BFB7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76AA5-6226-43E5-AC8B-CD7BA9099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763FD-2A26-43D6-97BE-4AD42A59F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08943-8B0C-4825-AC1A-D9333F666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978E3-F09C-447B-9B03-FF25D5786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8D1B3-C95F-4909-82ED-4C16B6956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78A90-4B72-4F01-9060-1457C2572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8A919-5B35-4A36-9789-6BCD72A92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569E99-77CC-4D6B-97EA-942128B925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E357E-9648-45D5-A1A8-CC2CFF426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31CEC-4875-48A7-A3C6-52809A125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6CAE9-59D0-401F-8FF6-60F06DA52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9748A-B795-41D1-94E5-FC9E389AC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B6C7E-B164-4586-AAF9-65056D279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D73B4D-B498-463D-B73E-7EF505830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D26B36-D438-4FEE-895A-5DAAA97EC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5F7E0B-3CE8-4C23-9E01-F2E90AA70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91498C-7764-4386-ADC3-9194B82C0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2F5395-FDD9-42A4-B8A2-7553D1B75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696E97-9B67-48BA-97C5-EA137572A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E7668C-85BD-41CF-9575-1DC86882D3F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D893-2F00-4A20-B5C6-FFB64537CE34}"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30E2-0B34-4965-87A6-4DA097CAD045}"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OUR SOLAR SYSTEM</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The Sun, Planets and Dwarf Planets</a:t>
            </a:r>
            <a:endParaRPr b="0" lang="en-US" sz="34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7" name="PlaceHolder 2"/>
          <p:cNvSpPr>
            <a:spLocks noGrp="1"/>
          </p:cNvSpPr>
          <p:nvPr>
            <p:ph/>
          </p:nvPr>
        </p:nvSpPr>
        <p:spPr>
          <a:xfrm>
            <a:off x="4674960" y="1980720"/>
            <a:ext cx="4011480" cy="3886200"/>
          </a:xfrm>
          <a:prstGeom prst="rect">
            <a:avLst/>
          </a:prstGeom>
          <a:noFill/>
          <a:ln w="0">
            <a:noFill/>
          </a:ln>
        </p:spPr>
        <p:txBody>
          <a:bodyPr anchor="t">
            <a:normAutofit fontScale="99000"/>
          </a:bodyPr>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URANUS</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19.6 AU), at 14 Earth masses, is the lightest of the outer planets.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niquely among the planets, it orbits the Sun on its side; its axial tilt is over ninety degrees to the ecliptic.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has a much colder core than the other gas giants, and radiates very little heat into space.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has 27 known satellites, the largest ones being Titania, Oberon, Umbriel, Ariel and Miranda.</a:t>
            </a:r>
            <a:endParaRPr b="0" lang="en-US" sz="2000" spc="-1" strike="noStrike">
              <a:solidFill>
                <a:srgbClr val="000000"/>
              </a:solidFill>
              <a:latin typeface="Arial"/>
            </a:endParaRPr>
          </a:p>
        </p:txBody>
      </p:sp>
      <p:pic>
        <p:nvPicPr>
          <p:cNvPr id="148" name="Picture 7" descr="240px-Uranus2"/>
          <p:cNvPicPr/>
          <p:nvPr/>
        </p:nvPicPr>
        <p:blipFill>
          <a:blip r:embed="rId1"/>
          <a:stretch/>
        </p:blipFill>
        <p:spPr>
          <a:xfrm>
            <a:off x="676440" y="2268360"/>
            <a:ext cx="3235320" cy="27784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1"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Narrow"/>
              </a:rPr>
              <a:t>NEPTUN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30 AU), though slightly smaller than Uranus, is more massive (equivalent to 17 Earths) and therefore more dense. It radiates more internal heat, but not as much as Jupiter or Saturn.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has 13 known satellit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largest, Triton, is geologically active, with geysers of liquid nitroge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Triton is the only large satellite with a retrograde orbit. Neptune is accompanied in its orbit by a number of minor planets, termed Neptune trojans, that are in 1:1 resonance with it.</a:t>
            </a:r>
            <a:endParaRPr b="0" lang="en-US" sz="1800" spc="-1" strike="noStrike">
              <a:solidFill>
                <a:srgbClr val="000000"/>
              </a:solidFill>
              <a:latin typeface="Arial"/>
            </a:endParaRPr>
          </a:p>
        </p:txBody>
      </p:sp>
      <p:pic>
        <p:nvPicPr>
          <p:cNvPr id="152" name="Picture 7" descr="240px-Neptune"/>
          <p:cNvPicPr/>
          <p:nvPr/>
        </p:nvPicPr>
        <p:blipFill>
          <a:blip r:embed="rId1"/>
          <a:stretch/>
        </p:blipFill>
        <p:spPr>
          <a:xfrm>
            <a:off x="676440" y="2193840"/>
            <a:ext cx="3531960" cy="29606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WARF PLAN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5" name="PlaceHolder 2"/>
          <p:cNvSpPr>
            <a:spLocks noGrp="1"/>
          </p:cNvSpPr>
          <p:nvPr>
            <p:ph/>
          </p:nvPr>
        </p:nvSpPr>
        <p:spPr>
          <a:xfrm>
            <a:off x="1476000" y="4221000"/>
            <a:ext cx="5832360" cy="2159280"/>
          </a:xfrm>
          <a:prstGeom prst="rect">
            <a:avLst/>
          </a:prstGeom>
          <a:noFill/>
          <a:ln w="0">
            <a:noFill/>
          </a:ln>
        </p:spPr>
        <p:txBody>
          <a:bodyPr anchor="t">
            <a:normAutofit fontScale="91000"/>
          </a:bodyPr>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ore explicitly, it is a planetary-mass object—it has sufficient mass to overcome its internal compressive strength and achieve hydrostatic equilibrium—but is neither a planet nor a satellite.</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600" spc="-1" strike="noStrike">
              <a:solidFill>
                <a:srgbClr val="000000"/>
              </a:solidFill>
              <a:latin typeface="Arial"/>
            </a:endParaRPr>
          </a:p>
        </p:txBody>
      </p:sp>
      <p:pic>
        <p:nvPicPr>
          <p:cNvPr id="156" name="Picture 7" descr="449px-TheTransneptunians_Size_Albedo_Color"/>
          <p:cNvPicPr/>
          <p:nvPr/>
        </p:nvPicPr>
        <p:blipFill>
          <a:blip r:embed="rId1"/>
          <a:stretch/>
        </p:blipFill>
        <p:spPr>
          <a:xfrm>
            <a:off x="1486080" y="1992240"/>
            <a:ext cx="5314680" cy="1809720"/>
          </a:xfrm>
          <a:prstGeom prst="rect">
            <a:avLst/>
          </a:prstGeom>
          <a:ln w="0">
            <a:noFill/>
          </a:ln>
        </p:spPr>
      </p:pic>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9" name="PlaceHolder 2"/>
          <p:cNvSpPr>
            <a:spLocks noGrp="1"/>
          </p:cNvSpPr>
          <p:nvPr>
            <p:ph/>
          </p:nvPr>
        </p:nvSpPr>
        <p:spPr>
          <a:xfrm>
            <a:off x="4674960" y="1980720"/>
            <a:ext cx="4011480" cy="3886200"/>
          </a:xfrm>
          <a:prstGeom prst="rect">
            <a:avLst/>
          </a:prstGeom>
          <a:noFill/>
          <a:ln w="0">
            <a:noFill/>
          </a:ln>
        </p:spPr>
        <p:txBody>
          <a:bodyPr anchor="t">
            <a:normAutofit fontScale="93000"/>
          </a:bodyPr>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PLUTO</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uto is 39 AU away of Sun</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largest dwarf planet in the  Kuiper belt</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was discovered in 1930 </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no longer thought to be a normal planet in our Solar System, but a dwarf</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s largest moon, Charon, has an almost same mass with it</a:t>
            </a:r>
            <a:endParaRPr b="0" lang="en-US" sz="2400" spc="-1" strike="noStrike">
              <a:solidFill>
                <a:srgbClr val="000000"/>
              </a:solidFill>
              <a:latin typeface="Arial"/>
            </a:endParaRPr>
          </a:p>
        </p:txBody>
      </p:sp>
      <p:pic>
        <p:nvPicPr>
          <p:cNvPr id="160" name="Picture 7" descr="220px-Pluto-map-hs-2010-06-d270"/>
          <p:cNvPicPr/>
          <p:nvPr/>
        </p:nvPicPr>
        <p:blipFill>
          <a:blip r:embed="rId1"/>
          <a:stretch/>
        </p:blipFill>
        <p:spPr>
          <a:xfrm>
            <a:off x="523800" y="2268360"/>
            <a:ext cx="3773520" cy="29750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Narrow"/>
              </a:rPr>
              <a:t>MAKEMAK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emake is 45.79 AU away from the Su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smaller than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the brightest object in Kuiper belt after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was named a dwarf planet in 2008</a:t>
            </a:r>
            <a:endParaRPr b="0" lang="en-US" sz="2800" spc="-1" strike="noStrike">
              <a:solidFill>
                <a:srgbClr val="000000"/>
              </a:solidFill>
              <a:latin typeface="Arial"/>
            </a:endParaRPr>
          </a:p>
        </p:txBody>
      </p:sp>
      <p:pic>
        <p:nvPicPr>
          <p:cNvPr id="164" name="Picture 7" descr="220px-2005FY9art"/>
          <p:cNvPicPr/>
          <p:nvPr/>
        </p:nvPicPr>
        <p:blipFill>
          <a:blip r:embed="rId1"/>
          <a:stretch/>
        </p:blipFill>
        <p:spPr>
          <a:xfrm>
            <a:off x="1106640" y="2341440"/>
            <a:ext cx="2805120" cy="241956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7" name="PlaceHolder 2"/>
          <p:cNvSpPr>
            <a:spLocks noGrp="1"/>
          </p:cNvSpPr>
          <p:nvPr>
            <p:ph/>
          </p:nvPr>
        </p:nvSpPr>
        <p:spPr>
          <a:xfrm>
            <a:off x="5076360" y="2636640"/>
            <a:ext cx="2971800" cy="4221000"/>
          </a:xfrm>
          <a:prstGeom prst="rect">
            <a:avLst/>
          </a:prstGeom>
          <a:noFill/>
          <a:ln w="0">
            <a:noFill/>
          </a:ln>
        </p:spPr>
        <p:txBody>
          <a:bodyPr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HAUME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distance between Haumea and Sun is 43.13 AU</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is about the same size as Makemake</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has two natural satellit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was named a dwarf planet in 2008</a:t>
            </a:r>
            <a:endParaRPr b="0" lang="en-US" sz="1800" spc="-1" strike="noStrike">
              <a:solidFill>
                <a:srgbClr val="000000"/>
              </a:solidFill>
              <a:latin typeface="Arial"/>
            </a:endParaRPr>
          </a:p>
        </p:txBody>
      </p:sp>
      <p:pic>
        <p:nvPicPr>
          <p:cNvPr id="168" name="Picture 7" descr="220px-2003EL61art"/>
          <p:cNvPicPr/>
          <p:nvPr/>
        </p:nvPicPr>
        <p:blipFill>
          <a:blip r:embed="rId1"/>
          <a:stretch/>
        </p:blipFill>
        <p:spPr>
          <a:xfrm>
            <a:off x="906480" y="2203560"/>
            <a:ext cx="3314520" cy="284328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S ABOUT OUR SOLAR SYSTEM</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olar System consists of the Sun and its planetary system of eight planets, their moons, and other non-stellar objec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formed 4.6 billion years ago from the collapse of a giant molecular cloud. The vast majority of the system's mass is in the Sun, with most of the remaining mass contained in Jupiter.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smaller inner planets, Mercury, Venus, Earth and Mars, also called the terrestrial planets, are primarily composed of rock and metal.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outer planets, called the gas giants, are substantially more massive than the terrestri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two largest, Jupiter and Saturn, are composed mainly of hydrogen and helium; the two outermost planets, Uranus and Neptune, are composed largely of ices, such as water, ammonia and methane, and are often referred to separately as "ice gia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ll planets have almost circular orbits.</a:t>
            </a:r>
            <a:endParaRPr b="0" lang="en-US" sz="2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u="sng">
                <a:solidFill>
                  <a:srgbClr val="000000"/>
                </a:solidFill>
                <a:uFillTx/>
                <a:latin typeface="Arial"/>
              </a:rPr>
              <a:t>THE SU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vidence suggests that the Sun's position on the main sequence puts it in the "prime of life" for a star, in that it has not yet exhausted its store of hydrogen for nuclear fusio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growing brighter; early in its history it was 70 percent as bright as it is today.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was born in the later stages of the universe's evolution, and thus contains more elements heavier than hydrogen and helium ("metals" in astronomical parlance) than older population II star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Elements heavier than hydrogen and helium were formed in the cores of ancient and exploding stars, so the first generation of stars had to die before the universe could be enriched with these atom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oldest stars contain few metals, while stars born later have more. This high metallicity is thought to have been crucial to the Sun's developing a planetary system, because planets form from accretion of "metals".</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CLOSE TO THE SUN</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MERCU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rcury is the closest planet to the Sun, the distance between them is 0.4 AU</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smallest planet in our Solar System (0.055 Earth mass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doesn’t have any natural satellit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relatively large iron core and thin mantle, which have not been adequately explained yet</a:t>
            </a:r>
            <a:endParaRPr b="0" lang="en-US" sz="2000" spc="-1" strike="noStrike">
              <a:solidFill>
                <a:srgbClr val="000000"/>
              </a:solidFill>
              <a:latin typeface="Arial"/>
            </a:endParaRPr>
          </a:p>
        </p:txBody>
      </p:sp>
      <p:pic>
        <p:nvPicPr>
          <p:cNvPr id="124" name="Picture 6" descr="mercury"/>
          <p:cNvPicPr/>
          <p:nvPr/>
        </p:nvPicPr>
        <p:blipFill>
          <a:blip r:embed="rId1"/>
          <a:stretch/>
        </p:blipFill>
        <p:spPr>
          <a:xfrm>
            <a:off x="1019160" y="2492280"/>
            <a:ext cx="2892600" cy="244476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27" name="PlaceHolder 2"/>
          <p:cNvSpPr>
            <a:spLocks noGrp="1"/>
          </p:cNvSpPr>
          <p:nvPr>
            <p:ph/>
          </p:nvPr>
        </p:nvSpPr>
        <p:spPr>
          <a:xfrm>
            <a:off x="4674960" y="1980720"/>
            <a:ext cx="4011480" cy="3886200"/>
          </a:xfrm>
          <a:prstGeom prst="rect">
            <a:avLst/>
          </a:prstGeom>
          <a:noFill/>
          <a:ln w="0">
            <a:noFill/>
          </a:ln>
        </p:spPr>
        <p:txBody>
          <a:bodyPr anchor="t">
            <a:normAutofit fontScale="87000"/>
          </a:bodyPr>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VENOU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nous is 0.7 AU close to the Sun</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close in size to Earth (0.8015 Earth mass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natural satellit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hottest planet in our Solar System, 400 °C and it’s also much drier than Earth</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magnetic field</a:t>
            </a:r>
            <a:br>
              <a:rPr sz="2400"/>
            </a:br>
            <a:br>
              <a:rPr sz="2400"/>
            </a:br>
            <a:r>
              <a:rPr b="1" lang="en-US" sz="2400" spc="-1" strike="noStrike" u="sng">
                <a:solidFill>
                  <a:srgbClr val="000000"/>
                </a:solidFill>
                <a:uFillTx/>
                <a:latin typeface="Arial Narrow"/>
              </a:rPr>
              <a:t> </a:t>
            </a:r>
            <a:endParaRPr b="0" lang="en-US" sz="2400" spc="-1" strike="noStrike">
              <a:solidFill>
                <a:srgbClr val="000000"/>
              </a:solidFill>
              <a:latin typeface="Arial"/>
            </a:endParaRPr>
          </a:p>
        </p:txBody>
      </p:sp>
      <p:pic>
        <p:nvPicPr>
          <p:cNvPr id="128" name="Picture 7" descr="venous"/>
          <p:cNvPicPr/>
          <p:nvPr/>
        </p:nvPicPr>
        <p:blipFill>
          <a:blip r:embed="rId1"/>
          <a:stretch/>
        </p:blipFill>
        <p:spPr>
          <a:xfrm>
            <a:off x="1019160" y="2417760"/>
            <a:ext cx="2892600" cy="251928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1" name="PlaceHolder 2"/>
          <p:cNvSpPr>
            <a:spLocks noGrp="1"/>
          </p:cNvSpPr>
          <p:nvPr>
            <p:ph/>
          </p:nvPr>
        </p:nvSpPr>
        <p:spPr>
          <a:xfrm>
            <a:off x="4674960" y="1980720"/>
            <a:ext cx="4011480" cy="3886200"/>
          </a:xfrm>
          <a:prstGeom prst="rect">
            <a:avLst/>
          </a:prstGeom>
          <a:noFill/>
          <a:ln w="0">
            <a:noFill/>
          </a:ln>
        </p:spPr>
        <p:txBody>
          <a:bodyPr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EARTH</a:t>
            </a:r>
            <a:endParaRPr b="0" lang="en-US" sz="32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rth is 1 AU close to the Sun</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largest and the densest of the four planets, Mercury, Venous, Mars</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only planet that in our Solar System where life exist</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the only planet where water can be found</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is different from the other planets, because it contains 21% oxygen in order to life existence</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natural satellite, Moon.</a:t>
            </a:r>
            <a:endParaRPr b="0" lang="en-US" sz="2000" spc="-1" strike="noStrike">
              <a:solidFill>
                <a:srgbClr val="000000"/>
              </a:solidFill>
              <a:latin typeface="Arial"/>
            </a:endParaRPr>
          </a:p>
        </p:txBody>
      </p:sp>
      <p:pic>
        <p:nvPicPr>
          <p:cNvPr id="132" name="Picture 7" descr="earth"/>
          <p:cNvPicPr/>
          <p:nvPr/>
        </p:nvPicPr>
        <p:blipFill>
          <a:blip r:embed="rId1"/>
          <a:stretch/>
        </p:blipFill>
        <p:spPr>
          <a:xfrm>
            <a:off x="985680" y="2417760"/>
            <a:ext cx="2891160" cy="2595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5"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MARS</a:t>
            </a:r>
            <a:r>
              <a:rPr b="0" lang="el-GR" sz="2000" spc="-1" strike="noStrike">
                <a:solidFill>
                  <a:srgbClr val="000000"/>
                </a:solidFill>
                <a:latin typeface="Arial Narrow"/>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s is 1.5AU away from the Su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smaller than Earth (0.5 Earth masse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contains mostly carbon dioxide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surface pressure is 6.1 millibars (0.6 percent of Earth’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red color is from the iron oxid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two natural satellites, Deimos and Phobos, which are very tiny</a:t>
            </a:r>
            <a:endParaRPr b="0" lang="en-US" sz="2000" spc="-1" strike="noStrike">
              <a:solidFill>
                <a:srgbClr val="000000"/>
              </a:solidFill>
              <a:latin typeface="Arial"/>
            </a:endParaRPr>
          </a:p>
        </p:txBody>
      </p:sp>
      <p:pic>
        <p:nvPicPr>
          <p:cNvPr id="136" name="Picture 7" descr="mars"/>
          <p:cNvPicPr/>
          <p:nvPr/>
        </p:nvPicPr>
        <p:blipFill>
          <a:blip r:embed="rId1"/>
          <a:stretch/>
        </p:blipFill>
        <p:spPr>
          <a:xfrm>
            <a:off x="987480" y="2268360"/>
            <a:ext cx="2954160" cy="264024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FAR FROM THE SUN</a:t>
            </a:r>
            <a:endParaRPr b="0" lang="en-US" sz="4400" spc="-1" strike="noStrike">
              <a:solidFill>
                <a:srgbClr val="000000"/>
              </a:solidFill>
              <a:latin typeface="Arial"/>
            </a:endParaRPr>
          </a:p>
        </p:txBody>
      </p:sp>
      <p:sp>
        <p:nvSpPr>
          <p:cNvPr id="139"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JUPITER</a:t>
            </a: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5.2 AU), at 318 Earth masses, is 2.5 times the mass of all the other planets put togeth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It is composed largely of hydrogen and helium.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s strong internal heat creates a number of semi-permanent features in its atmosphere, such as cloud bands and the Great Red Spo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has 67 known satellites.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four largest, Ganymede, Callisto, Io, and Europa, show similarities to the terrestrial planets, such as volcanism and internal heating.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Ganymede, the largest satellite in the Solar System, is larger than Mercury. </a:t>
            </a:r>
            <a:endParaRPr b="0" lang="en-US" sz="1600" spc="-1" strike="noStrike">
              <a:solidFill>
                <a:srgbClr val="000000"/>
              </a:solidFill>
              <a:latin typeface="Arial"/>
            </a:endParaRPr>
          </a:p>
        </p:txBody>
      </p:sp>
      <p:pic>
        <p:nvPicPr>
          <p:cNvPr id="140" name="Picture 7" descr="Jupiter_by_Cassini-Huygens"/>
          <p:cNvPicPr/>
          <p:nvPr/>
        </p:nvPicPr>
        <p:blipFill>
          <a:blip r:embed="rId1"/>
          <a:stretch/>
        </p:blipFill>
        <p:spPr>
          <a:xfrm>
            <a:off x="600120" y="2193840"/>
            <a:ext cx="3532320" cy="30877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3" name="PlaceHolder 2"/>
          <p:cNvSpPr>
            <a:spLocks noGrp="1"/>
          </p:cNvSpPr>
          <p:nvPr>
            <p:ph/>
          </p:nvPr>
        </p:nvSpPr>
        <p:spPr>
          <a:xfrm>
            <a:off x="4674960" y="1980720"/>
            <a:ext cx="4011480" cy="3886200"/>
          </a:xfrm>
          <a:prstGeom prst="rect">
            <a:avLst/>
          </a:prstGeom>
          <a:noFill/>
          <a:ln w="0">
            <a:noFill/>
          </a:ln>
        </p:spPr>
        <p:txBody>
          <a:bodyPr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Narrow"/>
              </a:rPr>
              <a:t>SATURN</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9.5 AU), distinguished by its extensive ring system, has several similarities to Jupiter, such as its atmospheric composition and magnetospher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Although Saturn has 60% of Jupiter's volume, it is less than a third as massive, at 95 Earth masses, making it the least dense planet in the Solar System.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rings of Saturn are made up of small ice and rock particles.</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has 62 confirmed satellites; two of which, Titan and Enceladus, show signs of geological activity, though they are largely made of ic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itan, the second-largest moon in the Solar System, is larger than Mercury and the only satellite in the Solar System with a substantial atmosphere.</a:t>
            </a:r>
            <a:endParaRPr b="0" lang="en-US" sz="1600" spc="-1" strike="noStrike">
              <a:solidFill>
                <a:srgbClr val="000000"/>
              </a:solidFill>
              <a:latin typeface="Arial"/>
            </a:endParaRPr>
          </a:p>
        </p:txBody>
      </p:sp>
      <p:pic>
        <p:nvPicPr>
          <p:cNvPr id="144" name="Picture 7" descr="280px-Saturn-cassini-March-27-2004"/>
          <p:cNvPicPr/>
          <p:nvPr/>
        </p:nvPicPr>
        <p:blipFill>
          <a:blip r:embed="rId1"/>
          <a:stretch/>
        </p:blipFill>
        <p:spPr>
          <a:xfrm>
            <a:off x="733320" y="2268360"/>
            <a:ext cx="3256200" cy="263052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3:30:41Z</dcterms:created>
  <dc:creator>KostasDemertzidis</dc:creator>
  <dc:description/>
  <dc:language>en-US</dc:language>
  <cp:lastModifiedBy>Legion</cp:lastModifiedBy>
  <dcterms:modified xsi:type="dcterms:W3CDTF">2017-01-26T10:05:17Z</dcterms:modified>
  <cp:revision>16</cp:revision>
  <dc:subject/>
  <dc:title>OUR SOLAR SYSTEM</dc:title>
</cp:coreProperties>
</file>