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380C-E63B-48B7-A194-9BFB07CE29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831-D0DA-414C-8D3E-F5DAA8B1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ABB-BBB5-4E2F-B6A8-5B6252BA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CFE-CB62-4896-BAB5-69618607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266-C926-4F76-A744-375C39DA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FBD-CFCA-4237-8AC7-55B1155F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310-2468-4534-BDA0-179308B3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E64-1E06-43BC-A069-E63C42DB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49D-EDF0-4C5C-B8ED-1F98E585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495-ED79-4667-B04F-ED8ABC3C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895-F17C-49AC-A05A-6A95C373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87F-0727-4965-A23A-029EDCDA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EF9-C03C-4BDB-AAE7-60247954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C9CC-216E-4F5D-92CF-70949BE77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M:\working copy\PLANETS\AstronImages\cobe_milkyw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467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M:\working copy\GRAPHIC0\Astronomy\NearArms1.gif"/>
          <p:cNvPicPr/>
          <p:nvPr/>
        </p:nvPicPr>
        <p:blipFill>
          <a:blip r:embed="rId1"/>
          <a:stretch/>
        </p:blipFill>
        <p:spPr>
          <a:xfrm>
            <a:off x="1600200" y="1133640"/>
            <a:ext cx="5996160" cy="57243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28" descr="M:\working copy\GRAPHIC0\Astronomy\NearArms2.gif"/>
          <p:cNvPicPr/>
          <p:nvPr/>
        </p:nvPicPr>
        <p:blipFill>
          <a:blip r:embed="rId1"/>
          <a:stretch/>
        </p:blipFill>
        <p:spPr>
          <a:xfrm>
            <a:off x="1598760" y="1133640"/>
            <a:ext cx="5995800" cy="5724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M:\working copy\GRAPHIC0\Astronomy\Galmap1.gif"/>
          <p:cNvPicPr/>
          <p:nvPr/>
        </p:nvPicPr>
        <p:blipFill>
          <a:blip r:embed="rId1"/>
          <a:stretch/>
        </p:blipFill>
        <p:spPr>
          <a:xfrm>
            <a:off x="3124080" y="685800"/>
            <a:ext cx="5722920" cy="5337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514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M:\working copy\GRAPHIC0\Astronomy\galmap2.gif"/>
          <p:cNvPicPr/>
          <p:nvPr/>
        </p:nvPicPr>
        <p:blipFill>
          <a:blip r:embed="rId1"/>
          <a:stretch/>
        </p:blipFill>
        <p:spPr>
          <a:xfrm>
            <a:off x="3733920" y="914400"/>
            <a:ext cx="4762440" cy="523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752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:\working copy\GRAPHIC0\Astronomy\localgrp.gif"/>
          <p:cNvPicPr/>
          <p:nvPr/>
        </p:nvPicPr>
        <p:blipFill>
          <a:blip r:embed="rId1"/>
          <a:stretch/>
        </p:blipFill>
        <p:spPr>
          <a:xfrm>
            <a:off x="1827360" y="227160"/>
            <a:ext cx="7148520" cy="6391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27" descr="M:\working copy\PLANETS\AstronImages\gal_virgo.gif"/>
          <p:cNvPicPr/>
          <p:nvPr/>
        </p:nvPicPr>
        <p:blipFill>
          <a:blip r:embed="rId1"/>
          <a:stretch/>
        </p:blipFill>
        <p:spPr>
          <a:xfrm>
            <a:off x="1447920" y="1828800"/>
            <a:ext cx="6389640" cy="4586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1905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M:\working copy\GRAPHIC0\Astronomy\localsupercluster.gif"/>
          <p:cNvPicPr/>
          <p:nvPr/>
        </p:nvPicPr>
        <p:blipFill>
          <a:blip r:embed="rId1"/>
          <a:stretch/>
        </p:blipFill>
        <p:spPr>
          <a:xfrm>
            <a:off x="22795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2590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M:\working copy\PLANETS\AstronImages\gal_coma.gif"/>
          <p:cNvPicPr/>
          <p:nvPr/>
        </p:nvPicPr>
        <p:blipFill>
          <a:blip r:embed="rId1"/>
          <a:stretch/>
        </p:blipFill>
        <p:spPr>
          <a:xfrm>
            <a:off x="3200400" y="990720"/>
            <a:ext cx="5703840" cy="53038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M:\working copy\PLANETS\AstronImages\galaxy survey.gif"/>
          <p:cNvPicPr/>
          <p:nvPr/>
        </p:nvPicPr>
        <p:blipFill>
          <a:blip r:embed="rId1"/>
          <a:stretch/>
        </p:blipFill>
        <p:spPr>
          <a:xfrm>
            <a:off x="3352680" y="533520"/>
            <a:ext cx="5343480" cy="565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m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M:\working copy\GRAPHIC0\Astronomy\herschel.gif"/>
          <p:cNvPicPr/>
          <p:nvPr/>
        </p:nvPicPr>
        <p:blipFill>
          <a:blip r:embed="rId1"/>
          <a:stretch/>
        </p:blipFill>
        <p:spPr>
          <a:xfrm>
            <a:off x="990720" y="3124080"/>
            <a:ext cx="7148520" cy="3287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 = 1/2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, v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 = 1/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there, you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Einste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Einst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Speed of Ligh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ame for All Ob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    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------------------------------------------------------------------------------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-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nsequence: as v approaches c, Energy goes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s we approach c, Energy goes up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ry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:\working copy\GRAPHIC0\Astronomy\einstein.gif"/>
          <p:cNvPicPr/>
          <p:nvPr/>
        </p:nvPicPr>
        <p:blipFill>
          <a:blip r:embed="rId1"/>
          <a:stretch/>
        </p:blipFill>
        <p:spPr>
          <a:xfrm>
            <a:off x="1219320" y="914400"/>
            <a:ext cx="6856200" cy="5284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our 1000 ton ship to 0.9 c takes 1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 = U.S. energy use for 110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M:\working copy\PLANETS\AstronImages\gravlens.jpg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SpaceCurv0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SpaceCurv1.gif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Far Out as We Can See -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en Day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the Hubble Tele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M:\working copy\PLANETS\AstronImages\deep_field_small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ky and Telescop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199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There must b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nvisible mass in the Unive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esign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ave c = 300,000 km/sec, why? What (who?) dictated that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lanetary orbits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rotons dec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ing other galaxies is a spherical halo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ular Star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:\working copy\PLANETS\PLANFOTO\glob0.jpg"/>
          <p:cNvPicPr/>
          <p:nvPr/>
        </p:nvPicPr>
        <p:blipFill>
          <a:blip r:embed="rId1"/>
          <a:stretch/>
        </p:blipFill>
        <p:spPr>
          <a:xfrm>
            <a:off x="4648320" y="1600200"/>
            <a:ext cx="389412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Einstei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Einstei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:\working copy\GRAPHIC0\Astronomy\galaxy2.gif"/>
          <p:cNvPicPr/>
          <p:nvPr/>
        </p:nvPicPr>
        <p:blipFill>
          <a:blip r:embed="rId1"/>
          <a:stretch/>
        </p:blipFill>
        <p:spPr>
          <a:xfrm>
            <a:off x="-6480" y="1138320"/>
            <a:ext cx="9150480" cy="57196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M:\working copy\GRAPHIC0\Astronomy\globclusters.gif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9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:\working copy\GRAPHIC0\Astronomy\galaxy1.gif"/>
          <p:cNvPicPr/>
          <p:nvPr/>
        </p:nvPicPr>
        <p:blipFill>
          <a:blip r:embed="rId1"/>
          <a:stretch/>
        </p:blipFill>
        <p:spPr>
          <a:xfrm>
            <a:off x="304920" y="1295280"/>
            <a:ext cx="857412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M:\working copy\GRAPHIC0\Astronomy\pop1-2.g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944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M:\working copy\GRAPHIC0\Astronomy\m51.gif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797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1:44Z</dcterms:created>
  <dc:creator>default prof</dc:creator>
  <dc:description/>
  <dc:language>en-US</dc:language>
  <cp:lastModifiedBy>Legion</cp:lastModifiedBy>
  <dcterms:modified xsi:type="dcterms:W3CDTF">2017-01-26T10:06:37Z</dcterms:modified>
  <cp:revision>10</cp:revision>
  <dc:subject/>
  <dc:title>Galaxies and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uwgb.edu/dutchs</vt:lpwstr>
  </property>
  <property fmtid="{D5CDD505-2E9C-101B-9397-08002B2CF9AE}" pid="9" name="LinkColor">
    <vt:r8>16711782</vt:r8>
  </property>
  <property fmtid="{D5CDD505-2E9C-101B-9397-08002B2CF9AE}" pid="10" name="MailAddress">
    <vt:lpwstr>dutchs@uwgb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M:\working copy\COSNOT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