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430842-B7CF-4E2E-8D4B-7DD0CF09A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1B4-8161-4089-AACE-9880A112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029-C3EE-4670-A8B9-4978A524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203-FB4A-4CFE-913D-C1F997C3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894-9590-4485-A5B2-4AC8D37F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6CA44-758B-40D3-AE18-EB34B2442B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1399B-AA56-4737-9E7C-082E990053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B1B63-3B12-4F8C-9A70-AC4A5D4960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47486-5A71-47D3-A358-EC9384B40D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9BEF5-8C61-44A2-8668-60BADBFA74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73757-8C49-41B8-AEB5-185DACD434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A1E57-6D7E-424B-AE2A-A8AB89F12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4B0-6BA2-4313-9BD2-ED58AA20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5DB32-9445-4063-92E7-3913C6F5A3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196B8-C291-4112-8FA9-1579CDD0FD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11968-5420-4793-B500-DD57053357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AC9AA-9196-4D36-AC5F-A6AD6B30A1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6F813-AF59-4E7A-9FCA-F5A8E6B323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A5A67-CC4A-4F2D-B19B-44784A7DA8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7AAC6D-E59E-4B98-9CF1-070E167506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5AA99-DB5A-40F6-81E9-32F4AD5725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B9C6E2-FE1E-47F9-9A34-21FED10D11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DC5276-2969-4097-BB0A-D2CE00D43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905-7D09-45D8-8C8D-516E42EC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17DA5-CBE7-43F3-9B16-6C1F85ADB3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EB7EC-208C-4D66-9BC4-293113291F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1BAD8A-9A2C-4EE2-A2C2-4034AF358F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FB521-C77E-4CA9-BD92-5BA069DE22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6AD9E-7AAC-4DE9-BDD4-7FDD74B9BD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74159-BEA6-4730-A242-A054094651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A1A555-7BAE-4D3E-9937-BF7362D85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C19-D88A-456D-BC1A-622E39C3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3BF-F91E-4415-B3C5-C50C30BF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CE5-FCB4-44BE-8624-3B03439A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18D-0BC7-4E64-8407-2E331AF8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772-50E4-46FB-82DD-9143D275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011-0B38-45E0-9ADB-1F023ACD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86BB-4A06-4B6E-9616-999F15F36145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831F-AA98-4895-8BBD-94CD0E2B5FEC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791C-8829-4827-9162-A7E447E5F8A8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320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Legion</cp:lastModifiedBy>
  <dcterms:modified xsi:type="dcterms:W3CDTF">2017-01-26T10:08:36Z</dcterms:modified>
  <cp:revision>33</cp:revision>
  <dc:subject/>
  <dc:title>Hydrogen in the Milky Way</dc:title>
</cp:coreProperties>
</file>