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BB0E-6220-400D-9D13-ACA236AE3BD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EC095-4F8D-435F-A3A5-0EB2B858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CE11-B607-46A4-9867-6DA1A573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71A4-9861-4A42-BE37-197D965A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A3226-AB78-4FFD-B0BF-AC6C8363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F5C9-7CE3-4610-BC5D-BE28E800C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5803-7A22-4F82-A352-9C773883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94C0-4C15-4D49-9DFE-84DC98AA0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E9E2-0BB9-4D37-8FF2-D638EBE3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C2021-91FA-431D-ABF1-9E4FDEE1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FA4E-7881-4BEE-8450-EFFF9891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5DC3A-2E69-40FA-A26D-850EDBE3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6F560-5A3E-4D5C-8CEC-89BBDE07D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06B1-6581-4090-A762-43E236B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7568-1BED-4E8B-9805-C4CB716E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C2A25-97E1-4066-9BC3-F77F6E7F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22B17-AC84-4D10-844C-4B916F8B4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F234-6F8F-4C55-94F5-0FC4176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B9486-C0D6-4D82-A22F-B62C55B6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5FED-F926-405B-99EA-E0277406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2B446-BC93-4200-B13A-59918679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84B7C-27EB-4698-B0F3-9CCE38594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BF307-7015-413D-8A4D-7F9162683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D88F6-6793-41BC-A11B-6F44B65F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4F616-0A22-45CC-8CC5-A1BFDB24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DBF5-2157-4D6A-995F-0ACA91D50A4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DA79-2BE5-4DC6-B5A7-A13D699CD7E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2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2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4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5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2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9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3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9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1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7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8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199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09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0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0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7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9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7-01-26T10:10:41Z</dcterms:modified>
  <cp:revision>49</cp:revision>
  <dc:subject/>
  <dc:title>WOW !</dc:title>
</cp:coreProperties>
</file>