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6.jpeg" ContentType="image/jpeg"/>
  <Override PartName="/ppt/media/image5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7.wmf" ContentType="image/x-wmf"/>
  <Override PartName="/ppt/media/image16.wmf" ContentType="image/x-wmf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0D60-DE12-4CFA-91CB-13F9836836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ravity real 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does the Earth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suc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ravity real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does the Ea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su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cemet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w another gam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w another ga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a ping pong ba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a ping pong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g pong ball fall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row represents the 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g pong ball f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row represents the 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sucking force = 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I shown this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sucking force = 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I shown this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iagram shows the sucking force equal to the force of gravit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iagram shows the sucking force equal to the force of grav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upward force = 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upward force = 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down unde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do not fall off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down un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do not fall of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bjects dropped at the same ti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bjects dropped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forces do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ings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fas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sl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sha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forces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ings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 – Apollo 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ssdc.gsfc.nasa.gov/planetary/image/featherdrop_sound.mov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eavy geological hammer and a falcon feather were dropped from the same height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it the lunar surface at the same ti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aut David Scot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 – Apollo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ssdc.gsfc.nasa.gov/planetary/image/featherdrop_sound.mo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eavy geological hammer and a falcon feather were dropped from the same he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it the lunar surface at the sam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aut David Sco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v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v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getting fas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getting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slow Hippo dow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chang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slow Hippo 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chan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ing a satell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non ball must move very quickly to orbit the earth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orbits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ing a satell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non ball must move very quickly to orbit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orbits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and Litt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measure for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force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and Litt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measure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force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eavy boots- Wh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 on 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 on 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them floating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igh very much less than on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huge bou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’s gravity is very much less than the Earth’s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eavy boots-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 on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 on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them floating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igh very much less than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huge bou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’s gravity is very much less than the Earth’s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re the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ASA pictur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ASA pict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arently weightl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ictures or animation only –not a demonstrat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arently weightl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ictures or animation only –not a demonst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fa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ve we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stay in pla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ve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stay in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an apple fall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ings stay on earth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asking questions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ke Newton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an apple f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ings stay on eart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asking question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ke Newton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r Isaac Newt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r Isaac Newt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ch fruit 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ch fruit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t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t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for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gravity pulls something towards the Earth 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e call this force the weigh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gravity pulls something towards the Earth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e call this force the w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 are measured i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of an apple = about 1 Newton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 are measured i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of an apple = about 1 Newt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pl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ame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t’s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game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3B552-C41A-44A9-9BE9-9F93991D0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B6D26-EE8C-43FB-A146-4413D9E2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941CC-800A-4B88-9AAE-5F491EF6C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38AE7-F910-4D58-B479-C1646AD09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8D9A-7F0D-4264-90D1-B8F65E8C4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B96B-05FD-42E3-8504-77B8DFDA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DC47-2261-45C2-A601-CA4795FF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935A-E471-4DB2-9145-3045480A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DBC3-8462-4ADD-8079-D60C1FE6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800F-6FA8-402B-97E3-9915EDCC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7860-3718-417B-9787-40C5FF97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C1375-E42C-4D13-A39D-A6FACEE2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7BFB-1480-47F6-B94F-C4CBF286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097B-0ED5-4CB7-A509-64DE5827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18E4-45CD-439A-9974-3C731236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AA94-9559-4185-A272-B272D9D03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8137-0A87-4382-A312-87E13DDD8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FE536-56FA-4D23-9DA1-0DE2475E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FD0A5-2C1D-409F-BC41-84A19481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D517B-B519-4B82-AA66-F739A088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AB1DD-BC19-40E5-ABF1-C0BE7577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6F3BA-8E62-4380-95DB-CCF48CDD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85F1B-01E2-4CFB-A111-701C1718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8AE4B-CC60-48E8-B005-3CD832C5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6D8F-9F9B-4011-9713-BB30D5AD5E6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4E7B-C4B4-47A3-9994-DEB6CDF2171F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nssdc.gsfc.nasa.gov/planetary/image/featherdrop_sound.mov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360" y="2204640"/>
            <a:ext cx="6723360" cy="18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Arial"/>
              </a:rPr>
              <a:t>FORC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340000" y="4365360"/>
            <a:ext cx="640872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Is gravity real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or does the Eart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just su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d7a"/>
                </a:solidFill>
                <a:latin typeface="Arial"/>
              </a:rPr>
              <a:t>Resul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" y="1981080"/>
          <a:ext cx="8229600" cy="3902040"/>
        </p:xfrm>
        <a:graphic>
          <a:graphicData uri="http://schemas.openxmlformats.org/drawingml/2006/table">
            <a:tbl>
              <a:tblPr/>
              <a:tblGrid>
                <a:gridCol w="3754440"/>
                <a:gridCol w="1512720"/>
                <a:gridCol w="1511640"/>
                <a:gridCol w="1450800"/>
              </a:tblGrid>
              <a:tr h="131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Measurement in Newton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Predict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Rea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8" descr="forcemeter3"/>
          <p:cNvPicPr/>
          <p:nvPr/>
        </p:nvPicPr>
        <p:blipFill>
          <a:blip r:embed="rId1"/>
          <a:stretch/>
        </p:blipFill>
        <p:spPr>
          <a:xfrm>
            <a:off x="539640" y="692280"/>
            <a:ext cx="2365560" cy="51321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"/>
          <p:cNvSpPr/>
          <p:nvPr/>
        </p:nvSpPr>
        <p:spPr>
          <a:xfrm>
            <a:off x="2700360" y="5877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orceme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" name="Picture 11" descr="force meters"/>
          <p:cNvPicPr/>
          <p:nvPr/>
        </p:nvPicPr>
        <p:blipFill>
          <a:blip r:embed="rId2"/>
          <a:stretch/>
        </p:blipFill>
        <p:spPr>
          <a:xfrm>
            <a:off x="2916360" y="981000"/>
            <a:ext cx="5945040" cy="475452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11280" y="134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  </a:t>
            </a: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Now another gam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e2110"/>
                </a:solidFill>
                <a:latin typeface="Comic Sans MS"/>
              </a:rPr>
              <a:t>Lifting a ping pong 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0"/>
          <p:cNvSpPr/>
          <p:nvPr/>
        </p:nvSpPr>
        <p:spPr>
          <a:xfrm>
            <a:off x="3924360" y="4653000"/>
            <a:ext cx="936720" cy="934920"/>
          </a:xfrm>
          <a:prstGeom prst="ellipse">
            <a:avLst/>
          </a:prstGeom>
          <a:gradFill rotWithShape="0">
            <a:gsLst>
              <a:gs pos="0">
                <a:srgbClr val="595959"/>
              </a:gs>
              <a:gs pos="100000">
                <a:srgbClr val="c0c0c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4211640" y="2492280"/>
            <a:ext cx="360360" cy="22338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4788000" y="3068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aw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3995640" y="17733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k 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e2110"/>
                </a:solidFill>
                <a:latin typeface="Comic Sans MS"/>
              </a:rPr>
              <a:t>ping pong ball fa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76720" y="1915920"/>
            <a:ext cx="5348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arrow represents the force of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33"/>
          <p:cNvGrpSpPr/>
          <p:nvPr/>
        </p:nvGrpSpPr>
        <p:grpSpPr>
          <a:xfrm>
            <a:off x="5292720" y="3573360"/>
            <a:ext cx="936720" cy="1655640"/>
            <a:chOff x="5292720" y="3573360"/>
            <a:chExt cx="936720" cy="1655640"/>
          </a:xfrm>
        </p:grpSpPr>
        <p:sp>
          <p:nvSpPr>
            <p:cNvPr id="162" name="Oval 20"/>
            <p:cNvSpPr/>
            <p:nvPr/>
          </p:nvSpPr>
          <p:spPr>
            <a:xfrm>
              <a:off x="5292720" y="3573360"/>
              <a:ext cx="936720" cy="9349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21"/>
            <p:cNvSpPr/>
            <p:nvPr/>
          </p:nvSpPr>
          <p:spPr>
            <a:xfrm>
              <a:off x="5797440" y="4149360"/>
              <a:ext cx="0" cy="107964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4" name="Group 32"/>
          <p:cNvGrpSpPr/>
          <p:nvPr/>
        </p:nvGrpSpPr>
        <p:grpSpPr>
          <a:xfrm>
            <a:off x="1258920" y="2205000"/>
            <a:ext cx="936720" cy="2447640"/>
            <a:chOff x="1258920" y="2205000"/>
            <a:chExt cx="936720" cy="2447640"/>
          </a:xfrm>
        </p:grpSpPr>
        <p:sp>
          <p:nvSpPr>
            <p:cNvPr id="165" name="Oval 27"/>
            <p:cNvSpPr/>
            <p:nvPr/>
          </p:nvSpPr>
          <p:spPr>
            <a:xfrm>
              <a:off x="1258920" y="3717720"/>
              <a:ext cx="936720" cy="9349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Line 29"/>
            <p:cNvSpPr/>
            <p:nvPr/>
          </p:nvSpPr>
          <p:spPr>
            <a:xfrm>
              <a:off x="1690920" y="220500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Line 30"/>
            <p:cNvSpPr/>
            <p:nvPr/>
          </p:nvSpPr>
          <p:spPr>
            <a:xfrm>
              <a:off x="2051280" y="234936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Line 31"/>
            <p:cNvSpPr/>
            <p:nvPr/>
          </p:nvSpPr>
          <p:spPr>
            <a:xfrm>
              <a:off x="1474920" y="234936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456840"/>
            <a:ext cx="800244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ball does not fall when your </a:t>
            </a:r>
            <a:r>
              <a:rPr b="0" lang="en-GB" sz="4000" spc="-1" strike="noStrike">
                <a:solidFill>
                  <a:srgbClr val="fe2110"/>
                </a:solidFill>
                <a:latin typeface="Comic Sans MS"/>
              </a:rPr>
              <a:t>sucking force = force of gra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20"/>
          <p:cNvGrpSpPr/>
          <p:nvPr/>
        </p:nvGrpSpPr>
        <p:grpSpPr>
          <a:xfrm>
            <a:off x="1403280" y="1700280"/>
            <a:ext cx="3168720" cy="4636440"/>
            <a:chOff x="1403280" y="1700280"/>
            <a:chExt cx="3168720" cy="4636440"/>
          </a:xfrm>
        </p:grpSpPr>
        <p:sp>
          <p:nvSpPr>
            <p:cNvPr id="172" name="Oval 11"/>
            <p:cNvSpPr/>
            <p:nvPr/>
          </p:nvSpPr>
          <p:spPr>
            <a:xfrm>
              <a:off x="2050920" y="472428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Rectangle 12"/>
            <p:cNvSpPr/>
            <p:nvPr/>
          </p:nvSpPr>
          <p:spPr>
            <a:xfrm>
              <a:off x="2338560" y="2563920"/>
              <a:ext cx="36036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Text Box 13"/>
            <p:cNvSpPr/>
            <p:nvPr/>
          </p:nvSpPr>
          <p:spPr>
            <a:xfrm>
              <a:off x="1403280" y="328464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Line 14"/>
            <p:cNvSpPr/>
            <p:nvPr/>
          </p:nvSpPr>
          <p:spPr>
            <a:xfrm>
              <a:off x="2554200" y="522936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Line 15"/>
            <p:cNvSpPr/>
            <p:nvPr/>
          </p:nvSpPr>
          <p:spPr>
            <a:xfrm flipV="1">
              <a:off x="2554200" y="170028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Text Box 16"/>
            <p:cNvSpPr/>
            <p:nvPr/>
          </p:nvSpPr>
          <p:spPr>
            <a:xfrm>
              <a:off x="2771640" y="184464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Text Box 17"/>
            <p:cNvSpPr/>
            <p:nvPr/>
          </p:nvSpPr>
          <p:spPr>
            <a:xfrm>
              <a:off x="2916360" y="587700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ravit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9" name="AutoShape 21"/>
          <p:cNvSpPr/>
          <p:nvPr/>
        </p:nvSpPr>
        <p:spPr>
          <a:xfrm flipH="1">
            <a:off x="5364000" y="3357720"/>
            <a:ext cx="2664000" cy="2087280"/>
          </a:xfrm>
          <a:prstGeom prst="cloudCallout">
            <a:avLst>
              <a:gd name="adj1" fmla="val -41898"/>
              <a:gd name="adj2" fmla="val 6550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w have I shown this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000" y="456840"/>
            <a:ext cx="800244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33ff"/>
                </a:solidFill>
                <a:latin typeface="Arial"/>
              </a:rPr>
              <a:t>Which diagram shows the sucking force equal to the force of grav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22"/>
          <p:cNvGrpSpPr/>
          <p:nvPr/>
        </p:nvGrpSpPr>
        <p:grpSpPr>
          <a:xfrm>
            <a:off x="684360" y="1844640"/>
            <a:ext cx="2449440" cy="4753080"/>
            <a:chOff x="684360" y="1844640"/>
            <a:chExt cx="2449440" cy="4753080"/>
          </a:xfrm>
        </p:grpSpPr>
        <p:sp>
          <p:nvSpPr>
            <p:cNvPr id="183" name="Oval 4"/>
            <p:cNvSpPr/>
            <p:nvPr/>
          </p:nvSpPr>
          <p:spPr>
            <a:xfrm>
              <a:off x="1332000" y="472428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Rectangle 5"/>
            <p:cNvSpPr/>
            <p:nvPr/>
          </p:nvSpPr>
          <p:spPr>
            <a:xfrm>
              <a:off x="1621080" y="2565360"/>
              <a:ext cx="360360" cy="22338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Text Box 6"/>
            <p:cNvSpPr/>
            <p:nvPr/>
          </p:nvSpPr>
          <p:spPr>
            <a:xfrm>
              <a:off x="684360" y="328464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Line 7"/>
            <p:cNvSpPr/>
            <p:nvPr/>
          </p:nvSpPr>
          <p:spPr>
            <a:xfrm>
              <a:off x="1835280" y="5229360"/>
              <a:ext cx="1800" cy="136836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Line 8"/>
            <p:cNvSpPr/>
            <p:nvPr/>
          </p:nvSpPr>
          <p:spPr>
            <a:xfrm flipV="1">
              <a:off x="1835280" y="2060280"/>
              <a:ext cx="1800" cy="71892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Text Box 9"/>
            <p:cNvSpPr/>
            <p:nvPr/>
          </p:nvSpPr>
          <p:spPr>
            <a:xfrm>
              <a:off x="2052720" y="184464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9" name="Text Box 10"/>
          <p:cNvSpPr/>
          <p:nvPr/>
        </p:nvSpPr>
        <p:spPr>
          <a:xfrm>
            <a:off x="2195640" y="5805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0" name="Group 31"/>
          <p:cNvGrpSpPr/>
          <p:nvPr/>
        </p:nvGrpSpPr>
        <p:grpSpPr>
          <a:xfrm>
            <a:off x="3276720" y="1699920"/>
            <a:ext cx="2394000" cy="4824720"/>
            <a:chOff x="3276720" y="1699920"/>
            <a:chExt cx="2394000" cy="4824720"/>
          </a:xfrm>
        </p:grpSpPr>
        <p:sp>
          <p:nvSpPr>
            <p:cNvPr id="191" name="Oval 13"/>
            <p:cNvSpPr/>
            <p:nvPr/>
          </p:nvSpPr>
          <p:spPr>
            <a:xfrm>
              <a:off x="3924360" y="5229360"/>
              <a:ext cx="915840" cy="9349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Rectangle 14"/>
            <p:cNvSpPr/>
            <p:nvPr/>
          </p:nvSpPr>
          <p:spPr>
            <a:xfrm>
              <a:off x="4211640" y="3068640"/>
              <a:ext cx="35244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Text Box 15"/>
            <p:cNvSpPr/>
            <p:nvPr/>
          </p:nvSpPr>
          <p:spPr>
            <a:xfrm>
              <a:off x="3276720" y="3933720"/>
              <a:ext cx="91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Line 16"/>
            <p:cNvSpPr/>
            <p:nvPr/>
          </p:nvSpPr>
          <p:spPr>
            <a:xfrm>
              <a:off x="4427640" y="5734080"/>
              <a:ext cx="0" cy="79056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Line 17"/>
            <p:cNvSpPr/>
            <p:nvPr/>
          </p:nvSpPr>
          <p:spPr>
            <a:xfrm flipV="1">
              <a:off x="4356000" y="1699920"/>
              <a:ext cx="0" cy="158436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Text Box 18"/>
            <p:cNvSpPr/>
            <p:nvPr/>
          </p:nvSpPr>
          <p:spPr>
            <a:xfrm>
              <a:off x="4614840" y="2494080"/>
              <a:ext cx="105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Text Box 19"/>
          <p:cNvSpPr/>
          <p:nvPr/>
        </p:nvSpPr>
        <p:spPr>
          <a:xfrm>
            <a:off x="4859280" y="595008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8" name="Group 23"/>
          <p:cNvGrpSpPr/>
          <p:nvPr/>
        </p:nvGrpSpPr>
        <p:grpSpPr>
          <a:xfrm>
            <a:off x="5975280" y="1989000"/>
            <a:ext cx="3168720" cy="4636440"/>
            <a:chOff x="5975280" y="1989000"/>
            <a:chExt cx="3168720" cy="4636440"/>
          </a:xfrm>
        </p:grpSpPr>
        <p:sp>
          <p:nvSpPr>
            <p:cNvPr id="199" name="Oval 24"/>
            <p:cNvSpPr/>
            <p:nvPr/>
          </p:nvSpPr>
          <p:spPr>
            <a:xfrm>
              <a:off x="6622920" y="501300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Rectangle 25"/>
            <p:cNvSpPr/>
            <p:nvPr/>
          </p:nvSpPr>
          <p:spPr>
            <a:xfrm>
              <a:off x="6910560" y="2852640"/>
              <a:ext cx="36036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Text Box 26"/>
            <p:cNvSpPr/>
            <p:nvPr/>
          </p:nvSpPr>
          <p:spPr>
            <a:xfrm>
              <a:off x="5975280" y="357336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Line 27"/>
            <p:cNvSpPr/>
            <p:nvPr/>
          </p:nvSpPr>
          <p:spPr>
            <a:xfrm>
              <a:off x="7126200" y="551808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Line 28"/>
            <p:cNvSpPr/>
            <p:nvPr/>
          </p:nvSpPr>
          <p:spPr>
            <a:xfrm flipV="1">
              <a:off x="7126200" y="198900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Text Box 29"/>
            <p:cNvSpPr/>
            <p:nvPr/>
          </p:nvSpPr>
          <p:spPr>
            <a:xfrm>
              <a:off x="7343640" y="213336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Text Box 30"/>
            <p:cNvSpPr/>
            <p:nvPr/>
          </p:nvSpPr>
          <p:spPr>
            <a:xfrm>
              <a:off x="7488360" y="616572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ravit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4000" y="456840"/>
            <a:ext cx="800244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ball does not fall when your </a:t>
            </a:r>
            <a:r>
              <a:rPr b="0" lang="en-GB" sz="4000" spc="-1" strike="noStrike">
                <a:solidFill>
                  <a:srgbClr val="fe2110"/>
                </a:solidFill>
                <a:latin typeface="Comic Sans MS"/>
              </a:rPr>
              <a:t>upward force = force of gra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4356000" y="1773360"/>
            <a:ext cx="3168720" cy="4636440"/>
            <a:chOff x="4356000" y="1773360"/>
            <a:chExt cx="3168720" cy="4636440"/>
          </a:xfrm>
        </p:grpSpPr>
        <p:sp>
          <p:nvSpPr>
            <p:cNvPr id="209" name="Oval 4"/>
            <p:cNvSpPr/>
            <p:nvPr/>
          </p:nvSpPr>
          <p:spPr>
            <a:xfrm>
              <a:off x="5003640" y="479736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Rectangle 5"/>
            <p:cNvSpPr/>
            <p:nvPr/>
          </p:nvSpPr>
          <p:spPr>
            <a:xfrm>
              <a:off x="5291280" y="2637000"/>
              <a:ext cx="36036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Text Box 6"/>
            <p:cNvSpPr/>
            <p:nvPr/>
          </p:nvSpPr>
          <p:spPr>
            <a:xfrm>
              <a:off x="4356000" y="335772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Line 7"/>
            <p:cNvSpPr/>
            <p:nvPr/>
          </p:nvSpPr>
          <p:spPr>
            <a:xfrm>
              <a:off x="5506920" y="530244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Line 8"/>
            <p:cNvSpPr/>
            <p:nvPr/>
          </p:nvSpPr>
          <p:spPr>
            <a:xfrm flipV="1">
              <a:off x="5506920" y="177336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Text Box 9"/>
            <p:cNvSpPr/>
            <p:nvPr/>
          </p:nvSpPr>
          <p:spPr>
            <a:xfrm>
              <a:off x="5724360" y="191772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5869080" y="595008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ravit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vity down und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098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ople do not fall off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1"/>
          <p:cNvGrpSpPr/>
          <p:nvPr/>
        </p:nvGrpSpPr>
        <p:grpSpPr>
          <a:xfrm>
            <a:off x="3203640" y="1597320"/>
            <a:ext cx="4316400" cy="4818960"/>
            <a:chOff x="3203640" y="1597320"/>
            <a:chExt cx="4316400" cy="4818960"/>
          </a:xfrm>
        </p:grpSpPr>
        <p:pic>
          <p:nvPicPr>
            <p:cNvPr id="220" name="Picture 7" descr="MPj03142680000[1]"/>
            <p:cNvPicPr/>
            <p:nvPr/>
          </p:nvPicPr>
          <p:blipFill>
            <a:blip r:embed="rId1"/>
            <a:stretch/>
          </p:blipFill>
          <p:spPr>
            <a:xfrm>
              <a:off x="3203640" y="1916280"/>
              <a:ext cx="3492360" cy="36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8" descr="MCj04060880000[1]"/>
            <p:cNvPicPr/>
            <p:nvPr/>
          </p:nvPicPr>
          <p:blipFill>
            <a:blip r:embed="rId2"/>
            <a:stretch/>
          </p:blipFill>
          <p:spPr>
            <a:xfrm rot="2124600">
              <a:off x="5435640" y="1700280"/>
              <a:ext cx="772920" cy="13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9" descr="MCj04060880000[1]"/>
            <p:cNvPicPr/>
            <p:nvPr/>
          </p:nvPicPr>
          <p:blipFill>
            <a:blip r:embed="rId3"/>
            <a:stretch/>
          </p:blipFill>
          <p:spPr>
            <a:xfrm flipH="1" rot="5400000">
              <a:off x="6441840" y="3069720"/>
              <a:ext cx="863640" cy="129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10" descr="MCj04060880000[1]"/>
            <p:cNvPicPr/>
            <p:nvPr/>
          </p:nvPicPr>
          <p:blipFill>
            <a:blip r:embed="rId4"/>
            <a:stretch/>
          </p:blipFill>
          <p:spPr>
            <a:xfrm rot="10800000">
              <a:off x="4787640" y="5157360"/>
              <a:ext cx="771480" cy="125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24360" y="1483920"/>
            <a:ext cx="2602080" cy="340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9933ff"/>
                </a:solidFill>
                <a:latin typeface="Comic Sans MS"/>
              </a:rPr>
              <a:t>two objects dropped at the same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8" descr="falling objects"/>
          <p:cNvPicPr/>
          <p:nvPr/>
        </p:nvPicPr>
        <p:blipFill>
          <a:blip r:embed="rId1"/>
          <a:stretch/>
        </p:blipFill>
        <p:spPr>
          <a:xfrm>
            <a:off x="900000" y="404640"/>
            <a:ext cx="4038840" cy="615348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What do forces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560" y="1981080"/>
            <a:ext cx="742788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ke things ---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ve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ve s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ng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Arial"/>
              </a:rPr>
              <a:t>On the Moon – Apollo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564000" y="5805000"/>
            <a:ext cx="5184720" cy="3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7d7a"/>
                </a:solidFill>
                <a:uFillTx/>
                <a:latin typeface="Arial"/>
                <a:hlinkClick r:id="rId1"/>
              </a:rPr>
              <a:t>http://nssdc.gsfc.nasa.gov/planetary/image/featherdrop_sound.mov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photo taken from Apollo 15 movie of feather and hammer drop experiment"/>
          <p:cNvPicPr/>
          <p:nvPr/>
        </p:nvPicPr>
        <p:blipFill>
          <a:blip r:embed="rId2"/>
          <a:stretch/>
        </p:blipFill>
        <p:spPr>
          <a:xfrm>
            <a:off x="611280" y="3645000"/>
            <a:ext cx="3240000" cy="2425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PICTURE OF LUNAR FEATHER DROP"/>
          <p:cNvPicPr/>
          <p:nvPr/>
        </p:nvPicPr>
        <p:blipFill>
          <a:blip r:embed="rId3"/>
          <a:stretch/>
        </p:blipFill>
        <p:spPr>
          <a:xfrm>
            <a:off x="5651640" y="1052640"/>
            <a:ext cx="2857320" cy="40003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6"/>
          <p:cNvSpPr/>
          <p:nvPr/>
        </p:nvSpPr>
        <p:spPr>
          <a:xfrm>
            <a:off x="539640" y="1052640"/>
            <a:ext cx="4753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A heavy geological hammer and a falcon feather were dropped from the same heigh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They hit the lunar surface at the same ti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5940360" y="5084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2110"/>
                </a:solidFill>
                <a:latin typeface="Arial"/>
              </a:rPr>
              <a:t>astronaut David Scot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468360" y="638172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2781360"/>
            <a:ext cx="316872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ippo ju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MCAN00531_0000[1]"/>
          <p:cNvPicPr/>
          <p:nvPr/>
        </p:nvPicPr>
        <p:blipFill>
          <a:blip r:embed="rId1"/>
          <a:stretch/>
        </p:blipFill>
        <p:spPr>
          <a:xfrm>
            <a:off x="4356000" y="2708280"/>
            <a:ext cx="1644840" cy="29574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6" descr="MCj03886780000[1]"/>
          <p:cNvPicPr/>
          <p:nvPr/>
        </p:nvPicPr>
        <p:blipFill>
          <a:blip r:embed="rId2"/>
          <a:stretch/>
        </p:blipFill>
        <p:spPr>
          <a:xfrm>
            <a:off x="3276720" y="260280"/>
            <a:ext cx="4968720" cy="240984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18"/>
          <p:cNvSpPr/>
          <p:nvPr/>
        </p:nvSpPr>
        <p:spPr>
          <a:xfrm>
            <a:off x="3995640" y="2708280"/>
            <a:ext cx="22320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0920" y="2781360"/>
            <a:ext cx="316872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ippo ju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MCAN00531_0000[1]"/>
          <p:cNvPicPr/>
          <p:nvPr/>
        </p:nvPicPr>
        <p:blipFill>
          <a:blip r:embed="rId1"/>
          <a:stretch/>
        </p:blipFill>
        <p:spPr>
          <a:xfrm>
            <a:off x="4356000" y="2708280"/>
            <a:ext cx="1644840" cy="29574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MCj03886780000[1]"/>
          <p:cNvPicPr/>
          <p:nvPr/>
        </p:nvPicPr>
        <p:blipFill>
          <a:blip r:embed="rId2"/>
          <a:stretch/>
        </p:blipFill>
        <p:spPr>
          <a:xfrm>
            <a:off x="3276720" y="260280"/>
            <a:ext cx="4968720" cy="240984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6"/>
          <p:cNvSpPr/>
          <p:nvPr/>
        </p:nvSpPr>
        <p:spPr>
          <a:xfrm>
            <a:off x="3995640" y="2708280"/>
            <a:ext cx="22320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Line 7"/>
          <p:cNvSpPr/>
          <p:nvPr/>
        </p:nvSpPr>
        <p:spPr>
          <a:xfrm>
            <a:off x="5003640" y="5013360"/>
            <a:ext cx="0" cy="107964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2268360" y="5661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a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MCAN00531_0000[1]"/>
          <p:cNvPicPr/>
          <p:nvPr/>
        </p:nvPicPr>
        <p:blipFill>
          <a:blip r:embed="rId1"/>
          <a:stretch/>
        </p:blipFill>
        <p:spPr>
          <a:xfrm rot="18089400">
            <a:off x="2877840" y="1738440"/>
            <a:ext cx="2404800" cy="432576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3672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Hippo is still falling quick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MCAN00531_0000[1]"/>
          <p:cNvPicPr/>
          <p:nvPr/>
        </p:nvPicPr>
        <p:blipFill>
          <a:blip r:embed="rId1"/>
          <a:stretch/>
        </p:blipFill>
        <p:spPr>
          <a:xfrm rot="21464400">
            <a:off x="3634920" y="2204640"/>
            <a:ext cx="1928880" cy="346860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505152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Hippo is still falling quickly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but not getting fas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3640" y="4508280"/>
            <a:ext cx="42591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MCAN00531_0000[1]"/>
          <p:cNvPicPr/>
          <p:nvPr/>
        </p:nvPicPr>
        <p:blipFill>
          <a:blip r:embed="rId1"/>
          <a:stretch/>
        </p:blipFill>
        <p:spPr>
          <a:xfrm rot="21464400">
            <a:off x="5866920" y="2420640"/>
            <a:ext cx="1928880" cy="3468600"/>
          </a:xfrm>
          <a:prstGeom prst="rect">
            <a:avLst/>
          </a:prstGeom>
          <a:ln w="0">
            <a:noFill/>
          </a:ln>
        </p:spPr>
      </p:pic>
      <p:sp>
        <p:nvSpPr>
          <p:cNvPr id="257" name="Line 5"/>
          <p:cNvSpPr/>
          <p:nvPr/>
        </p:nvSpPr>
        <p:spPr>
          <a:xfrm flipV="1">
            <a:off x="6804000" y="1413000"/>
            <a:ext cx="0" cy="129528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Line 7"/>
          <p:cNvSpPr/>
          <p:nvPr/>
        </p:nvSpPr>
        <p:spPr>
          <a:xfrm>
            <a:off x="6804000" y="5229360"/>
            <a:ext cx="0" cy="129528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4140360" y="5950080"/>
            <a:ext cx="23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6588000" y="981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56144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2110"/>
                </a:solidFill>
                <a:latin typeface="Comic Sans MS"/>
              </a:rPr>
              <a:t>How can we slow Hippo dow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395280" y="4221000"/>
            <a:ext cx="28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422064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an you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aunching a satell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2170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e2110"/>
                </a:solidFill>
                <a:latin typeface="Comic Sans MS"/>
              </a:rPr>
              <a:t>The cannon</a:t>
            </a:r>
            <a:r>
              <a:rPr b="0" lang="en-GB" sz="2800" spc="-1" strike="noStrike">
                <a:solidFill>
                  <a:srgbClr val="fe211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e2110"/>
                </a:solidFill>
                <a:latin typeface="Comic Sans MS"/>
              </a:rPr>
              <a:t>ball must move very quickly to orbit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on orbits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5" descr="cannonS"/>
          <p:cNvPicPr/>
          <p:nvPr/>
        </p:nvPicPr>
        <p:blipFill>
          <a:blip r:embed="rId1"/>
          <a:stretch/>
        </p:blipFill>
        <p:spPr>
          <a:xfrm>
            <a:off x="3527280" y="1268280"/>
            <a:ext cx="4484880" cy="4743720"/>
          </a:xfrm>
          <a:prstGeom prst="rect">
            <a:avLst/>
          </a:prstGeom>
          <a:ln w="0">
            <a:noFill/>
          </a:ln>
        </p:spPr>
      </p:pic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94920" y="5084280"/>
            <a:ext cx="259236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8" descr="gal_moon_color"/>
          <p:cNvPicPr/>
          <p:nvPr/>
        </p:nvPicPr>
        <p:blipFill>
          <a:blip r:embed="rId1"/>
          <a:stretch/>
        </p:blipFill>
        <p:spPr>
          <a:xfrm>
            <a:off x="611280" y="3429000"/>
            <a:ext cx="1566720" cy="16207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9" descr="Earthbig"/>
          <p:cNvPicPr/>
          <p:nvPr/>
        </p:nvPicPr>
        <p:blipFill>
          <a:blip r:embed="rId2"/>
          <a:stretch/>
        </p:blipFill>
        <p:spPr>
          <a:xfrm>
            <a:off x="3492360" y="841320"/>
            <a:ext cx="5345280" cy="529596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10"/>
          <p:cNvSpPr/>
          <p:nvPr/>
        </p:nvSpPr>
        <p:spPr>
          <a:xfrm>
            <a:off x="1042920" y="476280"/>
            <a:ext cx="267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23640" y="4581000"/>
            <a:ext cx="259236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gal_moon_color"/>
          <p:cNvPicPr/>
          <p:nvPr/>
        </p:nvPicPr>
        <p:blipFill>
          <a:blip r:embed="rId1"/>
          <a:stretch/>
        </p:blipFill>
        <p:spPr>
          <a:xfrm>
            <a:off x="611280" y="2781360"/>
            <a:ext cx="1566720" cy="1620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Earthbig"/>
          <p:cNvPicPr/>
          <p:nvPr/>
        </p:nvPicPr>
        <p:blipFill>
          <a:blip r:embed="rId2"/>
          <a:stretch/>
        </p:blipFill>
        <p:spPr>
          <a:xfrm>
            <a:off x="3492360" y="841320"/>
            <a:ext cx="5345280" cy="529596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5"/>
          <p:cNvSpPr/>
          <p:nvPr/>
        </p:nvSpPr>
        <p:spPr>
          <a:xfrm>
            <a:off x="1042920" y="476280"/>
            <a:ext cx="267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9" name="Picture 6" descr="gal_moon_color"/>
          <p:cNvPicPr/>
          <p:nvPr/>
        </p:nvPicPr>
        <p:blipFill>
          <a:blip r:embed="rId3"/>
          <a:stretch/>
        </p:blipFill>
        <p:spPr>
          <a:xfrm>
            <a:off x="3492360" y="2708280"/>
            <a:ext cx="1567080" cy="16207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gal_moon_color"/>
          <p:cNvPicPr/>
          <p:nvPr/>
        </p:nvPicPr>
        <p:blipFill>
          <a:blip r:embed="rId4"/>
          <a:stretch/>
        </p:blipFill>
        <p:spPr>
          <a:xfrm>
            <a:off x="4716360" y="2781360"/>
            <a:ext cx="1567080" cy="1620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gal_moon_color"/>
          <p:cNvPicPr/>
          <p:nvPr/>
        </p:nvPicPr>
        <p:blipFill>
          <a:blip r:embed="rId5"/>
          <a:stretch/>
        </p:blipFill>
        <p:spPr>
          <a:xfrm>
            <a:off x="6012000" y="2781360"/>
            <a:ext cx="1566720" cy="16207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gal_moon_color"/>
          <p:cNvPicPr/>
          <p:nvPr/>
        </p:nvPicPr>
        <p:blipFill>
          <a:blip r:embed="rId6"/>
          <a:stretch/>
        </p:blipFill>
        <p:spPr>
          <a:xfrm>
            <a:off x="7308720" y="2781360"/>
            <a:ext cx="1567080" cy="162072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562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Big and Little </a:t>
            </a:r>
            <a:br>
              <a:rPr sz="4000"/>
            </a:b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fo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trees wind2"/>
          <p:cNvPicPr/>
          <p:nvPr/>
        </p:nvPicPr>
        <p:blipFill>
          <a:blip r:embed="rId1"/>
          <a:stretch/>
        </p:blipFill>
        <p:spPr>
          <a:xfrm>
            <a:off x="250920" y="2111400"/>
            <a:ext cx="4825800" cy="4125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MPj04010640000[1]"/>
          <p:cNvPicPr/>
          <p:nvPr/>
        </p:nvPicPr>
        <p:blipFill>
          <a:blip r:embed="rId2"/>
          <a:stretch/>
        </p:blipFill>
        <p:spPr>
          <a:xfrm>
            <a:off x="6372360" y="0"/>
            <a:ext cx="2614320" cy="5354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feather"/>
          <p:cNvPicPr/>
          <p:nvPr/>
        </p:nvPicPr>
        <p:blipFill>
          <a:blip r:embed="rId3"/>
          <a:stretch/>
        </p:blipFill>
        <p:spPr>
          <a:xfrm>
            <a:off x="5508720" y="3645000"/>
            <a:ext cx="2376360" cy="12538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5076720" y="5373720"/>
            <a:ext cx="381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We can measure for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Using a forceme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On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MPj01787140000[1]"/>
          <p:cNvPicPr/>
          <p:nvPr/>
        </p:nvPicPr>
        <p:blipFill>
          <a:blip r:embed="rId1"/>
          <a:stretch/>
        </p:blipFill>
        <p:spPr>
          <a:xfrm>
            <a:off x="4932360" y="1700280"/>
            <a:ext cx="3343320" cy="43052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MPj01827690000[1]"/>
          <p:cNvPicPr/>
          <p:nvPr/>
        </p:nvPicPr>
        <p:blipFill>
          <a:blip r:embed="rId2"/>
          <a:stretch/>
        </p:blipFill>
        <p:spPr>
          <a:xfrm>
            <a:off x="971640" y="1700280"/>
            <a:ext cx="3246480" cy="409104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6"/>
          <p:cNvSpPr/>
          <p:nvPr/>
        </p:nvSpPr>
        <p:spPr>
          <a:xfrm>
            <a:off x="539640" y="6165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NASA pictur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Very heavy boots-</a:t>
            </a:r>
            <a:r>
              <a:rPr b="0" lang="en-GB" sz="4400" spc="-1" strike="noStrike">
                <a:solidFill>
                  <a:srgbClr val="fe2110"/>
                </a:solidFill>
                <a:latin typeface="Comic Sans MS"/>
              </a:rPr>
              <a:t>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sw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 gravity on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ightless on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stop them floating 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y weigh very much less than on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stop huge bou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on’s gravity is very much less than the Earth’s gra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29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375444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ff"/>
                </a:solidFill>
                <a:latin typeface="Arial"/>
              </a:rPr>
              <a:t>Weightl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148000" y="3573360"/>
            <a:ext cx="35384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e2110"/>
                </a:solidFill>
                <a:latin typeface="Arial"/>
              </a:rPr>
              <a:t>or are th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4" descr="thirsk"/>
          <p:cNvPicPr/>
          <p:nvPr/>
        </p:nvPicPr>
        <p:blipFill>
          <a:blip r:embed="rId1"/>
          <a:stretch/>
        </p:blipFill>
        <p:spPr>
          <a:xfrm>
            <a:off x="684360" y="1341360"/>
            <a:ext cx="3975120" cy="43927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comet4"/>
          <p:cNvPicPr/>
          <p:nvPr/>
        </p:nvPicPr>
        <p:blipFill>
          <a:blip r:embed="rId2"/>
          <a:stretch/>
        </p:blipFill>
        <p:spPr>
          <a:xfrm>
            <a:off x="4859280" y="549360"/>
            <a:ext cx="3960720" cy="26416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KC-135_150"/>
          <p:cNvPicPr/>
          <p:nvPr/>
        </p:nvPicPr>
        <p:blipFill>
          <a:blip r:embed="rId3"/>
          <a:stretch/>
        </p:blipFill>
        <p:spPr>
          <a:xfrm>
            <a:off x="5867280" y="4221000"/>
            <a:ext cx="2987640" cy="213228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10"/>
          <p:cNvSpPr/>
          <p:nvPr/>
        </p:nvSpPr>
        <p:spPr>
          <a:xfrm>
            <a:off x="684360" y="6308640"/>
            <a:ext cx="25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Black"/>
              </a:rPr>
              <a:t>(NASA picture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apparently weightless</a:t>
            </a:r>
            <a:br>
              <a:rPr sz="4400"/>
            </a:b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(pictures or animation only –not a demonstr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8" descr="forcemeter 2"/>
          <p:cNvPicPr/>
          <p:nvPr/>
        </p:nvPicPr>
        <p:blipFill>
          <a:blip r:embed="rId1"/>
          <a:stretch/>
        </p:blipFill>
        <p:spPr>
          <a:xfrm>
            <a:off x="2411280" y="1989000"/>
            <a:ext cx="4286520" cy="4267440"/>
          </a:xfrm>
          <a:prstGeom prst="rect">
            <a:avLst/>
          </a:prstGeom>
          <a:ln w="0">
            <a:noFill/>
          </a:ln>
        </p:spPr>
      </p:pic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33ff"/>
                </a:solidFill>
                <a:latin typeface="Comic Sans MS"/>
              </a:rPr>
              <a:t>GRA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gs 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gs have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gs stay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2110"/>
                </a:solidFill>
                <a:latin typeface="Comic Sans MS"/>
              </a:rPr>
              <a:t>No Gra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ould an apple f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ould things stay on ear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 would happ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keep asking questions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-like Newton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331128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Black"/>
              </a:rPr>
              <a:t>Sir Isaac Newton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MCj03790630000[1]"/>
          <p:cNvPicPr/>
          <p:nvPr/>
        </p:nvPicPr>
        <p:blipFill>
          <a:blip r:embed="rId1"/>
          <a:stretch/>
        </p:blipFill>
        <p:spPr>
          <a:xfrm>
            <a:off x="3924360" y="907920"/>
            <a:ext cx="4043160" cy="561204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ich fruit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2" descr="MCj02461150000[1]"/>
          <p:cNvPicPr/>
          <p:nvPr/>
        </p:nvPicPr>
        <p:blipFill>
          <a:blip r:embed="rId1"/>
          <a:stretch/>
        </p:blipFill>
        <p:spPr>
          <a:xfrm rot="20635800">
            <a:off x="826920" y="2492280"/>
            <a:ext cx="2513160" cy="1833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apple2"/>
          <p:cNvPicPr/>
          <p:nvPr/>
        </p:nvPicPr>
        <p:blipFill>
          <a:blip r:embed="rId2"/>
          <a:stretch/>
        </p:blipFill>
        <p:spPr>
          <a:xfrm rot="1471800">
            <a:off x="2195280" y="2636640"/>
            <a:ext cx="2450880" cy="2269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Cj01127900000[1]"/>
          <p:cNvPicPr/>
          <p:nvPr/>
        </p:nvPicPr>
        <p:blipFill>
          <a:blip r:embed="rId3"/>
          <a:stretch/>
        </p:blipFill>
        <p:spPr>
          <a:xfrm>
            <a:off x="4356000" y="2276640"/>
            <a:ext cx="4972320" cy="42685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2602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wt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MCj01981750000[1]"/>
          <p:cNvPicPr/>
          <p:nvPr/>
        </p:nvPicPr>
        <p:blipFill>
          <a:blip r:embed="rId1"/>
          <a:stretch/>
        </p:blipFill>
        <p:spPr>
          <a:xfrm>
            <a:off x="3276720" y="549360"/>
            <a:ext cx="5209920" cy="576108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Gravity is a f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When gravity pulls something towards the Earth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- we call this force the </a:t>
            </a:r>
            <a:r>
              <a:rPr b="1" lang="en-GB" sz="3600" spc="-1" strike="noStrike">
                <a:solidFill>
                  <a:srgbClr val="fe2110"/>
                </a:solidFill>
                <a:latin typeface="Comic Sans MS"/>
              </a:rPr>
              <a:t>weight</a:t>
            </a: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9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Forces are measured in 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Newt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2971800"/>
            <a:ext cx="8229600" cy="24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Weight of an apple = about 1 Newt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2484360" y="1989000"/>
            <a:ext cx="431964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e2110"/>
                </a:solidFill>
                <a:latin typeface="Comic Sans MS"/>
              </a:rPr>
              <a:t>Let’s play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e2110"/>
                </a:solidFill>
                <a:latin typeface="Comic Sans MS"/>
              </a:rPr>
              <a:t>a game 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8T18:32:18Z</dcterms:created>
  <dc:creator>Ann Marks</dc:creator>
  <dc:description/>
  <dc:language>en-US</dc:language>
  <cp:lastModifiedBy>Legion</cp:lastModifiedBy>
  <dcterms:modified xsi:type="dcterms:W3CDTF">2017-01-26T10:10:41Z</dcterms:modified>
  <cp:revision>49</cp:revision>
  <dc:subject/>
  <dc:title>WOW !</dc:title>
</cp:coreProperties>
</file>