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5283D-C22E-4C2D-88AA-0647A2FB56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CC041-F007-45E5-8A4B-A592CEC2D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AEA-44AC-4817-BF53-C697DA93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4CD-ABCD-4542-B3A6-000F0314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473-2230-46A8-B2BE-74B4C896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F04-D964-4504-91A5-CF493F60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1073-F3C2-4C46-A7B4-35AEDFEE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AB62-ADA7-4DAE-B1DA-243427DC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FDB2-DFDB-45F3-A70F-34564A18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5707-CC9E-4BFD-953C-AEF8B477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8D61-CF94-45C7-B1B8-CDCB8E1A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7A1D-B794-402B-BD46-7C88AC3A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4C3A-3AE5-40AE-BD8A-806330CE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D7B-298F-406F-93C9-E4021CA0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ECAF-51DC-49D0-8EAE-6928F172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D852-FBD0-40F9-A1AA-43E051AB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A787-83B4-4068-B423-AD6957F5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8E02-B651-4023-B29E-29F0FA0B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FC3D-EBAB-468B-9ED0-FBFFAB66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061-96CC-4794-AA95-E512049B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0F6-B3AA-4124-B238-04D7A588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373-0434-4AD5-AB3C-657E1DF9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6BA-AF27-41A1-A6FD-03249419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139-A38B-4A39-A376-225726DB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89D3-A381-4319-B53F-182E17EF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D4C-6D3A-4D6E-8B4F-49BB917D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566CA-202D-4995-8A6E-3B0114D06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CE8C5-5547-44E3-A4A5-124CAACB6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7-01-26T10:14:13Z</dcterms:modified>
  <cp:revision>20</cp:revision>
  <dc:subject/>
  <dc:title>How are images of the Sun taken?</dc:title>
</cp:coreProperties>
</file>