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E7F2-DDA0-4E69-823E-594C6642F6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AA5-6DF4-4836-92DE-91D32174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F74-16AA-4A3F-BBA0-DB38546C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A1B-732F-449B-A786-8D1FCED5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E6C-9FCE-41E3-933D-51447E66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646E-638E-4ACB-A74C-045AD373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43FA-A6EE-4D5C-8D4D-59FD3FBD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0257-CE18-403B-85BA-38E246C7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58A2-E86B-483B-9314-AC29743B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C06C-E8F2-4E0C-8E28-CFF4851F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12F9-9E7B-422F-AEFB-E2935B66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5A8C-122D-4419-87CF-9B3069C7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DE7-A2EF-467B-8294-5BE241A3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D8D5-5F90-44EA-805F-C94BF9E8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258B-2526-4180-BB20-A74F6E3B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44DB-4A53-4C99-95A8-4409B623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4C92-B49A-424B-AAA7-6CDE8EFB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9F7A-F56B-4CD8-897A-B33C34D3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5B3-BCB2-41CA-BEA0-D845312A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2A1-760D-4DD2-AFB7-81C8C788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90B-79FE-4E3A-B3BD-E7A21066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E9E-8EC7-435B-856C-C2265257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FC8-E5D6-471D-8A17-F2CE3AC7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163-161D-4689-990B-DC2EC703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D98-B935-4455-B882-4004B5F1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6FDC-71CA-45B8-965D-4CAF4AF52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2034-0420-48BC-8F58-44F720C59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14:56Z</dcterms:modified>
  <cp:revision>99</cp:revision>
  <dc:subject/>
  <dc:title>PowerPoint Presentation</dc:title>
</cp:coreProperties>
</file>