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2E08-2014-4D03-9509-162EE0ACF1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AAE-5E1D-4F18-A7D2-B30FE4ED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7F8-3638-4ED9-8C60-002768B1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E55A-4190-43AF-84DA-82029947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5043-A204-40DE-8D8E-08274757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B5A-9769-436A-88AF-191E8784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B80-88A0-4855-B1A3-A2F80E51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B1D-45ED-4890-B3DF-DB39515D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412-14C9-46F0-B5ED-CD0F0F77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C4E-C950-4251-8B48-1CB66116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D6B-7C75-46DF-981B-970F4C01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DE20-635A-4658-835E-0EB682CA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F45-C81D-4856-85D1-EC5EA6C6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7CBC-0F52-43FF-8B73-D47597E32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lecule is the basic unit of a molecular comp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e how molecules form by sharing electrons in this fig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666800"/>
            <a:ext cx="723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sitive sodium ion and the negative chloride ion are strongly attracted to each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34704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ttraction, which holds the ions close together, is a type of chemical bond called an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ionic 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3520" y="1219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und sodium chloride, or table salt,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3520" y="213372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mp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ure substance containing two or more elements that are chemically bon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m30"/>
          <p:cNvPicPr/>
          <p:nvPr/>
        </p:nvPicPr>
        <p:blipFill>
          <a:blip r:embed="rId1"/>
          <a:stretch/>
        </p:blipFill>
        <p:spPr>
          <a:xfrm>
            <a:off x="714240" y="4084560"/>
            <a:ext cx="77155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62160"/>
            <a:ext cx="3733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lements lose or gain more than one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2666880"/>
            <a:ext cx="36576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ment magnesium, Mg, in Group 2 has two electrons in its outer energy leve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im31"/>
          <p:cNvPicPr/>
          <p:nvPr/>
        </p:nvPicPr>
        <p:blipFill>
          <a:blip r:embed="rId1"/>
          <a:stretch/>
        </p:blipFill>
        <p:spPr>
          <a:xfrm>
            <a:off x="4419720" y="1371600"/>
            <a:ext cx="4190760" cy="349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33520" y="4975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 can lose these two electrons and achieve a completed energy le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4796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, such as oxygen, need to gain two electrons to achieve st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6478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electrons released by one magnesium atom could be gained by a single atom of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426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s happens, magnesium oxide (MgO) is form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68880" y="685800"/>
            <a:ext cx="552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alent Bonds—Sh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80648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 are unlikely to lose or gain electrons because the number of electrons in their outer levels makes this difficu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33520" y="374976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ternative is sharing electr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317600"/>
            <a:ext cx="815328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emical bond that forms between nonmetal atoms when they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val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S0306AA.avi" descr=""/>
          <p:cNvPicPr/>
          <p:nvPr/>
        </p:nvPicPr>
        <p:blipFill>
          <a:blip r:embed="rId1"/>
          <a:stretch/>
        </p:blipFill>
        <p:spPr>
          <a:xfrm>
            <a:off x="2743200" y="28623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3288240" y="563868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ca22"/>
                </a:solidFill>
                <a:latin typeface="Times New Roman"/>
              </a:rPr>
              <a:t>Click image to view mov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4954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d electrons are attracted to the nuclei of both ato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3520" y="267660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ove back and forth between the outer energy levels of each atom in the covalent b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3520" y="4302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each atom has a stable outer energy level some of th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utral particle is formed when atoms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23:40:41Z</dcterms:created>
  <dc:creator>CIC1</dc:creator>
  <dc:description/>
  <dc:language>en-US</dc:language>
  <cp:lastModifiedBy>RomaK</cp:lastModifiedBy>
  <dcterms:modified xsi:type="dcterms:W3CDTF">2015-09-02T05:52:59Z</dcterms:modified>
  <cp:revision>7</cp:revision>
  <dc:subject/>
  <dc:title>Ionic, Covalent, and Metallic bonding</dc:title>
</cp:coreProperties>
</file>