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15301-1871-4986-A75E-F4C557713F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ic, Covalent, and Metallic bo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ic, Covalent, and Metallic bo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valent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olecule is the basic unit of a molecular compou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valent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olecule is the basic unit of a molecular compou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valent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see how molecules form by sharing electrons in this figu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valent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see how molecules form by sharing electrons in this figu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d 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sitive sodium ion and the negative chloride ion are strongly attracted to each oth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attraction, which holds the ions close together, is a type of chemical bond called an ionic bo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d 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sitive sodium ion and the negative chloride ion are strongly attracted to each oth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attraction, which holds the ions close together, is a type of chemical bond called an ionic bo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d 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mpound sodium chloride, or table salt, is form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mpound is a pure substance containing two or more elements that are chemically bond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d 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mpound sodium chloride, or table salt, is form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mpound is a pure substance containing two or more elements that are chemically bond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Gains and Lo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elements lose or gain more than one electr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ment magnesium, Mg, in Group 2 has two electrons in its outer energy level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sium can lose these two electrons and achieve a completed energy leve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Gains and Lo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elements lose or gain more than one electr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ment magnesium, Mg, in Group 2 has two electrons in its outer energy level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sium can lose these two electrons and achieve a completed energy leve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Gains and Lo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atoms, such as oxygen, need to gain two electrons to achieve stabili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electrons released by one magnesium atom could be gained by a single atom of oxyg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is happens, magnesium oxide (MgO) is form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Gains and Lo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atoms, such as oxygen, need to gain two electrons to achieve stabili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electrons released by one magnesium atom could be gained by a single atom of oxyg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is happens, magnesium oxide (MgO) is form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alent Bonds—Sha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atoms are unlikely to lose or gain electrons because the number of electrons in their outer levels makes this difficul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ternative is sharing electr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alent Bonds—Sha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atoms are unlikely to lose or gain electrons because the number of electrons in their outer levels makes this difficul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ternative is sharing electr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valent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emical bond that forms between nonmetal atoms when they share electrons is called a covalent bo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image to view mov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valent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emical bond that forms between nonmetal atoms when they share electrons is called a covalent bo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image to view mov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valent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d electrons are attracted to the nuclei of both ato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ove back and forth between the outer energy levels of each atom in the covalent bo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each atom has a stable outer energy level some of the tim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valent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d electrons are attracted to the nuclei of both ato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ove back and forth between the outer energy levels of each atom in the covalent bo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each atom has a stable outer energy level some of the tim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valent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utral particle is formed when atoms share electrons is called a mole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valent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utral particle is formed when atoms share electrons is called a mole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2AAC-B9BB-4E67-8500-DCDF1F2A3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F7AC-A757-4AB0-970F-9ED401885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92B8-FD0E-463C-BD59-C38654AB8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B821-5794-4BF7-A579-A66FA0233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EBE4-ABD1-4DF2-9D3E-AB42AF4DF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0FE7-95A3-4C82-803E-E7EB75367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3288-174C-49A7-90D9-F53FEEB9E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87ED-2207-41BB-8F0A-6DB06D394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34E5-33D0-463C-A7E8-60570A831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65E2-7F8B-4C0D-8884-EED1C51F4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2512-70AC-4C65-89DB-D77A0AC29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C80D-8837-471B-A2D7-18A233E32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3D9D4-9736-4F17-9DFA-9DBF4A56EC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onic, Covalent, and Metallic bo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1569240" y="685800"/>
            <a:ext cx="4221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The Convalent B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3077640" y="0"/>
            <a:ext cx="293904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How Elements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533520" y="1371600"/>
            <a:ext cx="7696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olecule is the basic unit of a molecular compoun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im38"/>
          <p:cNvPicPr/>
          <p:nvPr/>
        </p:nvPicPr>
        <p:blipFill>
          <a:blip r:embed="rId1"/>
          <a:stretch/>
        </p:blipFill>
        <p:spPr>
          <a:xfrm>
            <a:off x="2057400" y="2638440"/>
            <a:ext cx="5029200" cy="32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1569240" y="685800"/>
            <a:ext cx="4221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The Convalent B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3077640" y="0"/>
            <a:ext cx="293904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How Elements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533520" y="1371600"/>
            <a:ext cx="7696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 see how molecules form by sharing electrons in this figu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im38"/>
          <p:cNvPicPr/>
          <p:nvPr/>
        </p:nvPicPr>
        <p:blipFill>
          <a:blip r:embed="rId1"/>
          <a:stretch/>
        </p:blipFill>
        <p:spPr>
          <a:xfrm>
            <a:off x="2057400" y="2638440"/>
            <a:ext cx="5029200" cy="32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569960" y="685800"/>
            <a:ext cx="3419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Bond 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533520" y="1666800"/>
            <a:ext cx="72388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ositive sodium ion and the negative chloride ion are strongly attracted to each oth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533520" y="3470400"/>
            <a:ext cx="78483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attraction, which holds the ions close together, is a type of chemical bond called an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ionic bo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1569960" y="685800"/>
            <a:ext cx="3419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Bond 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533520" y="1219320"/>
            <a:ext cx="72388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mpound sodium chloride, or table salt, is form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533520" y="2133720"/>
            <a:ext cx="78483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compou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pure substance containing two or more elements that are chemically bond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im30"/>
          <p:cNvPicPr/>
          <p:nvPr/>
        </p:nvPicPr>
        <p:blipFill>
          <a:blip r:embed="rId1"/>
          <a:stretch/>
        </p:blipFill>
        <p:spPr>
          <a:xfrm>
            <a:off x="714240" y="4084560"/>
            <a:ext cx="771552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1569960" y="685800"/>
            <a:ext cx="474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More Gains and Lo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533520" y="1262160"/>
            <a:ext cx="37335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elements lose or gain more than one electr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533520" y="2666880"/>
            <a:ext cx="365760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lement magnesium, Mg, in Group 2 has two electrons in its outer energy level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im31"/>
          <p:cNvPicPr/>
          <p:nvPr/>
        </p:nvPicPr>
        <p:blipFill>
          <a:blip r:embed="rId1"/>
          <a:stretch/>
        </p:blipFill>
        <p:spPr>
          <a:xfrm>
            <a:off x="4419720" y="1371600"/>
            <a:ext cx="4190760" cy="34923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8"/>
          <p:cNvSpPr/>
          <p:nvPr/>
        </p:nvSpPr>
        <p:spPr>
          <a:xfrm>
            <a:off x="533520" y="497520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gnesium can lose these two electrons and achieve a completed energy leve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1569960" y="685800"/>
            <a:ext cx="474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More Gains and Lo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533520" y="1479600"/>
            <a:ext cx="77724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atoms, such as oxygen, need to gain two electrons to achieve stabilit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3077640" y="0"/>
            <a:ext cx="293904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How Elements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533520" y="2647800"/>
            <a:ext cx="77724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wo electrons released by one magnesium atom could be gained by a single atom of oxyg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533520" y="4264200"/>
            <a:ext cx="7696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is happens, magnesium oxide (MgO) is form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1568880" y="685800"/>
            <a:ext cx="55299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Convalent Bonds—Sha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533520" y="1806480"/>
            <a:ext cx="76197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atoms are unlikely to lose or gain electrons because the number of electrons in their outer levels makes this difficul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3077640" y="0"/>
            <a:ext cx="293904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How Elements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533520" y="3749760"/>
            <a:ext cx="7696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lternative is sharing electr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1569240" y="685800"/>
            <a:ext cx="4221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The Convalent B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533520" y="1317600"/>
            <a:ext cx="8153280" cy="20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hemical bond that forms between nonmetal atoms when they share electrons is called a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covalen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bo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3077640" y="0"/>
            <a:ext cx="293904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How Elements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S0306AA.avi" descr=""/>
          <p:cNvPicPr/>
          <p:nvPr/>
        </p:nvPicPr>
        <p:blipFill>
          <a:blip r:embed="rId1"/>
          <a:stretch/>
        </p:blipFill>
        <p:spPr>
          <a:xfrm>
            <a:off x="2743200" y="286236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8"/>
          <p:cNvSpPr/>
          <p:nvPr/>
        </p:nvSpPr>
        <p:spPr>
          <a:xfrm>
            <a:off x="3288240" y="5638680"/>
            <a:ext cx="24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cca22"/>
                </a:solidFill>
                <a:latin typeface="Times New Roman"/>
              </a:rPr>
              <a:t>Click image to view movi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87" nodeType="clickEffect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0" dur="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1569240" y="685800"/>
            <a:ext cx="4221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The Convalent B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533520" y="1495440"/>
            <a:ext cx="76197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ed electrons are attracted to the nuclei of both atom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3077640" y="0"/>
            <a:ext cx="293904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How Elements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533520" y="2676600"/>
            <a:ext cx="76960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move back and forth between the outer energy levels of each atom in the covalent bon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533520" y="4302000"/>
            <a:ext cx="7696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, each atom has a stable outer energy level some of the tim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1569240" y="685800"/>
            <a:ext cx="4221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The Convalent B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533520" y="1219320"/>
            <a:ext cx="74674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eutral particle is formed when atoms share electrons is called a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molec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3077640" y="0"/>
            <a:ext cx="293904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How Elements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im38"/>
          <p:cNvPicPr/>
          <p:nvPr/>
        </p:nvPicPr>
        <p:blipFill>
          <a:blip r:embed="rId1"/>
          <a:stretch/>
        </p:blipFill>
        <p:spPr>
          <a:xfrm>
            <a:off x="2057400" y="2638440"/>
            <a:ext cx="5029200" cy="32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5T23:40:41Z</dcterms:created>
  <dc:creator>CIC1</dc:creator>
  <dc:description/>
  <dc:language>en-US</dc:language>
  <cp:lastModifiedBy>RomaK</cp:lastModifiedBy>
  <dcterms:modified xsi:type="dcterms:W3CDTF">2015-09-02T05:52:59Z</dcterms:modified>
  <cp:revision>7</cp:revision>
  <dc:subject/>
  <dc:title>Ionic, Covalent, and Metallic bonding</dc:title>
</cp:coreProperties>
</file>