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4E69-1BE9-4E52-A72C-A5F726B558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DISTANCES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ic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DISTANCES IN ASTRONO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ic metho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(in vacuum):     c = 300,000 k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cy of the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: Michelson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ley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al or object can travel faster tha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ultimate speed limit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of light is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s of physics are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is a relative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: moving rulers appear to be 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: moving clocks appear to run 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of mass and energy:   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of mass and energy:    E = m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and time are relative, not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flash before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and B flash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and time are relative, not absol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ing clock runs slower than its counterpar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ary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moving clock runs slower than its counterpart at 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onary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ing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age Attendant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er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 in the laboratory witnesses time dil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Uranium atoms “witness” 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of fast-moving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itably placed Geiger 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of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cientist in the laboratory witnesses time dila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le the Uranium atoms “witness” 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Theory of Relativity (G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iple of Equiva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bjects experience the same motion in a 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, irrespective of thei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Galileo's experiment at the leaning tower of Pisa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   &lt;===&gt;   Accelerated reference 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can be thought of as a distortion of space-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heory of Relativity (G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nciple of Equival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and Prope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: degree [º], arcminute ['], arcsecond ["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[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rcseconds] = 206265 (L/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;   L = linear (or “true”) size;   D =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 parallax (p), Astronomical Unit [AU], parsec [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[in parsec] = 1/p [in arcsecond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1 pc  =  206265 AU  =  3.26 light 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can only be used on nearby stars (D &lt; 100 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tmospheric blurring (seeing);  Hipparcos satelli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 Space Telescop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and Prope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: degree [º], arcminute ['], arcsecond ["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[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rcseconds] = 206265 (L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;   L = linear (or “true”) size;   D = di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 of G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precession of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ben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 of GT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lens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imag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distor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Red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Extreme case: ligh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ped” in a black hol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lens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stars within a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 motion [arcsec/s]  =  change of angular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-of-sight motion [km/s] - measured via Doppler 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on of stars within a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and Fl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square law:     f  =  L / (4πD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f = flux [erg/s/cm2];   L = luminosity [erg/s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distance [c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itude scale: brightnesses of astronomica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uminosity and Fl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:     f  =  L / (4πD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f = flux [erg/s/cm2];   L = luminosity [erg/s]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 an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: Cepheids and RR Lyra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tandard candles: brightest red giants, HII region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ary nebulae, supernovae, globular cluster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ully-Fisher relation:  rotation of disks of spir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n-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for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 an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Dn-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σ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shift as Distance Indic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's law:       v = H0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H0 = Hubble constant [km/s/M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shift used to measure recession veloc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≈ c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 / 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/λ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al change in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shift as Distance Indic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's law:       v = H0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H0 = Hubble constant [km/s/M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≈ c (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 / λ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/λ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ctional change in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ical Distance 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tronomical Distance Lad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3EB-BDB0-49A1-9F15-B8DA26DE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CFC-4D91-44B4-9B21-7A6811A8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9A0-870A-442D-9E95-40F6128B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660-53BD-43D3-BD21-7D5E8F10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EF05-B0E8-477C-A54C-44A5B1BF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555F-739C-4DCB-A957-FECB1A5C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98A1-D06C-40B7-990C-2BAB7BE2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9970-2F2C-46DC-8A83-574714AC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5088-340B-4F92-B8DB-CDD6A674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7900-5F46-414F-8D47-96C636E2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9AC3-C140-4B52-9C52-DA46EF4E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DF1-27D5-4B1C-B44D-35A2CD7D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9DB1-4E12-4824-B2B6-16C143D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D2EA-D8B9-448A-A394-83BBE695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D442-7A11-4B70-A4A8-61BF2713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7612-5858-4009-8C52-8F780BE0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FB3C-DEE7-4214-9750-9C428B57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268-D8B3-4EF9-A81D-ADCBD682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8CD-3302-4E99-A137-3DAAE563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8F3-9637-4198-B6B2-EF3C15CE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4B5-7A9E-486E-8B31-158AF10E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739-4C00-4F6C-AC2B-75E27DA7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494-E89B-4B95-A1EE-2562E420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C92-F262-41A6-B835-8647BC5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ADA9-1A23-43DE-811F-D19C48A2B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D99-2E63-4D46-8091-A24892B82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DISTANCES IN ASTRONOM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Geometric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cand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ru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:\WINDOWS\Desktop\ay2-f04\Week 3\litespd.gif"/>
          <p:cNvPicPr/>
          <p:nvPr/>
        </p:nvPicPr>
        <p:blipFill>
          <a:blip r:embed="rId1"/>
          <a:stretch/>
        </p:blipFill>
        <p:spPr>
          <a:xfrm>
            <a:off x="7335720" y="44956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WINDOWS\Desktop\ay2-f04\Week 3\mmexp.gif"/>
          <p:cNvPicPr/>
          <p:nvPr/>
        </p:nvPicPr>
        <p:blipFill>
          <a:blip r:embed="rId2"/>
          <a:stretch/>
        </p:blipFill>
        <p:spPr>
          <a:xfrm>
            <a:off x="4572000" y="2057400"/>
            <a:ext cx="3753000" cy="2220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Basic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Observable Con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valence of mass and energy:    E = m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47920" y="19810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pecial relativistic effects are important when the SPEED of an object is CLOSE TO THE SPEED OF LIGHT:    v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≈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multaneity and time are relative, not absolu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C:\Documents and Settings\Conference Room Lpt\Desktop\ay2_ppt\jones01.jpg"/>
          <p:cNvPicPr/>
          <p:nvPr/>
        </p:nvPicPr>
        <p:blipFill>
          <a:blip r:embed="rId1"/>
          <a:stretch/>
        </p:blipFill>
        <p:spPr>
          <a:xfrm>
            <a:off x="3657600" y="120348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Conference Room Lpt\Desktop\ay2_ppt\jones03.jpg"/>
          <p:cNvPicPr/>
          <p:nvPr/>
        </p:nvPicPr>
        <p:blipFill>
          <a:blip r:embed="rId2"/>
          <a:srcRect l="24895" t="5294" r="3561" b="10601"/>
          <a:stretch/>
        </p:blipFill>
        <p:spPr>
          <a:xfrm>
            <a:off x="3886200" y="3538440"/>
            <a:ext cx="1571760" cy="24782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80880" y="2514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838080" y="1600200"/>
            <a:ext cx="7467840" cy="459720"/>
            <a:chOff x="838080" y="1600200"/>
            <a:chExt cx="7467840" cy="459720"/>
          </a:xfrm>
        </p:grpSpPr>
        <p:sp>
          <p:nvSpPr>
            <p:cNvPr id="151" name="Text Box 9"/>
            <p:cNvSpPr/>
            <p:nvPr/>
          </p:nvSpPr>
          <p:spPr>
            <a:xfrm>
              <a:off x="838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7696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13"/>
          <p:cNvGrpSpPr/>
          <p:nvPr/>
        </p:nvGrpSpPr>
        <p:grpSpPr>
          <a:xfrm>
            <a:off x="838080" y="4267080"/>
            <a:ext cx="7467840" cy="459720"/>
            <a:chOff x="838080" y="4267080"/>
            <a:chExt cx="7467840" cy="459720"/>
          </a:xfrm>
        </p:grpSpPr>
        <p:sp>
          <p:nvSpPr>
            <p:cNvPr id="154" name="Text Box 14"/>
            <p:cNvSpPr/>
            <p:nvPr/>
          </p:nvSpPr>
          <p:spPr>
            <a:xfrm>
              <a:off x="838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7696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he length of a moving object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r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“true” length (measured when the object is at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3" descr="C:\Documents and Settings\Conference Room Lpt\Desktop\ay2_ppt\fish.jpg"/>
          <p:cNvPicPr/>
          <p:nvPr/>
        </p:nvPicPr>
        <p:blipFill>
          <a:blip r:embed="rId1"/>
          <a:stretch/>
        </p:blipFill>
        <p:spPr>
          <a:xfrm>
            <a:off x="403848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0" name="Line 15"/>
          <p:cNvSpPr/>
          <p:nvPr/>
        </p:nvSpPr>
        <p:spPr>
          <a:xfrm flipV="1">
            <a:off x="411480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16" descr="C:\Documents and Settings\Conference Room Lpt\Desktop\ay2_ppt\fish.jpg"/>
          <p:cNvPicPr/>
          <p:nvPr/>
        </p:nvPicPr>
        <p:blipFill>
          <a:blip r:embed="rId2"/>
          <a:stretch/>
        </p:blipFill>
        <p:spPr>
          <a:xfrm>
            <a:off x="205740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2" name="Line 17"/>
          <p:cNvSpPr/>
          <p:nvPr/>
        </p:nvSpPr>
        <p:spPr>
          <a:xfrm flipV="1">
            <a:off x="510552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ime on a moving clock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Time Dila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5867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ving clock ru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its counterpart at 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1752480" y="152352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57400" y="152388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8" descr="C:\Program Files\Microsoft Office\Clipart\standard\stddir3\NA01652_.wmf"/>
          <p:cNvPicPr/>
          <p:nvPr/>
        </p:nvPicPr>
        <p:blipFill>
          <a:blip r:embed="rId1"/>
          <a:stretch/>
        </p:blipFill>
        <p:spPr>
          <a:xfrm>
            <a:off x="1522440" y="4038480"/>
            <a:ext cx="739800" cy="743040"/>
          </a:xfrm>
          <a:prstGeom prst="rect">
            <a:avLst/>
          </a:prstGeom>
          <a:ln w="0">
            <a:noFill/>
          </a:ln>
        </p:spPr>
      </p:pic>
      <p:sp>
        <p:nvSpPr>
          <p:cNvPr id="169" name="Line 9"/>
          <p:cNvSpPr/>
          <p:nvPr/>
        </p:nvSpPr>
        <p:spPr>
          <a:xfrm>
            <a:off x="1600200" y="1371600"/>
            <a:ext cx="5335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11360" y="4876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ionary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18148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ing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4419720" y="1371600"/>
            <a:ext cx="739800" cy="3409920"/>
            <a:chOff x="4419720" y="1371600"/>
            <a:chExt cx="739800" cy="3409920"/>
          </a:xfrm>
        </p:grpSpPr>
        <p:pic>
          <p:nvPicPr>
            <p:cNvPr id="173" name="Picture 12" descr="C:\Program Files\Microsoft Office\Clipart\standard\stddir3\NA01652_.wmf"/>
            <p:cNvPicPr/>
            <p:nvPr/>
          </p:nvPicPr>
          <p:blipFill>
            <a:blip r:embed="rId2"/>
            <a:stretch/>
          </p:blipFill>
          <p:spPr>
            <a:xfrm>
              <a:off x="4419720" y="403848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3"/>
            <p:cNvSpPr/>
            <p:nvPr/>
          </p:nvSpPr>
          <p:spPr>
            <a:xfrm>
              <a:off x="4521240" y="137160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5994360" y="1365120"/>
            <a:ext cx="739800" cy="3409920"/>
            <a:chOff x="5994360" y="1365120"/>
            <a:chExt cx="739800" cy="3409920"/>
          </a:xfrm>
        </p:grpSpPr>
        <p:pic>
          <p:nvPicPr>
            <p:cNvPr id="176" name="Picture 18" descr="C:\Program Files\Microsoft Office\Clipart\standard\stddir3\NA01652_.wmf"/>
            <p:cNvPicPr/>
            <p:nvPr/>
          </p:nvPicPr>
          <p:blipFill>
            <a:blip r:embed="rId3"/>
            <a:stretch/>
          </p:blipFill>
          <p:spPr>
            <a:xfrm>
              <a:off x="599436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9"/>
            <p:cNvSpPr/>
            <p:nvPr/>
          </p:nvSpPr>
          <p:spPr>
            <a:xfrm>
              <a:off x="609588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7566120" y="1365120"/>
            <a:ext cx="739800" cy="3409920"/>
            <a:chOff x="7566120" y="1365120"/>
            <a:chExt cx="739800" cy="3409920"/>
          </a:xfrm>
        </p:grpSpPr>
        <p:pic>
          <p:nvPicPr>
            <p:cNvPr id="179" name="Picture 21" descr="C:\Program Files\Microsoft Office\Clipart\standard\stddir3\NA01652_.wmf"/>
            <p:cNvPicPr/>
            <p:nvPr/>
          </p:nvPicPr>
          <p:blipFill>
            <a:blip r:embed="rId4"/>
            <a:stretch/>
          </p:blipFill>
          <p:spPr>
            <a:xfrm>
              <a:off x="756612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22"/>
            <p:cNvSpPr/>
            <p:nvPr/>
          </p:nvSpPr>
          <p:spPr>
            <a:xfrm>
              <a:off x="766764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Line 23"/>
          <p:cNvSpPr/>
          <p:nvPr/>
        </p:nvSpPr>
        <p:spPr>
          <a:xfrm flipV="1">
            <a:off x="4876920" y="1523520"/>
            <a:ext cx="144756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00800" y="1523880"/>
            <a:ext cx="144792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3"/>
          <p:cNvGrpSpPr/>
          <p:nvPr/>
        </p:nvGrpSpPr>
        <p:grpSpPr>
          <a:xfrm>
            <a:off x="5334120" y="2451240"/>
            <a:ext cx="3047760" cy="1627200"/>
            <a:chOff x="5334120" y="2451240"/>
            <a:chExt cx="3047760" cy="1627200"/>
          </a:xfrm>
        </p:grpSpPr>
        <p:pic>
          <p:nvPicPr>
            <p:cNvPr id="185" name="Picture 3" descr="C:\WINDOWS\Desktop\ay2-f04\Week 3\Delorean_Seitlich.jpg"/>
            <p:cNvPicPr/>
            <p:nvPr/>
          </p:nvPicPr>
          <p:blipFill>
            <a:blip r:embed="rId1"/>
            <a:srcRect l="0" t="22505" r="0" b="18757"/>
            <a:stretch/>
          </p:blipFill>
          <p:spPr>
            <a:xfrm>
              <a:off x="5334120" y="2971800"/>
              <a:ext cx="30477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6"/>
            <p:cNvSpPr/>
            <p:nvPr/>
          </p:nvSpPr>
          <p:spPr>
            <a:xfrm>
              <a:off x="5689440" y="24512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0"/>
          <p:cNvGrpSpPr/>
          <p:nvPr/>
        </p:nvGrpSpPr>
        <p:grpSpPr>
          <a:xfrm>
            <a:off x="1600200" y="2286000"/>
            <a:ext cx="1752480" cy="1591560"/>
            <a:chOff x="1600200" y="2286000"/>
            <a:chExt cx="1752480" cy="1591560"/>
          </a:xfrm>
        </p:grpSpPr>
        <p:pic>
          <p:nvPicPr>
            <p:cNvPr id="188" name="Picture 21" descr="C:\WINDOWS\Desktop\ay2-f04\Week 3\Delorean_Seitlich.jpg"/>
            <p:cNvPicPr/>
            <p:nvPr/>
          </p:nvPicPr>
          <p:blipFill>
            <a:blip r:embed="rId2"/>
            <a:srcRect l="0" t="22505" r="0" b="18757"/>
            <a:stretch/>
          </p:blipFill>
          <p:spPr>
            <a:xfrm>
              <a:off x="1695240" y="22860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2"/>
            <p:cNvSpPr/>
            <p:nvPr/>
          </p:nvSpPr>
          <p:spPr>
            <a:xfrm>
              <a:off x="1600200" y="34178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4648320" y="2728800"/>
            <a:ext cx="1752480" cy="1591560"/>
            <a:chOff x="4648320" y="2728800"/>
            <a:chExt cx="1752480" cy="1591560"/>
          </a:xfrm>
        </p:grpSpPr>
        <p:pic>
          <p:nvPicPr>
            <p:cNvPr id="191" name="Picture 8" descr="C:\WINDOWS\Desktop\ay2-f04\Week 3\Delorean_Seitlich.jpg"/>
            <p:cNvPicPr/>
            <p:nvPr/>
          </p:nvPicPr>
          <p:blipFill>
            <a:blip r:embed="rId3"/>
            <a:srcRect l="0" t="22505" r="0" b="18757"/>
            <a:stretch/>
          </p:blipFill>
          <p:spPr>
            <a:xfrm>
              <a:off x="4743360" y="27288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8"/>
            <p:cNvSpPr/>
            <p:nvPr/>
          </p:nvSpPr>
          <p:spPr>
            <a:xfrm>
              <a:off x="4648320" y="38606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1790640" y="210816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1790640" y="31622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124080" y="33656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124080" y="229860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1790640" y="2209680"/>
            <a:ext cx="1333440" cy="1270080"/>
            <a:chOff x="1790640" y="2209680"/>
            <a:chExt cx="1333440" cy="1270080"/>
          </a:xfrm>
        </p:grpSpPr>
        <p:sp>
          <p:nvSpPr>
            <p:cNvPr id="201" name="Line 13"/>
            <p:cNvSpPr/>
            <p:nvPr/>
          </p:nvSpPr>
          <p:spPr>
            <a:xfrm>
              <a:off x="3124080" y="2425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1790640" y="2209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WINDOWS\Desktop\ay2-f04\Week 3\Delorean_Seitlich.jpg"/>
          <p:cNvPicPr/>
          <p:nvPr/>
        </p:nvPicPr>
        <p:blipFill>
          <a:blip r:embed="rId1"/>
          <a:srcRect l="0" t="22505" r="0" b="18757"/>
          <a:stretch/>
        </p:blipFill>
        <p:spPr>
          <a:xfrm>
            <a:off x="5334120" y="2971800"/>
            <a:ext cx="3047760" cy="1106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380880" y="5349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driver and garage attendant d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ree on the question of whether the two doors were closed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1219320" y="2108160"/>
            <a:ext cx="2438280" cy="1818720"/>
            <a:chOff x="1219320" y="2108160"/>
            <a:chExt cx="2438280" cy="1818720"/>
          </a:xfrm>
        </p:grpSpPr>
        <p:sp>
          <p:nvSpPr>
            <p:cNvPr id="209" name="Text Box 4"/>
            <p:cNvSpPr/>
            <p:nvPr/>
          </p:nvSpPr>
          <p:spPr>
            <a:xfrm>
              <a:off x="1219320" y="34671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790640" y="21081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790640" y="31622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3124080" y="33656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3124080" y="22986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3086280" y="2400480"/>
            <a:ext cx="2133360" cy="1729440"/>
            <a:chOff x="3086280" y="2400480"/>
            <a:chExt cx="2133360" cy="1729440"/>
          </a:xfrm>
        </p:grpSpPr>
        <p:sp>
          <p:nvSpPr>
            <p:cNvPr id="216" name="Text Box 10"/>
            <p:cNvSpPr/>
            <p:nvPr/>
          </p:nvSpPr>
          <p:spPr>
            <a:xfrm>
              <a:off x="3086280" y="3670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3886200" y="2400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3886200" y="34797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4483080" y="35686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9"/>
            <p:cNvSpPr/>
            <p:nvPr/>
          </p:nvSpPr>
          <p:spPr>
            <a:xfrm>
              <a:off x="4483080" y="25020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32"/>
          <p:cNvGrpSpPr/>
          <p:nvPr/>
        </p:nvGrpSpPr>
        <p:grpSpPr>
          <a:xfrm>
            <a:off x="4711680" y="2654280"/>
            <a:ext cx="2133360" cy="1729440"/>
            <a:chOff x="4711680" y="2654280"/>
            <a:chExt cx="2133360" cy="1729440"/>
          </a:xfrm>
        </p:grpSpPr>
        <p:sp>
          <p:nvSpPr>
            <p:cNvPr id="222" name="Text Box 33"/>
            <p:cNvSpPr/>
            <p:nvPr/>
          </p:nvSpPr>
          <p:spPr>
            <a:xfrm>
              <a:off x="4711680" y="3924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5511600" y="26542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5511600" y="37335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6108480" y="3822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6108480" y="27558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38"/>
          <p:cNvGrpSpPr/>
          <p:nvPr/>
        </p:nvGrpSpPr>
        <p:grpSpPr>
          <a:xfrm>
            <a:off x="6794640" y="2959200"/>
            <a:ext cx="2133360" cy="1729440"/>
            <a:chOff x="6794640" y="2959200"/>
            <a:chExt cx="2133360" cy="1729440"/>
          </a:xfrm>
        </p:grpSpPr>
        <p:sp>
          <p:nvSpPr>
            <p:cNvPr id="228" name="Text Box 39"/>
            <p:cNvSpPr/>
            <p:nvPr/>
          </p:nvSpPr>
          <p:spPr>
            <a:xfrm>
              <a:off x="6794640" y="42289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7594560" y="29592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7594560" y="4038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42"/>
            <p:cNvSpPr/>
            <p:nvPr/>
          </p:nvSpPr>
          <p:spPr>
            <a:xfrm>
              <a:off x="8191440" y="41274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43"/>
            <p:cNvSpPr/>
            <p:nvPr/>
          </p:nvSpPr>
          <p:spPr>
            <a:xfrm>
              <a:off x="8191440" y="306072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Line 21"/>
          <p:cNvSpPr/>
          <p:nvPr/>
        </p:nvSpPr>
        <p:spPr>
          <a:xfrm>
            <a:off x="5511960" y="278136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8191440" y="318780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80880" y="5691240"/>
            <a:ext cx="838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cientist in the laboratory witnesse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ime dila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le the Uranium atoms “witness”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Real Laboratory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3" descr="C:\Documents and Settings\Conference Room Lpt\Desktop\ay2_ppt\uranium.gif"/>
          <p:cNvPicPr/>
          <p:nvPr/>
        </p:nvPicPr>
        <p:blipFill>
          <a:blip r:embed="rId1"/>
          <a:srcRect l="0" t="15212" r="0" b="611"/>
          <a:stretch/>
        </p:blipFill>
        <p:spPr>
          <a:xfrm>
            <a:off x="5105520" y="1611360"/>
            <a:ext cx="2939760" cy="3252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C:\Documents and Settings\Conference Room Lpt\Desktop\ay2_ppt\uranium.gif"/>
          <p:cNvPicPr/>
          <p:nvPr/>
        </p:nvPicPr>
        <p:blipFill>
          <a:blip r:embed="rId2"/>
          <a:srcRect l="34007" t="15212" r="20004" b="59776"/>
          <a:stretch/>
        </p:blipFill>
        <p:spPr>
          <a:xfrm>
            <a:off x="380880" y="2133720"/>
            <a:ext cx="2667240" cy="19429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7"/>
          <p:cNvSpPr/>
          <p:nvPr/>
        </p:nvSpPr>
        <p:spPr>
          <a:xfrm>
            <a:off x="380880" y="403848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9"/>
          <p:cNvSpPr/>
          <p:nvPr/>
        </p:nvSpPr>
        <p:spPr>
          <a:xfrm rot="5400000">
            <a:off x="7255800" y="291564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8153280" y="1600200"/>
            <a:ext cx="0" cy="327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5041800" y="4838760"/>
            <a:ext cx="3048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43"/>
          <p:cNvSpPr/>
          <p:nvPr/>
        </p:nvSpPr>
        <p:spPr>
          <a:xfrm>
            <a:off x="3124080" y="31240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eneral Theory of Relativity (G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Principle of Equi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arallax and Proper Mo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gular size: degree [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arcminute ['], arcsecond ["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[in arcseconds] = 206265 (L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angular size;   L = linear (or “true”) size;   D = d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WINDOWS\Desktop\ay2-f04\Week 3\equiv1.gif"/>
          <p:cNvPicPr/>
          <p:nvPr/>
        </p:nvPicPr>
        <p:blipFill>
          <a:blip r:embed="rId1"/>
          <a:stretch/>
        </p:blipFill>
        <p:spPr>
          <a:xfrm>
            <a:off x="378000" y="380880"/>
            <a:ext cx="41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WINDOWS\Desktop\ay2-f04\Week 3\equiv2.gif"/>
          <p:cNvPicPr/>
          <p:nvPr/>
        </p:nvPicPr>
        <p:blipFill>
          <a:blip r:embed="rId2"/>
          <a:stretch/>
        </p:blipFill>
        <p:spPr>
          <a:xfrm>
            <a:off x="4572000" y="380880"/>
            <a:ext cx="4411800" cy="205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WINDOWS\Desktop\ay2-f04\Week 3\equivalence_principle_elevator_photon.gif"/>
          <p:cNvPicPr/>
          <p:nvPr/>
        </p:nvPicPr>
        <p:blipFill>
          <a:blip r:embed="rId3"/>
          <a:stretch/>
        </p:blipFill>
        <p:spPr>
          <a:xfrm>
            <a:off x="2019240" y="2514600"/>
            <a:ext cx="5105520" cy="39639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bservable Consequences of GT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4" descr="C:\WINDOWS\Desktop\ay2-f04\Week 3\MercPrecess.gif"/>
          <p:cNvPicPr/>
          <p:nvPr/>
        </p:nvPicPr>
        <p:blipFill>
          <a:blip r:embed="rId1"/>
          <a:srcRect l="0" t="7412" r="0" b="11849"/>
          <a:stretch/>
        </p:blipFill>
        <p:spPr>
          <a:xfrm>
            <a:off x="4876920" y="789120"/>
            <a:ext cx="4038480" cy="244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WINDOWS\Desktop\ay2-f04\Week 3\LightBend1.gif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WINDOWS\Desktop\ay2-f04\Week 3\LightBend2.gif"/>
          <p:cNvPicPr/>
          <p:nvPr/>
        </p:nvPicPr>
        <p:blipFill>
          <a:blip r:embed="rId3"/>
          <a:stretch/>
        </p:blipFill>
        <p:spPr>
          <a:xfrm>
            <a:off x="4572000" y="3429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lens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C:\WINDOWS\Desktop\ay2-f04\Week 3\Gravity_lense.jpg"/>
          <p:cNvPicPr/>
          <p:nvPr/>
        </p:nvPicPr>
        <p:blipFill>
          <a:blip r:embed="rId1"/>
          <a:stretch/>
        </p:blipFill>
        <p:spPr>
          <a:xfrm>
            <a:off x="4876920" y="2286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685800" y="27432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Red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6" descr="C:\WINDOWS\Desktop\ay2-f04\Week 3\gravitational-redshift.jpg"/>
          <p:cNvPicPr/>
          <p:nvPr/>
        </p:nvPicPr>
        <p:blipFill>
          <a:blip r:embed="rId2"/>
          <a:stretch/>
        </p:blipFill>
        <p:spPr>
          <a:xfrm>
            <a:off x="838080" y="434340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447920" y="19810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WINDOWS\Desktop\ay2-f04\Week 3\ParaDist.gif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otion of stars within a clus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WINDOWS\Desktop\ay2-f04\Week 3\ProperMotion.gif"/>
          <p:cNvPicPr/>
          <p:nvPr/>
        </p:nvPicPr>
        <p:blipFill>
          <a:blip r:embed="rId1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WINDOWS\Desktop\ay2-f04\Week 3\RadialVel.gif"/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uminosity and Flux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 square law:     f  =  L / (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:   f = flux [erg/s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;   L = luminosity [erg/s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tandard Candles and Rule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dshift as Distance Indica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bble's law:       v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Hubble constant [km/s/Mp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ractional change in wave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stronomical Distance Ladd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3" descr="C:\WINDOWS\Desktop\ay2-f04\Week 3\distanceladder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88120" cy="5391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21:40:05Z</dcterms:created>
  <dc:creator>Default</dc:creator>
  <dc:description/>
  <dc:language>en-US</dc:language>
  <cp:lastModifiedBy>Legion</cp:lastModifiedBy>
  <dcterms:modified xsi:type="dcterms:W3CDTF">2017-01-26T10:17:03Z</dcterms:modified>
  <cp:revision>13</cp:revision>
  <dc:subject/>
  <dc:title>MEASURING DISTANCES IN ASTRONOMY</dc:title>
</cp:coreProperties>
</file>