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5775-0AA3-46CF-965F-D19F4D99E085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863-9D34-4734-9824-64318BE4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8E4-CE36-4ACD-B644-304618A5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01B-6817-4B82-93A9-111FF6CB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E38-73BF-4DE4-A0B7-7945C85A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251B-B236-4212-A31B-82FEEC62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60CD-7E21-4AF5-B95E-C369B945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601C-6D42-4733-AFB7-9D79ED45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5D9E-40D5-4B58-9CE0-5D321478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9B68-E168-4143-B9A1-35E26E07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DDB9-CCDB-403E-9F5F-CEC6A771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907F-9A51-4232-93C9-82BC8C4E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622-63D8-4937-9BE2-A867BA6E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80E9-D2FA-4A1F-A677-A5C5DE95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AE6F-69F6-4CC4-9844-477682DB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5CD4-351A-45BF-A6D1-7BB7E6A1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B294-50F3-48DE-ABA4-EA33DE78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8B0A-C7A9-4634-9E7A-945152AC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6CA-ED3E-4D6B-B1DD-E9A77883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EE4-A6FF-4124-9170-3143BA07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97A-3323-493C-B32F-9D5A7100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889-6ABB-4141-B6A7-F1EC2B2A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014-BEA7-435D-BD7B-E491A952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51B-2870-4A0A-81F2-B7DEF655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3BB-686D-4819-B360-1060DE52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3197-E431-4A3F-843D-B63E6505C0FA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1C6F-5076-4843-A9FB-829D8A22BE8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AB10-4CD4-4B34-9BF1-A5C6D4ABA290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AB03-20C7-4FEA-9B51-9F6EA0EF9FC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500"/>
            </a:br>
            <a:r>
              <a:rPr b="1" i="1" lang="en-US" sz="115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11500"/>
            </a:b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 Planet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Mercury , Venus, Mars and Earth are called inner plane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uter Planet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are Jupiter , Saturn, Uranus, Neptu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752472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y also keep moving around the Sun .This ring is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 B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encrypted-tbn2.google.com/images?q=tbn:ANd9GcQItvSu7227CuvqlftuUPgoXVXZmgOwx_EPiWE4OzBQMuWzEH4ZXQ"/>
          <p:cNvPicPr/>
          <p:nvPr/>
        </p:nvPicPr>
        <p:blipFill>
          <a:blip r:embed="rId1"/>
          <a:stretch/>
        </p:blipFill>
        <p:spPr>
          <a:xfrm>
            <a:off x="-108000" y="-12600"/>
            <a:ext cx="925200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28600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5000" y="2060640"/>
            <a:ext cx="2819520" cy="30240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flects about 1/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sunlight it receives .The earth’s atmosphere scatters the light &amp; creates a blue effectn,so it is also called Blue Planet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A planetary disk of white cloud formations, brown and green land masses, and dark blue oceans against a black background. The Arabian peninsula, Africa and Madagascar lie in the upper half of the disk, while Antarctica is at the bottom."/>
          <p:cNvPicPr/>
          <p:nvPr/>
        </p:nvPicPr>
        <p:blipFill>
          <a:blip r:embed="rId1"/>
          <a:stretch/>
        </p:blipFill>
        <p:spPr>
          <a:xfrm>
            <a:off x="468360" y="2060640"/>
            <a:ext cx="2930400" cy="293220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Sumitomo\Desktop\MMG\Teaching Kids.png"/>
          <p:cNvPicPr/>
          <p:nvPr/>
        </p:nvPicPr>
        <p:blipFill>
          <a:blip r:embed="rId1"/>
          <a:stretch/>
        </p:blipFill>
        <p:spPr>
          <a:xfrm>
            <a:off x="0" y="2114640"/>
            <a:ext cx="9144000" cy="4843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556000" y="3920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ww.makemegenius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40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Not a Planet but the only satellite of the Ear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diameter of only  1/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55520" y="2060640"/>
            <a:ext cx="3845160" cy="288108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n’s gravity is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arth, so your weight would be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your weight on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887560" cy="30970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of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The planet Mars"/>
          <p:cNvPicPr/>
          <p:nvPr/>
        </p:nvPicPr>
        <p:blipFill>
          <a:blip r:embed="rId1"/>
          <a:stretch/>
        </p:blipFill>
        <p:spPr>
          <a:xfrm>
            <a:off x="684360" y="2133720"/>
            <a:ext cx="2739960" cy="27399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also has the largest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dust storms in the Sola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Jupiter (ruler of Roman g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is the largest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Jupiter by Cassini-Huygens.jpg"/>
          <p:cNvPicPr/>
          <p:nvPr/>
        </p:nvPicPr>
        <p:blipFill>
          <a:blip r:embed="rId1"/>
          <a:stretch/>
        </p:blipFill>
        <p:spPr>
          <a:xfrm>
            <a:off x="755640" y="1916280"/>
            <a:ext cx="2849400" cy="275112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etter Understand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of 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2332080"/>
            <a:ext cx="911556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 –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Saturn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is the sixth planet from the Sun and the second largest planet in the Solar System, after Jupit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Saturn is classified as a 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gas giant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pla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44680" y="1916280"/>
            <a:ext cx="3132000" cy="3097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903600" y="6381720"/>
            <a:ext cx="73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-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 rot="1976400">
            <a:off x="7215120" y="608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http://upload.wikimedia.org/wikipedia/commons/thumb/e/e4/Uranusandrings.jpg/220px-Uranusandrings.jpg"/>
          <p:cNvPicPr/>
          <p:nvPr/>
        </p:nvPicPr>
        <p:blipFill>
          <a:blip r:embed="rId1"/>
          <a:stretch/>
        </p:blipFill>
        <p:spPr>
          <a:xfrm>
            <a:off x="324000" y="1773360"/>
            <a:ext cx="3311280" cy="3168360"/>
          </a:xfrm>
          <a:prstGeom prst="rect">
            <a:avLst/>
          </a:prstGeom>
          <a:ln w="0">
            <a:noFill/>
          </a:ln>
        </p:spPr>
      </p:pic>
      <p:sp>
        <p:nvSpPr>
          <p:cNvPr id="1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 rot="1976400">
            <a:off x="7394040" y="84456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Neptune from Voyager 2"/>
          <p:cNvPicPr/>
          <p:nvPr/>
        </p:nvPicPr>
        <p:blipFill>
          <a:blip r:embed="rId1"/>
          <a:stretch/>
        </p:blipFill>
        <p:spPr>
          <a:xfrm>
            <a:off x="826920" y="2060640"/>
            <a:ext cx="2799000" cy="275256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600"/>
            </a:br>
            <a:r>
              <a:rPr b="1" i="1" lang="en-US" sz="96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569840" y="5516640"/>
            <a:ext cx="2661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44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60440" y="1268280"/>
            <a:ext cx="8215200" cy="53262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The Sun by the Atmospheric Imaging Assembly of NASA's Solar Dynamics Observatory - 20100819.jpg"/>
          <p:cNvPicPr/>
          <p:nvPr/>
        </p:nvPicPr>
        <p:blipFill>
          <a:blip r:embed="rId1"/>
          <a:stretch/>
        </p:blipFill>
        <p:spPr>
          <a:xfrm>
            <a:off x="539640" y="2133720"/>
            <a:ext cx="2762280" cy="263844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56:04Z</dcterms:created>
  <dc:creator>Sumitomo</dc:creator>
  <dc:description/>
  <dc:language>en-US</dc:language>
  <cp:lastModifiedBy>Legion</cp:lastModifiedBy>
  <dcterms:modified xsi:type="dcterms:W3CDTF">2017-01-26T10:17:38Z</dcterms:modified>
  <cp:revision>26</cp:revision>
  <dc:subject/>
  <dc:title>Saturn</dc:title>
</cp:coreProperties>
</file>