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wmf" ContentType="image/x-wmf"/>
  <Override PartName="/ppt/media/image10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9EC1A-0C70-4018-A7D8-C9BB88D3D78A}" type="slidenum">
              <a:rPr b="0" lang="en-I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Fre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ience Video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Fre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ience Video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  word comes from Greek ,which means wandering st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 are heavenly bodies ,which revolve around the Sun in  elliptical orbi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lier it was considered there were 9 planets in Solar system but lately  one planet  called Pluto was de-classified from being a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planets fall in 2 grou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: Mercury , Venus, Mars and Earth are called inner plane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er Planets: These are Jupiter , Saturn, Uranus, Neptu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  word comes from Greek ,which means wandering st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 are heavenly bodies ,which revolve around the Sun in  elliptical orbi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lier it was considered there were 9 planets in Solar system but lately  one planet  called Pluto was de-classified from being a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planets fall in 2 grou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: Mercury , Venus, Mars and Earth are called inner plane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er Planets: These are Jupiter , Saturn, Uranus, Neptu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Inner &amp; Outer Planets ,there is a ring of small bodies , which are made of rock &amp; metal, these are called Asteroids. They also keep moving around the Sun .This ring is also called Asteroids Bel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Inner &amp; Outer Planets ,there is a ring of small bodies , which are made of rock &amp; metal, these are called Asteroids. They also keep moving around the Sun .This ring is also called Asteroids Bel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rcur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rcur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rcury –The Innermost 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amed after messenger of the Roman g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 closest planet to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 variations in 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400 degree C) &amp; night (-180 degree C) time temperatu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rcury –The Innermost 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amed after messenger of the Roman g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 closest planet to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 variations in 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400 degree C) &amp; night (-180 degree C) time temperatu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lso the smallest, and its orbit is the most not fully circul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does not have any satell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no water or at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an be seen with naked ey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 orbits the Sun once in about 88 Earth d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no seasons on its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rcury –The Innermost 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lso the smallest, and its orbit is the most not fully circul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does not have any satell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no water or at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an be seen with naked ey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 orbits the Sun once in about 88 Earth d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no seasons on its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rcury –The Innermost 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 –The Veiled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 is surrounded by thick cloud cover ,that is why it is called “Veiled Planet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 is brightest &amp; hottest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amed after Roman goddess of love &amp; beauty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 –The Veiled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 is surrounded by thick cloud cover ,that is why it is called “Veiled Planet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 is brightest &amp; hottest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amed after Roman goddess of love &amp; beauty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 orbits the Sun once in about 225 Earth d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 reaches its maximum brightness shortly before sunrise or shortly after sunset, so it is also known as the Morning Star or Evening St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 is also known as “Sister “ or “Twin” planet to earth because of its similar size &amp; mass to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 –The Veiled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 orbits the Sun once in about 225 Earth d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 reaches its maximum brightness shortly before sunrise or shortly after sunset, so it is also known as the Morning Star or Evening St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 is also known as “Sister “ or “Twin” planet to earth because of its similar size &amp; mass to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 –The Veiled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 –The Blue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lso known as watery planet, because 70% of its surface is covered by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reflects about 1/3rd of sunlight it receives .The earth’s atmosphere scatters the light &amp; creates a blue effectn,so it is also called Blue Planet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planet having life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 –The Blue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lso known as watery planet, because 70% of its surface is covered by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reflects about 1/3rd of sunlight it receives .The earth’s atmosphere scatters the light &amp; creates a blue effectn,so it is also called Blue Planet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planet having life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s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s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 orbits the Sun once in about 365 Earth d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rotates about its own axis, thus creating day &amp; night. It takes 24 hours to do th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revolves around sun, due to its tilt ,seasons are crea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e to gravity, the layer of gases remain attached to it (which is known as atmosphere), it prevents too much heat or UV rays from Sun reaching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 is the only satellite of the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 –The Blue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 orbits the Sun once in about 365 Earth d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rotates about its own axis, thus creating day &amp; night. It takes 24 hours to do th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revolves around sun, due to its tilt ,seasons are crea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e to gravity, the layer of gases remain attached to it (which is known as atmosphere), it prevents too much heat or UV rays from Sun reaching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 is the only satellite of the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 –The Blue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a Planet but the only satellite of the Earth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a Planet but the only satellite of the Earth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 –The Earth’s Only Satell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diameter of only  1/4th of the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looks bigger to us as it is very close to 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has no atmosphere ,so there is huge difference between day &amp; night temperature. (127 degree C in Day to -173 degree C in Nigh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 –The Earth’s Only Satell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diameter of only  1/4th of the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looks bigger to us as it is very close to 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has no atmosphere ,so there is huge difference between day &amp; night temperature. (127 degree C in Day to -173 degree C in Nigh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there is no atmosphere, there is no weather, no rain, no wind or clou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 everything else in Solar System, Moon also does not have its own light . It shines due to Sun’s light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no water on its surf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’s gravity is 1/6th of Earth, so your weight would be 1/6th of your weight on the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 –The Earth’s Only Satell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there is no atmosphere, there is no weather, no rain, no wind or clou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 everything else in Solar System, Moon also does not have its own light . It shines due to Sun’s light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no water on its surf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’s gravity is 1/6th of Earth, so your weight would be 1/6th of your weight on the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 –The Earth’s Only Satell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is the only celestial body other than Earth on which humans have set foo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l Armstrong became the first person to walk on the Moon as the commander of the American mission Apollo 11by first setting foot on the Moon  on 21 July 196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 –The Earth’s Only Satell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is the only celestial body other than Earth on which humans have set foo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l Armstrong became the first person to walk on the Moon as the commander of the American mission Apollo 11by first setting foot on the Moon  on 21 July 196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 –The Earth’s Only Satell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 –The Red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amed after the Roman god of w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often described as the "Red Planet", as the iron oxide prevalent on its surface gives it a reddish appea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 –The Red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amed after the Roman god of w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often described as the "Red Planet", as the iron oxide prevalent on its surface gives it a reddish appea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 has approximately half the diameter of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 has two satelli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avity of Mars is half of the earth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tmosphere of Mars consists of about 95% carbon dioxide, 3% nitrogen,1.6% argon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contains some  oxygen and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 also has the largest dust storms in 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 –The Red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 has approximately half the diameter of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 has two satelli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avity of Mars is half of the earth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tmosphere of Mars consists of about 95% carbon dioxide, 3% nitrogen,1.6% argon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contains some  oxygen and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 also has the largest dust storms in 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 –The Red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 –The Giant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amed after the Roman god Jupiter (ruler of Roman god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 is the largest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 within the 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a great Red Spot ,it is rotating storm system inside the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 –The Giant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amed after the Roman god Jupiter (ruler of Roman god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 is the largest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 within the 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a great Red Spot ,it is rotating storm system inside the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Better Understanding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of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ck ou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d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Solar 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For Better Understanding </a:t>
            </a:r>
            <a:br>
              <a:rPr sz="1200"/>
            </a:b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                                of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Check ou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Vid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on Solar 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www.makemegenius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 rotates faster than any other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ompletes one rotation in 10 ho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 has a faint ring system, these rings appear to be made of du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lso a windy planet as the fast rotation causes high win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16 plane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 –The Giant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 rotates faster than any other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ompletes one rotation in 10 ho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 has a faint ring system, these rings appear to be made of du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lso a windy planet as the fast rotation causes high win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16 plane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 –The Giant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 –The Jewel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 is the sixth planet from the Sun and the second largest planet in the Solar System, after Jupit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amed after the Roman god Satur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 is classified as a gas giant pla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 most beautiful planet in solar system because of its spectacular ring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 –The Jewel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 is the sixth planet from the Sun and the second largest planet in the Solar System, after Jupit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amed after the Roman god Satur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 is classified as a gas giant pla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 most beautiful planet in solar system because of its spectacular ring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-The Jewel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 rings are made up of ice &amp; ice covered p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22 known satellites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an be seen by naked ey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 is 95 times heavier than eart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akes Saturn 10,759 Earth days (or about 29½ years), to finish one revolution around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-The Jewel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 rings are made up of ice &amp; ice covered p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22 known satellites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an be seen by naked ey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 is 95 times heavier than eart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akes Saturn 10,759 Earth days (or about 29½ years), to finish one revolution around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u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u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us –A planet on its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us appears to lie on its s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amed after the Roman god of the sk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nly planet which  rotates on its axis from east to w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d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us –A planet on its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us appears to lie on its s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amed after the Roman god of the sk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nly planet which  rotates on its axis from east to w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d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at least ten thin uniform black rings ,which are made of du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27 known satel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very cold planet ,it receives 370 times less sunlight than Earth as it is far away from sun as compared to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s core is very rock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us –A planet on its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d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at least ten thin uniform black rings ,which are made of du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27 known satel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very cold planet ,it receives 370 times less sunlight than Earth as it is far away from sun as compared to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s core is very rock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us –A planet on its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d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tune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tune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tune –The Last Gian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distant gas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amed after the Roman god of the sea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windy pla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tune –The Last Gian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distant gas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amed after the Roman god of the sea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windy pla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’t be seen with naked ey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8 known satelli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it is very far from Sun,it completes an orbit on average every 164.79 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verage distance between Neptune and the Sun is 4.50 billion k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tune was the first planet found by mathematical predi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tune –The Last Gian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’t be seen with naked ey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8 known satelli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it is very far from Sun,it completes an orbit on average every 164.79 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verage distance between Neptune and the Sun is 4.50 billion k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tune was the first planet found by mathematical predi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tune –The Last Gian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, its planets and all the objects moving around them collectively are called Solar Sy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System is entirely dependent on Sun &amp; the only one which is self- luminous  i.e which has its own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t of the planets reflect the light received from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, its planets and all the objects moving around them collectively are called Solar Sy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System is entirely dependent on Sun &amp; the only one which is self- luminous  i.e which has its own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t of the planets reflect the light received from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mitted b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ubh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ass VIII th , Govt Public School ,Gurga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nks t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og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amp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mitted b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ubh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ass VIII th , Govt Public School ,Gurga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nks t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og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amp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Fre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ience Video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Fre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ience Video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 –Star of the Solar 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‘s the heaviest among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ball of hot ,burning ga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 nearest star to the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ght from the Sun takes appx. 8 minutes to reach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 –Star of the Solar 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‘s the heaviest among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ball of hot ,burning ga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 nearest star to the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ght from the Sun takes appx. 8 minutes to reach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 source of all energy for life on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ut three quarters of the Sun's mass consists of hydrogen, while the rest is mostly heli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he Sun’s surface ,there are dark patches known as sunspots. These are patches of gas that looks dark since they are cooler than their surround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 –Star of the Solar 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 source of all energy for life on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ut three quarters of the Sun's mass consists of hydrogen, while the rest is mostly heli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he Sun’s surface ,there are dark patches known as sunspots. These are patches of gas that looks dark since they are cooler than their surround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 –Star of the Solar 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6A49-0652-440E-BE99-FB6BAE5AB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13BE-02AA-4366-8636-888F6466C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41B8-207E-45FE-B2DC-939EF8B27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0409-CC6C-47DB-A849-100920230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5FD93-AA0B-417B-9ADC-8A31A82A3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91623-00E8-4DED-8622-A386CF599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63326-DC06-4C72-ACDA-EC1B2AB85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9E507-B035-4EA1-9C43-B72912B2A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A49B8-3D7D-4B82-A6C2-5323F1351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DBC1A-542C-48AD-8845-CCF52198C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07F44-64FA-4226-B77A-43C7CD36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AFE9-D928-4FF3-ACA9-8CBCD1BD8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0D29D-E265-48CB-973C-3F4555A13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E808A-769D-418A-9CEE-D1C90ADB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F3C6F-0439-4D2F-8F66-7EC344752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FFFDF-9600-41EB-870C-3971E0EB4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A86C6-2FD1-4B5E-90BE-F5D276E46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6D2D-D86B-44D7-A3BC-C3772C60E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7C9C-595C-4F9E-B586-300CEC260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3C2E-A4B9-4C88-9AF3-3EE1255EE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2130-0BAA-4E1A-9DD4-79D0B931E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7876-7E07-481C-BE76-50757D550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3C30-8E43-4F66-BCAC-C9273CA2D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5F59-B2E7-459F-9FDD-FF2953C65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6D11A-9094-46E5-A818-2B881548A8E3}" type="datetime">
              <a:rPr b="0" lang="en-IN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B21F2-E697-4D51-AE5B-17E5BEE9AFEE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BF910-F6A5-4B82-9AB0-DDA3B9E6FBD4}" type="datetime">
              <a:rPr b="0" lang="en-IN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51B5F-0186-4F0A-B57E-C514CBCABE11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Calibri"/>
              </a:rPr>
              <a:t>For </a:t>
            </a:r>
            <a:r>
              <a:rPr b="1" lang="en-US" sz="11500" spc="-1" strike="noStrike">
                <a:solidFill>
                  <a:srgbClr val="ff0000"/>
                </a:solidFill>
                <a:latin typeface="Calibri"/>
              </a:rPr>
              <a:t>Free</a:t>
            </a:r>
            <a:r>
              <a:rPr b="1" lang="en-US" sz="115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1500"/>
            </a:br>
            <a:r>
              <a:rPr b="1" i="1" lang="en-US" sz="11500" spc="-1" strike="noStrike">
                <a:solidFill>
                  <a:srgbClr val="0070c0"/>
                </a:solidFill>
                <a:latin typeface="Calibri"/>
              </a:rPr>
              <a:t>Science Videos</a:t>
            </a:r>
            <a:br>
              <a:rPr sz="11500"/>
            </a:br>
            <a:r>
              <a:rPr b="1" lang="en-US" sz="11500" spc="-1" strike="noStrike">
                <a:solidFill>
                  <a:srgbClr val="000000"/>
                </a:solidFill>
                <a:latin typeface="Calibri"/>
              </a:rPr>
              <a:t>for Kids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Plan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lanet  word comes from Greek ,which means wandering star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lanets are heavenly bodies ,which revolve around the Sun in  elliptical orbit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arlier it was considered there were 9 planets in Solar system but lately  one planet  called Pluto was de-classified from being a plane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ll planets fall in 2 grou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ner Planets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: Mercury , Venus, Mars and Earth are called inner planet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Outer Planets: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se are Jupiter , Saturn, Uranus, Neptun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Object 4" descr=""/>
          <p:cNvPicPr/>
          <p:nvPr/>
        </p:nvPicPr>
        <p:blipFill>
          <a:blip r:embed="rId1"/>
          <a:stretch/>
        </p:blipFill>
        <p:spPr>
          <a:xfrm>
            <a:off x="7524720" y="6021360"/>
            <a:ext cx="13716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3645000"/>
            <a:ext cx="8229600" cy="24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tween Inner &amp; Outer Planets ,there is a ring of small bodies , which are made of rock &amp; metal, these are calle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steroid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They also keep moving around the Sun .This ring is also calle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steroids Bel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" descr="https://encrypted-tbn2.google.com/images?q=tbn:ANd9GcQItvSu7227CuvqlftuUPgoXVXZmgOwx_EPiWE4OzBQMuWzEH4ZXQ"/>
          <p:cNvPicPr/>
          <p:nvPr/>
        </p:nvPicPr>
        <p:blipFill>
          <a:blip r:embed="rId1"/>
          <a:stretch/>
        </p:blipFill>
        <p:spPr>
          <a:xfrm>
            <a:off x="-108000" y="-12600"/>
            <a:ext cx="9252000" cy="3384360"/>
          </a:xfrm>
          <a:prstGeom prst="rect">
            <a:avLst/>
          </a:prstGeom>
          <a:ln w="0">
            <a:noFill/>
          </a:ln>
        </p:spPr>
      </p:pic>
      <p:sp>
        <p:nvSpPr>
          <p:cNvPr id="12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ercur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400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Mercury –The Innermost  Planet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3560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named after messenger of the Roman g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the closest planet to the Su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rge variations in 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400 degree C) &amp; night (-180 degree C) time tempera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1116000" y="2133720"/>
            <a:ext cx="2286000" cy="2266920"/>
          </a:xfrm>
          <a:prstGeom prst="rect">
            <a:avLst/>
          </a:prstGeom>
          <a:ln w="0">
            <a:noFill/>
          </a:ln>
        </p:spPr>
      </p:pic>
      <p:sp>
        <p:nvSpPr>
          <p:cNvPr id="12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It is also the smallest, and its orbit is the most not fully circul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does not have any satelli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is no water or atmosp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can be seen with naked ey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It orbits the Sun once in about 88 Earth d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There are no seasons on its surf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Mercury –The Innermost  Planet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Venu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Venus –The Veiled Planet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3560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nus is surrounded by thick cloud cover ,that is why it is called “Veiled Planet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 is brightest &amp; hottest plan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named after Roman goddess of love &amp; beauty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765000" y="2060640"/>
            <a:ext cx="2819520" cy="3024000"/>
          </a:xfrm>
          <a:prstGeom prst="rect">
            <a:avLst/>
          </a:prstGeom>
          <a:ln w="0">
            <a:noFill/>
          </a:ln>
        </p:spPr>
      </p:pic>
      <p:sp>
        <p:nvSpPr>
          <p:cNvPr id="13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It orbits the Sun once in about 225 Earth day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Venus reaches its maximum brightness shortly before sunrise or shortly after sunset, so it is also known as the Morning Star or Evening St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nus is also known as “Sister “ or “Twin” planet to earth because of its similar size &amp; mass to ear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Venus –The Veiled Planet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arth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400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f0"/>
                </a:solidFill>
                <a:latin typeface="Calibri"/>
              </a:rPr>
              <a:t>Earth </a:t>
            </a: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–The </a:t>
            </a:r>
            <a:r>
              <a:rPr b="1" lang="en-US" sz="4400" spc="-1" strike="noStrike">
                <a:solidFill>
                  <a:srgbClr val="00b0f0"/>
                </a:solidFill>
                <a:latin typeface="Calibri"/>
              </a:rPr>
              <a:t>Blue</a:t>
            </a: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 Planet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356000" y="1600200"/>
            <a:ext cx="4330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 is also known as watery planet, because 70% of its surface is covered by wate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 reflects about 1/3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of sunlight it receives .The earth’s atmosphere scatters the light &amp; creates a blue effectn,so it is also called Blue Planet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nly planet having life 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2" descr="A planetary disk of white cloud formations, brown and green land masses, and dark blue oceans against a black background. The Arabian peninsula, Africa and Madagascar lie in the upper half of the disk, while Antarctica is at the bottom."/>
          <p:cNvPicPr/>
          <p:nvPr/>
        </p:nvPicPr>
        <p:blipFill>
          <a:blip r:embed="rId1"/>
          <a:stretch/>
        </p:blipFill>
        <p:spPr>
          <a:xfrm>
            <a:off x="468360" y="2060640"/>
            <a:ext cx="2930400" cy="2932200"/>
          </a:xfrm>
          <a:prstGeom prst="rect">
            <a:avLst/>
          </a:prstGeom>
          <a:ln w="0">
            <a:noFill/>
          </a:ln>
        </p:spPr>
      </p:pic>
      <p:sp>
        <p:nvSpPr>
          <p:cNvPr id="14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C:\Users\Sumitomo\Desktop\MMG\Teaching Kids.png"/>
          <p:cNvPicPr/>
          <p:nvPr/>
        </p:nvPicPr>
        <p:blipFill>
          <a:blip r:embed="rId1"/>
          <a:stretch/>
        </p:blipFill>
        <p:spPr>
          <a:xfrm>
            <a:off x="0" y="2114640"/>
            <a:ext cx="9144000" cy="4843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>
            <a:off x="2556000" y="392040"/>
            <a:ext cx="403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is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ww.makemegenius.c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It orbits the Sun once in about 365 Earth day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 rotates about its own axis, thus creating day &amp; night. It takes 24 hours to do tha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 revolves around sun, due to its tilt ,seasons are creat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ue to gravity, the layer of gases remain attached to it (which is known as atmosphere), it prevents too much heat or UV rays from Sun reaching earth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oon is the only satellite of the Earth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f0"/>
                </a:solidFill>
                <a:latin typeface="Calibri"/>
              </a:rPr>
              <a:t>Earth</a:t>
            </a: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 –The </a:t>
            </a:r>
            <a:r>
              <a:rPr b="1" lang="en-US" sz="4400" spc="-1" strike="noStrike">
                <a:solidFill>
                  <a:srgbClr val="00b0f0"/>
                </a:solidFill>
                <a:latin typeface="Calibri"/>
              </a:rPr>
              <a:t>Blue</a:t>
            </a: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 Planet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oon</a:t>
            </a:r>
            <a:br>
              <a:rPr sz="4000"/>
            </a:br>
            <a:r>
              <a:rPr b="1" lang="en-US" sz="3600" spc="-1" strike="noStrike">
                <a:solidFill>
                  <a:srgbClr val="7030a0"/>
                </a:solidFill>
                <a:latin typeface="Calibri"/>
              </a:rPr>
              <a:t>Not a Planet but the only satellite of the Earth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on –The Earth’s Only Satellit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356000" y="1600200"/>
            <a:ext cx="46087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’s diameter of only  1/4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of the Ear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It looks bigger to us as it is very close to u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moon has no atmosphere ,so there is huge difference between day &amp; night temperature. (127 degree C in Day to -173 degree C in Night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3" descr=""/>
          <p:cNvPicPr/>
          <p:nvPr/>
        </p:nvPicPr>
        <p:blipFill>
          <a:blip r:embed="rId1"/>
          <a:stretch/>
        </p:blipFill>
        <p:spPr>
          <a:xfrm>
            <a:off x="155520" y="2060640"/>
            <a:ext cx="3845160" cy="2881080"/>
          </a:xfrm>
          <a:prstGeom prst="rect">
            <a:avLst/>
          </a:prstGeom>
          <a:ln w="0">
            <a:noFill/>
          </a:ln>
        </p:spPr>
      </p:pic>
      <p:sp>
        <p:nvSpPr>
          <p:cNvPr id="1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 there is no atmosphere, there is no weather, no rain, no wind or clou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ke everything else in Solar System, Moon also does not have its own light . It shines due to Sun’s light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is no water on its surfa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on’s gravity is 1/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Earth, so your weight would be 1/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your weight on the ear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on –The Earth’s Only Satellit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780000" y="1600200"/>
            <a:ext cx="490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Calibri"/>
              </a:rPr>
              <a:t>The Moon is the only celestial body other than Earth on which humans have set foot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IN" sz="2700" spc="-1" strike="noStrike">
                <a:solidFill>
                  <a:srgbClr val="000000"/>
                </a:solidFill>
                <a:latin typeface="Calibri"/>
              </a:rPr>
              <a:t>Neil Armstrong became the first person to walk on the Moon as the commander of the American mission Apollo 11by first setting foot on the Moon  on 21 July 1969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on –The Earth’s Only Satellit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108000" y="1844640"/>
            <a:ext cx="2887560" cy="3097080"/>
          </a:xfrm>
          <a:prstGeom prst="rect">
            <a:avLst/>
          </a:prstGeom>
          <a:ln w="0">
            <a:noFill/>
          </a:ln>
        </p:spPr>
      </p:pic>
      <p:sp>
        <p:nvSpPr>
          <p:cNvPr id="16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ar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400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Mars</a:t>
            </a: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 –The 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Red </a:t>
            </a: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Planet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356000" y="1600200"/>
            <a:ext cx="46087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named after the Roman god of w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It is often described as the "Red Planet", as the iron oxide prevalent on its surface gives it a reddish appea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2" descr="The planet Mars"/>
          <p:cNvPicPr/>
          <p:nvPr/>
        </p:nvPicPr>
        <p:blipFill>
          <a:blip r:embed="rId1"/>
          <a:stretch/>
        </p:blipFill>
        <p:spPr>
          <a:xfrm>
            <a:off x="684360" y="2133720"/>
            <a:ext cx="2739960" cy="2739960"/>
          </a:xfrm>
          <a:prstGeom prst="rect">
            <a:avLst/>
          </a:prstGeom>
          <a:ln w="0">
            <a:noFill/>
          </a:ln>
        </p:spPr>
      </p:pic>
      <p:sp>
        <p:nvSpPr>
          <p:cNvPr id="16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Mars has approximately half the diameter of Ear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  has two satellit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gravity of Mars is half of the earth 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The atmosphere of Mars consists of about 95% carbon dioxide, 3% nitrogen,1.6% argon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and contains some  oxygen and wat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Mars also has the largest</a:t>
            </a:r>
            <a:r>
              <a:rPr b="0" lang="en-IN" sz="3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dust storms in the Solar Syst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Mars</a:t>
            </a: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 –The 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Red </a:t>
            </a: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Planet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Jupite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Jupiter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 –The </a:t>
            </a: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Giant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Planet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356000" y="1600200"/>
            <a:ext cx="46087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named after the Roman god Jupiter (ruler of Roman go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Jupiter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 is the largest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planet within the Solar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has a great Red Spot ,it is rotating storm system inside the plan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2" descr="Jupiter by Cassini-Huygens.jpg"/>
          <p:cNvPicPr/>
          <p:nvPr/>
        </p:nvPicPr>
        <p:blipFill>
          <a:blip r:embed="rId1"/>
          <a:stretch/>
        </p:blipFill>
        <p:spPr>
          <a:xfrm>
            <a:off x="755640" y="1916280"/>
            <a:ext cx="2849400" cy="2751120"/>
          </a:xfrm>
          <a:prstGeom prst="rect">
            <a:avLst/>
          </a:prstGeom>
          <a:ln w="0">
            <a:noFill/>
          </a:ln>
        </p:spPr>
      </p:pic>
      <p:sp>
        <p:nvSpPr>
          <p:cNvPr id="17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Better Understanding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                       of </a:t>
            </a:r>
            <a:r>
              <a:rPr b="0" lang="en-US" sz="4000" spc="-1" strike="noStrike">
                <a:solidFill>
                  <a:srgbClr val="00b0f0"/>
                </a:solidFill>
                <a:latin typeface="Calibri"/>
              </a:rPr>
              <a:t>Solar Syste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-360" y="2332080"/>
            <a:ext cx="9115560" cy="4525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heck o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Vide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n Solar Syste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ww.makemegenius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upiter rotates faster than any other plan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completes one rotation in 10 ho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Jupiter has a faint ring system, these rings appear to be made of du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also a windy planet as the fast rotation causes high wi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has 16 plane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Jupiter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 –The </a:t>
            </a: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Giant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Planet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atur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2400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Saturn –The Jewel Planet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3560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000" spc="-1" strike="noStrike">
                <a:solidFill>
                  <a:srgbClr val="000000"/>
                </a:solidFill>
                <a:latin typeface="Calibri"/>
              </a:rPr>
              <a:t>Saturn</a:t>
            </a: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 is the sixth planet from the Sun and the second largest planet in the Solar System, after Jupiter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It is named after the Roman god Satur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Saturn is classified as a </a:t>
            </a:r>
            <a:r>
              <a:rPr b="0" lang="en-IN" sz="3000" spc="-1" strike="noStrike" u="sng">
                <a:solidFill>
                  <a:srgbClr val="000000"/>
                </a:solidFill>
                <a:uFillTx/>
                <a:latin typeface="Calibri"/>
              </a:rPr>
              <a:t>gas giant</a:t>
            </a: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 plane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544680" y="1916280"/>
            <a:ext cx="3132000" cy="3097080"/>
          </a:xfrm>
          <a:prstGeom prst="rect">
            <a:avLst/>
          </a:prstGeom>
          <a:ln w="0">
            <a:noFill/>
          </a:ln>
        </p:spPr>
      </p:pic>
      <p:sp>
        <p:nvSpPr>
          <p:cNvPr id="187" name="TextBox 3"/>
          <p:cNvSpPr/>
          <p:nvPr/>
        </p:nvSpPr>
        <p:spPr>
          <a:xfrm>
            <a:off x="903600" y="6381720"/>
            <a:ext cx="73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 is the most beautiful planet in solar system because of its spectacular ring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400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Saturn-The Jewel Planet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3928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turn rings are made up of ice &amp; ice covered partic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has 22 known satellites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can be seen by naked ey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turn is 95 times heavier than eart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it takes Saturn 10,759 Earth days (or about 29½ years), to finish one revolution around the Su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Uranu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400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Uranus –A planet on its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3560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Uranus appears to lie on its si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It is named after the Roman god of the sk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nly planet which  rotates on its axis from east to we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Box 4"/>
          <p:cNvSpPr/>
          <p:nvPr/>
        </p:nvSpPr>
        <p:spPr>
          <a:xfrm rot="1976400">
            <a:off x="7215120" y="608400"/>
            <a:ext cx="98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Sid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2" descr="http://upload.wikimedia.org/wikipedia/commons/thumb/e/e4/Uranusandrings.jpg/220px-Uranusandrings.jpg"/>
          <p:cNvPicPr/>
          <p:nvPr/>
        </p:nvPicPr>
        <p:blipFill>
          <a:blip r:embed="rId1"/>
          <a:stretch/>
        </p:blipFill>
        <p:spPr>
          <a:xfrm>
            <a:off x="324000" y="1773360"/>
            <a:ext cx="3311280" cy="3168360"/>
          </a:xfrm>
          <a:prstGeom prst="rect">
            <a:avLst/>
          </a:prstGeom>
          <a:ln w="0">
            <a:noFill/>
          </a:ln>
        </p:spPr>
      </p:pic>
      <p:sp>
        <p:nvSpPr>
          <p:cNvPr id="198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has at least ten thin uniform black rings ,which are made of du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has 27 known satelli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very cold planet ,it receives 370 times less sunlight than Earth as it is far away from sun as compared to Ear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core is very rock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Uranus –A planet on its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Box 4"/>
          <p:cNvSpPr/>
          <p:nvPr/>
        </p:nvSpPr>
        <p:spPr>
          <a:xfrm rot="1976400">
            <a:off x="7394040" y="844560"/>
            <a:ext cx="98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Sid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eptune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2400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Neptune –The Last Giant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3560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ost distant gas plan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It is named after the Roman god of the sea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windy plan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Picture 2" descr="Neptune from Voyager 2"/>
          <p:cNvPicPr/>
          <p:nvPr/>
        </p:nvPicPr>
        <p:blipFill>
          <a:blip r:embed="rId1"/>
          <a:stretch/>
        </p:blipFill>
        <p:spPr>
          <a:xfrm>
            <a:off x="826920" y="2060640"/>
            <a:ext cx="2799000" cy="2752560"/>
          </a:xfrm>
          <a:prstGeom prst="rect">
            <a:avLst/>
          </a:prstGeom>
          <a:ln w="0">
            <a:noFill/>
          </a:ln>
        </p:spPr>
      </p:pic>
      <p:sp>
        <p:nvSpPr>
          <p:cNvPr id="20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’t be seen with naked ey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has 8 known satelli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As it is very far from Sun,it completes an orbit on average every 164.79 yea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The average distance between Neptune and the Sun is 4.50 billion k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Neptune was the first planet found by mathematical predi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Neptune –The Last Giant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Solar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un, its planets and all the objects moving around them collectively are called Solar Syst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olar System is entirely dependent on Sun &amp; the only one which is self- luminous  i.e which has its own ligh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t of the planets reflect the light received from Su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ed b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ubh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ss VIII th , Govt Public School ,Gurga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anks t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oog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&amp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ww.makemegenius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4360" y="2708280"/>
            <a:ext cx="77724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"/>
              </a:rPr>
              <a:t>For </a:t>
            </a:r>
            <a:r>
              <a:rPr b="1" lang="en-US" sz="9600" spc="-1" strike="noStrike">
                <a:solidFill>
                  <a:srgbClr val="ff0000"/>
                </a:solidFill>
                <a:latin typeface="Calibri"/>
              </a:rPr>
              <a:t>Free</a:t>
            </a:r>
            <a:r>
              <a:rPr b="1" lang="en-US" sz="9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9600"/>
            </a:br>
            <a:r>
              <a:rPr b="1" i="1" lang="en-US" sz="9600" spc="-1" strike="noStrike">
                <a:solidFill>
                  <a:srgbClr val="0070c0"/>
                </a:solidFill>
                <a:latin typeface="Calibri"/>
              </a:rPr>
              <a:t>Science Videos</a:t>
            </a:r>
            <a:br>
              <a:rPr sz="9600"/>
            </a:br>
            <a:r>
              <a:rPr b="1" lang="en-US" sz="9600" spc="-1" strike="noStrike">
                <a:solidFill>
                  <a:srgbClr val="000000"/>
                </a:solidFill>
                <a:latin typeface="Calibri"/>
              </a:rPr>
              <a:t>for Kid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Rectangle 2"/>
          <p:cNvSpPr/>
          <p:nvPr/>
        </p:nvSpPr>
        <p:spPr>
          <a:xfrm>
            <a:off x="4569840" y="5516640"/>
            <a:ext cx="266184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ww.makemegenius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0440" y="78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Solar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460440" y="1268280"/>
            <a:ext cx="8215200" cy="5326200"/>
          </a:xfrm>
          <a:prstGeom prst="rect">
            <a:avLst/>
          </a:prstGeom>
          <a:ln w="0">
            <a:noFill/>
          </a:ln>
        </p:spPr>
      </p:pic>
      <p:sp>
        <p:nvSpPr>
          <p:cNvPr id="10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u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400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Sun  –Star of the Solar System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3560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‘s the heaviest among solar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ball of hot ,burning ga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the nearest star to the ear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light from the Sun takes appx. 8 minutes to reach Ear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The Sun by the Atmospheric Imaging Assembly of NASA's Solar Dynamics Observatory - 20100819.jpg"/>
          <p:cNvPicPr/>
          <p:nvPr/>
        </p:nvPicPr>
        <p:blipFill>
          <a:blip r:embed="rId1"/>
          <a:stretch/>
        </p:blipFill>
        <p:spPr>
          <a:xfrm>
            <a:off x="539640" y="2133720"/>
            <a:ext cx="2762280" cy="2638440"/>
          </a:xfrm>
          <a:prstGeom prst="rect">
            <a:avLst/>
          </a:prstGeom>
          <a:ln w="0">
            <a:noFill/>
          </a:ln>
        </p:spPr>
      </p:pic>
      <p:sp>
        <p:nvSpPr>
          <p:cNvPr id="10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the source of all energy for life on Ear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About three quarters of the Sun's mass consists of hydrogen, while the rest is mostly heliu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 the Sun’s surface ,there are dark patches known as sunspots. These are patches of gas that looks dark since they are cooler than their surroundin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Sun  –Star of the Solar System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lan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7T13:56:04Z</dcterms:created>
  <dc:creator>Sumitomo</dc:creator>
  <dc:description/>
  <dc:language>en-US</dc:language>
  <cp:lastModifiedBy>Legion</cp:lastModifiedBy>
  <dcterms:modified xsi:type="dcterms:W3CDTF">2017-01-26T10:17:38Z</dcterms:modified>
  <cp:revision>26</cp:revision>
  <dc:subject/>
  <dc:title>Saturn</dc:title>
</cp:coreProperties>
</file>