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net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ip Through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eart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s is similar to Earth’s soil in many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rge volcanoes (dorm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winds often create dust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falls well below 0 degrees C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30,000 degree C at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Red 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icane-like storm (as much as 20,000 years 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high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he liquid metallic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agne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ed by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icy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t least seven major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ent atmospheric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larg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density of all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st planet to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88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59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-covered surface with steep cli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no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27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17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satur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 C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is 11,000 kilometers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s on its axis at a 90 degre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laying on its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of methane ice surr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ura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of water and liquid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rings surround 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dust particles formed from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neptun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dens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be made primarily of methane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atmosphere (only on the sunn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ice evaporated to for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plut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ve Planet 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P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Motions - The Inn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ercury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ame size a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, cloudy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8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pressure = 91 times more than Earth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ha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 canyons and tall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224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3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becomes trapped beneath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little or no water on Venus’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ve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36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depends on the location, altitude and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y 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A63-1301-4F7E-BAB4-114526A2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82E-0E72-4D9E-8C76-0B4F1222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756-3D4F-4934-8167-7987533A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C52-93AA-4FDA-8B88-461CB3B1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0267-79D8-4B31-8318-B88CEE1B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DB0E-67B8-40EA-A441-73F5F158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6791-6E42-492C-AFDF-E7D9281D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CC6F-9636-49AB-8DBC-58C5C210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1BB2-9AD9-4579-A27D-86A86EB3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E4FD-1231-4C90-82DE-3BCF8300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E708-FE66-49E4-9D0C-7A8F4576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13F-B4B6-4E2B-936B-D63D7967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9447-4E2B-4BED-9745-E7D86250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095B-A8EC-4B95-A331-D1582833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4B1E-620F-42A9-A55A-A1B85DFE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CE1E-B30B-4845-8345-FC5ED256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85FC-CA72-4A66-92C6-0634936E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372-7EE6-4871-96AE-1F21AC83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F5F-8916-4791-A733-F0388A6A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F8A-F2C6-4C07-8698-3FCE7A9D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872-564A-4F13-9365-E889184B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082-4A3F-4361-9820-2F1F6600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8E4-015C-4950-8F1F-9905C714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1D7-E601-45A1-AD82-55E26A9B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F253-E8F5-41AF-8051-D6CCFAF3E3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2363-9B13-4544-82ED-B28CE01879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s.jpl.nasa.gov/planets/welcome/mercury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Planets of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rip Through the Solar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13080" y="594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eart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 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ils is similar to Earth’s soil in many 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large volcanoes (dorma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carbon diox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thin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winds often create dust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e falls well below 0 degrees C all the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3748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1980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cold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30,000 degree C at the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at Red Spo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urricane-like storm (as much as 20,000 years ol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high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ant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d by the liquid metallic lay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ed magnetosphe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8976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ed by 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icy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s at least seven major r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olent atmospheric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co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large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 density of all the plan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sest planet to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88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59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ater-covered surface with steep clif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27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17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361160" y="59436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saturn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 C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mosphere is 11,000 kilometers th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es on its axis at a 90 degree 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ars laying on its s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ngs of methane ice surround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7840" y="594360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ura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ean of water and liquid 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rings surround Neptu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dust particles formed from meteor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360800" y="586728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neptune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st dense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ms to be made primarily of methane 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 atmosphere (only on the sunny si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 ice evaporated to form 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61160" y="586728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pluto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953160" cy="29541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Websi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440" y="2362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 Sca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4720" y="31240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ews of the Solar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82200" y="3809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 Planet T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4720" y="44956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ary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1840" y="518148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bital Motions - The Inner Plan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3">
            <a:hlinkClick r:id="rId1"/>
          </p:cNvPr>
          <p:cNvSpPr/>
          <p:nvPr/>
        </p:nvSpPr>
        <p:spPr>
          <a:xfrm>
            <a:off x="1208160" y="586728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ercury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016000" cy="3781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same size as Ea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ck, cloudy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8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pressure = 91 times more than Earth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has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canyons and tall 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s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224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3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house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t becomes trapped beneath the clou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 in little or no water on Venus’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61880" y="5867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ve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838080" y="1981080"/>
            <a:ext cx="4114800" cy="3962520"/>
            <a:chOff x="838080" y="1981080"/>
            <a:chExt cx="4114800" cy="39625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981080"/>
              <a:ext cx="351468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838080" y="5486400"/>
              <a:ext cx="41148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365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 hou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depends on the location, altitude and s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vy vege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27:46Z</dcterms:created>
  <dc:creator>PISD</dc:creator>
  <dc:description/>
  <dc:language>en-US</dc:language>
  <cp:lastModifiedBy>Legion</cp:lastModifiedBy>
  <dcterms:modified xsi:type="dcterms:W3CDTF">2017-01-26T10:19:04Z</dcterms:modified>
  <cp:revision>20</cp:revision>
  <dc:subject/>
  <dc:title>The Planets of the Solar System</dc:title>
</cp:coreProperties>
</file>