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69FF-250F-4172-ADDB-5BB89F55DB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0FE-D464-4B7B-B679-4592460C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F4C-2719-4295-8EE5-E16CFBE2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679-DB04-49CE-95DC-F17BA9F4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BA1-5276-48C4-893B-EF8EB45C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8C2-6FDD-49E9-8349-0D72BAFB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118-E499-476E-9AA9-3E037A3F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C77-FC60-41FB-9146-E5B75E2F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AAA-E46C-4AF5-BBCC-E9F028A1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061C-7F8A-461C-9829-71AF5BC5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867-63EF-4BEF-80EB-AAD59C03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FB3-2413-4A20-A418-D70917FE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496E-3831-4A50-9CB4-6C795400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772E-5068-425D-AF5E-A128809117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7-01-26T10:22:12Z</dcterms:modified>
  <cp:revision>146</cp:revision>
  <dc:subject/>
  <dc:title>Introduction to Astronomy</dc:title>
</cp:coreProperties>
</file>