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BB82-3D8E-4C33-BC10-7AC576AAD0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nounc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work 7 due tod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k up Homework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test will be next wee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ouncem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mework 7 due tod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ck up Homework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xt test will be next wee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Decay (“Radioactivity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table nuclei spontaneously disintegrate, usually by emitting a helium-4 nucleus (2p+2n) or an electron (converting a neutron into a proto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when any particular nucleus will decay is random and cannot be predict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her, each isotope has its own “half-life,” the time in which a nucleus has a 50% chance of decay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lf-lives range from less than a millisecond (highly unstable isotopes) to billions of years (nearly stable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ium-2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rium-23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ium-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Decay (“Radioactivity”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stable nuclei spontaneously disintegrate, usually by emitting a helium-4 nucleus (2p+2n) or an electron (converting a neutron into a proton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ime when any particular nucleus will decay is random and cannot be predic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ther, each isotope has its own “half-life,” the time in which a nucleus has a 50% chance of decay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f-lives range from less than a millisecond (highly unstable isotopes) to billions of years (nearly stable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anium-23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rium-23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lium-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decay of a large s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decay of a large s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Age D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mall percentage of all natural potassium is the radioactive isotope, potassium-4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a rock ages, its potassium-40 slowly disintegrates, leaving argon-40 atoms behi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gon is never incorporated into igneous crystals as they form, because it is a noble g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fore the ratio of argon-40 to potassium-40 is a direct measure of a rock’s 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sible problem:  Heating a rock can allow trapped argon atoms to escape.  If a rock has been heated, it might be older than we think it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 Potassium-40 decays to Argon-40 with a half-life of 1.4 b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active Age Da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mall percentage of all natural potassium is the radioactive isotope, potassium-4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a rock ages, its potassium-40 slowly disintegrates, leaving argon-40 atoms behin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gon is never incorporated into igneous crystals as they form, because it is a noble ga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fore the ratio of argon-40 to potassium-40 is a direct measure of a rock’s a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sible problem:  Heating a rock can allow trapped argon atoms to escape.  If a rock has been heated, it might be older than we think it 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 Potassium-40 decays to Argon-40 with a half-life of 1.4 billion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active Age D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ington Canyon Complex:                   1.8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est earth rocks:  about 4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est moon rocks:  4.6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meteorites:   4.6 billion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active Age D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rmington Canyon Complex:                   1.8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ldest earth rocks:  about 4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ldest moon rocks:  4.6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meteorites:   4.6 billion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interesting pattern . .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nation:  The earth is made of stuff that’s billions of years old, so short-lived isotopes are long g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interesting pattern . . 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planation:  The earth is made of stuff that’s billions of years old, so short-lived isotopes are long go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answers are not hard to gues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vitational collapse of a cloud of gas and 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rifugal effect gathers material into a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les collide and clump together, eventually forming planets,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vitational collapse of a cloud of gas and du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entrifugal effect gathers material into a di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cles collide and clump together, eventually forming planets, et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we test this theor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uter simu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ok for other example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gle Nebula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an we test this theor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uter simul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 for other examples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gle Nebula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 formation in the Orion Neb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 formation in the Orion Nebu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 the sun, it was too hot for light atoms and molecules to condense into solid clump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n continuously emits high-energy particles (“solar wind”) that can push light atoms out of the inner solar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Jupiter and beyond, it was cold enough for light atoms to condense (and the solar wind was weaker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Detail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 the sun, it was too hot for light atoms and molecules to condense into solid clump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un continuously emits high-energy particles (“solar wind”) that can push light atoms out of the inner solar syst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Jupiter and beyond, it was cold enough for light atoms to condense (and the solar wind was weaker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Detail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Solar System and Oth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 October 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Solar System and Oth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October 200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theory seems to explain it all, but more testing is still require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theory seems to explain it all, but more testing is still required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ther test:  Look for other solar sys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easy:  Other stars are so far away that planets are invi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st current method:  Look for Doppler shift in a star’s spectral lines, indicating wobble due to the gravitational pull of an orbiting plan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method:  Look for periodic dimming of a star, caused by an orbiting planet passing in fro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rther test:  Look for other solar syst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easy:  Other stars are so far away that planets are invisi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st current method:  Look for Doppler shift in a star’s spectral lines, indicating wobble due to the gravitational pull of an orbiting plane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other method:  Look for periodic dimming of a star, caused by an orbiting planet passing in fro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cess!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100 extrasolar planets discovered in last 12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are massive:  comparable to Jupi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are much closer  to their stars than Jupiter.  How is this possible?  Our theory predicts that giant planets should be farther out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our detection method is inherently biased toward these cases, since they produce the greatest stellar wob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ccess! 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gt;100 extrasolar planets discovered in last 12 ye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are massive:  comparable to Jupi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are much closer  to their stars than Jupiter.  How is this possible?  Our theory predicts that giant planets should be farther out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t our detection method is inherently biased toward these cases, since they produce the greatest stellar wob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solar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trasolar plane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y tuned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very active field of research, and better instruments are being planned and bui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pler” telescope, 2008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bb” telescope, 2013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y tuned!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a very active field of research, and better instruments are being planned and buil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epler” telescope, 2008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bb” telescope, 2013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 of the solar system (and a crash course in nuclear physic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ation of the solar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around other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day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e of the solar system (and a crash course in nuclear physic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ets around other sta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ar System 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olar system is very flat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small; outer planets are big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al answers are not hard to gues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old is the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yered rocks imply an age of at least millions of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’s hot interior implies an upper limit on its age (as does sun’s energy outpu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e of the eart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Thomson, Lord Kelv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old is the solar syste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yered rocks imply an age of at least millions of ye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’s hot interior implies an upper limit on its age (as does sun’s energy output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e of the earth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lliam Thomson, Lord Kelv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old is the solar system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et an actual number, we need nuclear phys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chemical element has a different number of electrons (and an equal number of proton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old is the solar syste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get an actual number, we need nuclear physic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ch chemical element has a different number of electrons (and an equal number of proton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ic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es and rarities increase (mostly) toward the bottom of the t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eriodic Tab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sses and rarities increase (mostly) toward the bottom of the tab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element, different numbers of neutrons (hence different mass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 Hydrogen-1 (1p, 0n); Hydrogen-2 (1p, 1n); Uranium-235 (92p, 143n); Uranium-238 (92p, 146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Isoto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me element, different numbers of neutrons (hence different masse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:  Hydrogen-1 (1p, 0n); Hydrogen-2 (1p, 1n); Uranium-235 (92p, 143n); Uranium-238 (92p, 146n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Isot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Isoto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B18A-F1D7-472A-8367-BD7C3FAFB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AA4B-1701-4982-B774-C9E986A95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0278-20AE-4DC3-952F-B5E36CBAB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76AE-5C9B-4F83-A603-F31F353ED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5FAD-289B-41C4-8FC6-72EC3402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2968-287F-474C-8275-38A4D6BE6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1C2D-16BE-4BD5-A6D2-F52F19DBA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1258-7BCB-4FD6-BD7C-5B7B3EBE5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6C06-B768-4EBD-8734-7413A6FF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1322-CA27-4C8B-847E-56B43DA5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BCB1-4F6E-43F8-A0FE-1FDA6CF0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C271-E714-4467-AAC9-811F2E7A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006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2FC2-8891-4EFD-BCB5-14A971FE3B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28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nouncements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87120" y="2342880"/>
            <a:ext cx="65502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mework 7 due tod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k up Homework 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xt test will be next we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Decay (“Radioactivity”)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88600" y="1447560"/>
            <a:ext cx="79455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stable nuclei spontaneously disintegrate, usually by emitting a helium-4 nucleus (2p+2n) or an electron (converting a neutron into a proto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ime when any particular nucleus will decay is random and cannot be predict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ther, each isotope has its own “half-life,” the time in which a nucleus has a 50% chance of decay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lf-lives range from less than a millisecond (highly unstable isotopes) to billions of years (nearly stab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Oval 8"/>
          <p:cNvSpPr/>
          <p:nvPr/>
        </p:nvSpPr>
        <p:spPr>
          <a:xfrm>
            <a:off x="2286000" y="553392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Oval 9"/>
          <p:cNvSpPr/>
          <p:nvPr/>
        </p:nvSpPr>
        <p:spPr>
          <a:xfrm>
            <a:off x="2419200" y="557856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Oval 10"/>
          <p:cNvSpPr/>
          <p:nvPr/>
        </p:nvSpPr>
        <p:spPr>
          <a:xfrm>
            <a:off x="2311560" y="56674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Oval 11"/>
          <p:cNvSpPr/>
          <p:nvPr/>
        </p:nvSpPr>
        <p:spPr>
          <a:xfrm>
            <a:off x="2216160" y="54324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Oval 12"/>
          <p:cNvSpPr/>
          <p:nvPr/>
        </p:nvSpPr>
        <p:spPr>
          <a:xfrm>
            <a:off x="2374920" y="54198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Oval 13"/>
          <p:cNvSpPr/>
          <p:nvPr/>
        </p:nvSpPr>
        <p:spPr>
          <a:xfrm>
            <a:off x="2444760" y="57182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Oval 14"/>
          <p:cNvSpPr/>
          <p:nvPr/>
        </p:nvSpPr>
        <p:spPr>
          <a:xfrm>
            <a:off x="2540160" y="56167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15"/>
          <p:cNvSpPr/>
          <p:nvPr/>
        </p:nvSpPr>
        <p:spPr>
          <a:xfrm>
            <a:off x="2063880" y="54579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16"/>
          <p:cNvSpPr/>
          <p:nvPr/>
        </p:nvSpPr>
        <p:spPr>
          <a:xfrm>
            <a:off x="2152800" y="5667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17"/>
          <p:cNvSpPr/>
          <p:nvPr/>
        </p:nvSpPr>
        <p:spPr>
          <a:xfrm>
            <a:off x="1962000" y="581328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18"/>
          <p:cNvSpPr/>
          <p:nvPr/>
        </p:nvSpPr>
        <p:spPr>
          <a:xfrm>
            <a:off x="2228760" y="576252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Oval 19"/>
          <p:cNvSpPr/>
          <p:nvPr/>
        </p:nvSpPr>
        <p:spPr>
          <a:xfrm>
            <a:off x="2457360" y="58453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20"/>
          <p:cNvSpPr/>
          <p:nvPr/>
        </p:nvSpPr>
        <p:spPr>
          <a:xfrm>
            <a:off x="2495520" y="5451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Oval 21"/>
          <p:cNvSpPr/>
          <p:nvPr/>
        </p:nvSpPr>
        <p:spPr>
          <a:xfrm>
            <a:off x="2305080" y="53308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22"/>
          <p:cNvSpPr/>
          <p:nvPr/>
        </p:nvSpPr>
        <p:spPr>
          <a:xfrm>
            <a:off x="2013120" y="56800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Oval 23"/>
          <p:cNvSpPr/>
          <p:nvPr/>
        </p:nvSpPr>
        <p:spPr>
          <a:xfrm>
            <a:off x="1994040" y="55468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val 24"/>
          <p:cNvSpPr/>
          <p:nvPr/>
        </p:nvSpPr>
        <p:spPr>
          <a:xfrm>
            <a:off x="2158920" y="53182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Oval 25"/>
          <p:cNvSpPr/>
          <p:nvPr/>
        </p:nvSpPr>
        <p:spPr>
          <a:xfrm>
            <a:off x="2603520" y="55278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26"/>
          <p:cNvSpPr/>
          <p:nvPr/>
        </p:nvSpPr>
        <p:spPr>
          <a:xfrm>
            <a:off x="2158920" y="55594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Oval 27"/>
          <p:cNvSpPr/>
          <p:nvPr/>
        </p:nvSpPr>
        <p:spPr>
          <a:xfrm>
            <a:off x="2476440" y="53182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28"/>
          <p:cNvSpPr/>
          <p:nvPr/>
        </p:nvSpPr>
        <p:spPr>
          <a:xfrm>
            <a:off x="2343240" y="5826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29"/>
          <p:cNvSpPr/>
          <p:nvPr/>
        </p:nvSpPr>
        <p:spPr>
          <a:xfrm>
            <a:off x="2565360" y="57499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Oval 30"/>
          <p:cNvSpPr/>
          <p:nvPr/>
        </p:nvSpPr>
        <p:spPr>
          <a:xfrm>
            <a:off x="1873080" y="563580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Oval 31"/>
          <p:cNvSpPr/>
          <p:nvPr/>
        </p:nvSpPr>
        <p:spPr>
          <a:xfrm>
            <a:off x="2101680" y="58006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2"/>
          <p:cNvSpPr/>
          <p:nvPr/>
        </p:nvSpPr>
        <p:spPr>
          <a:xfrm>
            <a:off x="2070000" y="593424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Oval 33"/>
          <p:cNvSpPr/>
          <p:nvPr/>
        </p:nvSpPr>
        <p:spPr>
          <a:xfrm>
            <a:off x="2209680" y="588312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34"/>
          <p:cNvSpPr/>
          <p:nvPr/>
        </p:nvSpPr>
        <p:spPr>
          <a:xfrm>
            <a:off x="2013120" y="52927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val 35"/>
          <p:cNvSpPr/>
          <p:nvPr/>
        </p:nvSpPr>
        <p:spPr>
          <a:xfrm>
            <a:off x="1924200" y="54198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36"/>
          <p:cNvSpPr/>
          <p:nvPr/>
        </p:nvSpPr>
        <p:spPr>
          <a:xfrm>
            <a:off x="2381400" y="52419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Oval 37"/>
          <p:cNvSpPr/>
          <p:nvPr/>
        </p:nvSpPr>
        <p:spPr>
          <a:xfrm>
            <a:off x="2241720" y="52102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Oval 38"/>
          <p:cNvSpPr/>
          <p:nvPr/>
        </p:nvSpPr>
        <p:spPr>
          <a:xfrm>
            <a:off x="1828800" y="5502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Oval 39"/>
          <p:cNvSpPr/>
          <p:nvPr/>
        </p:nvSpPr>
        <p:spPr>
          <a:xfrm>
            <a:off x="1873080" y="53182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Oval 40"/>
          <p:cNvSpPr/>
          <p:nvPr/>
        </p:nvSpPr>
        <p:spPr>
          <a:xfrm>
            <a:off x="1828800" y="5769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41"/>
          <p:cNvSpPr/>
          <p:nvPr/>
        </p:nvSpPr>
        <p:spPr>
          <a:xfrm>
            <a:off x="1943280" y="595296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val 42"/>
          <p:cNvSpPr/>
          <p:nvPr/>
        </p:nvSpPr>
        <p:spPr>
          <a:xfrm>
            <a:off x="2362320" y="595296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Oval 43"/>
          <p:cNvSpPr/>
          <p:nvPr/>
        </p:nvSpPr>
        <p:spPr>
          <a:xfrm>
            <a:off x="1752480" y="56293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Oval 44"/>
          <p:cNvSpPr/>
          <p:nvPr/>
        </p:nvSpPr>
        <p:spPr>
          <a:xfrm>
            <a:off x="2577960" y="588960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Oval 45"/>
          <p:cNvSpPr/>
          <p:nvPr/>
        </p:nvSpPr>
        <p:spPr>
          <a:xfrm>
            <a:off x="2463840" y="59976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Oval 46"/>
          <p:cNvSpPr/>
          <p:nvPr/>
        </p:nvSpPr>
        <p:spPr>
          <a:xfrm>
            <a:off x="2273400" y="60166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Oval 47"/>
          <p:cNvSpPr/>
          <p:nvPr/>
        </p:nvSpPr>
        <p:spPr>
          <a:xfrm>
            <a:off x="2139840" y="605484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Oval 48"/>
          <p:cNvSpPr/>
          <p:nvPr/>
        </p:nvSpPr>
        <p:spPr>
          <a:xfrm>
            <a:off x="4876920" y="553392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Oval 49"/>
          <p:cNvSpPr/>
          <p:nvPr/>
        </p:nvSpPr>
        <p:spPr>
          <a:xfrm>
            <a:off x="5010120" y="557856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Oval 50"/>
          <p:cNvSpPr/>
          <p:nvPr/>
        </p:nvSpPr>
        <p:spPr>
          <a:xfrm>
            <a:off x="4902120" y="56674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Oval 51"/>
          <p:cNvSpPr/>
          <p:nvPr/>
        </p:nvSpPr>
        <p:spPr>
          <a:xfrm>
            <a:off x="4813200" y="540072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Oval 52"/>
          <p:cNvSpPr/>
          <p:nvPr/>
        </p:nvSpPr>
        <p:spPr>
          <a:xfrm>
            <a:off x="4965840" y="54324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Oval 53"/>
          <p:cNvSpPr/>
          <p:nvPr/>
        </p:nvSpPr>
        <p:spPr>
          <a:xfrm>
            <a:off x="5035680" y="57182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54"/>
          <p:cNvSpPr/>
          <p:nvPr/>
        </p:nvSpPr>
        <p:spPr>
          <a:xfrm>
            <a:off x="5149800" y="562284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55"/>
          <p:cNvSpPr/>
          <p:nvPr/>
        </p:nvSpPr>
        <p:spPr>
          <a:xfrm>
            <a:off x="4680000" y="54514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56"/>
          <p:cNvSpPr/>
          <p:nvPr/>
        </p:nvSpPr>
        <p:spPr>
          <a:xfrm>
            <a:off x="4762440" y="568008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Oval 57"/>
          <p:cNvSpPr/>
          <p:nvPr/>
        </p:nvSpPr>
        <p:spPr>
          <a:xfrm>
            <a:off x="4565520" y="58006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Oval 58"/>
          <p:cNvSpPr/>
          <p:nvPr/>
        </p:nvSpPr>
        <p:spPr>
          <a:xfrm>
            <a:off x="4851360" y="579420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59"/>
          <p:cNvSpPr/>
          <p:nvPr/>
        </p:nvSpPr>
        <p:spPr>
          <a:xfrm>
            <a:off x="5079960" y="58579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Oval 60"/>
          <p:cNvSpPr/>
          <p:nvPr/>
        </p:nvSpPr>
        <p:spPr>
          <a:xfrm>
            <a:off x="6494400" y="572616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Oval 61"/>
          <p:cNvSpPr/>
          <p:nvPr/>
        </p:nvSpPr>
        <p:spPr>
          <a:xfrm>
            <a:off x="4908600" y="52992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Oval 62"/>
          <p:cNvSpPr/>
          <p:nvPr/>
        </p:nvSpPr>
        <p:spPr>
          <a:xfrm>
            <a:off x="4635360" y="568008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63"/>
          <p:cNvSpPr/>
          <p:nvPr/>
        </p:nvSpPr>
        <p:spPr>
          <a:xfrm>
            <a:off x="4584600" y="554688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Oval 64"/>
          <p:cNvSpPr/>
          <p:nvPr/>
        </p:nvSpPr>
        <p:spPr>
          <a:xfrm>
            <a:off x="4749840" y="53118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Oval 65"/>
          <p:cNvSpPr/>
          <p:nvPr/>
        </p:nvSpPr>
        <p:spPr>
          <a:xfrm>
            <a:off x="6589800" y="56498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Oval 66"/>
          <p:cNvSpPr/>
          <p:nvPr/>
        </p:nvSpPr>
        <p:spPr>
          <a:xfrm>
            <a:off x="4737240" y="555300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Oval 67"/>
          <p:cNvSpPr/>
          <p:nvPr/>
        </p:nvSpPr>
        <p:spPr>
          <a:xfrm>
            <a:off x="5067360" y="535608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68"/>
          <p:cNvSpPr/>
          <p:nvPr/>
        </p:nvSpPr>
        <p:spPr>
          <a:xfrm>
            <a:off x="4965840" y="58453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Oval 69"/>
          <p:cNvSpPr/>
          <p:nvPr/>
        </p:nvSpPr>
        <p:spPr>
          <a:xfrm>
            <a:off x="5156280" y="574992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70"/>
          <p:cNvSpPr/>
          <p:nvPr/>
        </p:nvSpPr>
        <p:spPr>
          <a:xfrm>
            <a:off x="4495680" y="565452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71"/>
          <p:cNvSpPr/>
          <p:nvPr/>
        </p:nvSpPr>
        <p:spPr>
          <a:xfrm>
            <a:off x="4705200" y="5819760"/>
            <a:ext cx="14472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Oval 72"/>
          <p:cNvSpPr/>
          <p:nvPr/>
        </p:nvSpPr>
        <p:spPr>
          <a:xfrm>
            <a:off x="4667400" y="59342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Oval 73"/>
          <p:cNvSpPr/>
          <p:nvPr/>
        </p:nvSpPr>
        <p:spPr>
          <a:xfrm>
            <a:off x="4832280" y="590220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74"/>
          <p:cNvSpPr/>
          <p:nvPr/>
        </p:nvSpPr>
        <p:spPr>
          <a:xfrm>
            <a:off x="4622760" y="53308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75"/>
          <p:cNvSpPr/>
          <p:nvPr/>
        </p:nvSpPr>
        <p:spPr>
          <a:xfrm>
            <a:off x="4514760" y="541980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76"/>
          <p:cNvSpPr/>
          <p:nvPr/>
        </p:nvSpPr>
        <p:spPr>
          <a:xfrm>
            <a:off x="5010120" y="524844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77"/>
          <p:cNvSpPr/>
          <p:nvPr/>
        </p:nvSpPr>
        <p:spPr>
          <a:xfrm>
            <a:off x="4800600" y="519732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78"/>
          <p:cNvSpPr/>
          <p:nvPr/>
        </p:nvSpPr>
        <p:spPr>
          <a:xfrm>
            <a:off x="4438800" y="5514840"/>
            <a:ext cx="14436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Oval 79"/>
          <p:cNvSpPr/>
          <p:nvPr/>
        </p:nvSpPr>
        <p:spPr>
          <a:xfrm>
            <a:off x="4476600" y="5292720"/>
            <a:ext cx="14472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80"/>
          <p:cNvSpPr/>
          <p:nvPr/>
        </p:nvSpPr>
        <p:spPr>
          <a:xfrm>
            <a:off x="4419720" y="576900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81"/>
          <p:cNvSpPr/>
          <p:nvPr/>
        </p:nvSpPr>
        <p:spPr>
          <a:xfrm>
            <a:off x="4527720" y="592776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82"/>
          <p:cNvSpPr/>
          <p:nvPr/>
        </p:nvSpPr>
        <p:spPr>
          <a:xfrm>
            <a:off x="4978440" y="5972040"/>
            <a:ext cx="14436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83"/>
          <p:cNvSpPr/>
          <p:nvPr/>
        </p:nvSpPr>
        <p:spPr>
          <a:xfrm>
            <a:off x="4349880" y="5616720"/>
            <a:ext cx="144360" cy="144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84"/>
          <p:cNvSpPr/>
          <p:nvPr/>
        </p:nvSpPr>
        <p:spPr>
          <a:xfrm>
            <a:off x="5099040" y="548964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85"/>
          <p:cNvSpPr/>
          <p:nvPr/>
        </p:nvSpPr>
        <p:spPr>
          <a:xfrm>
            <a:off x="6405480" y="5630760"/>
            <a:ext cx="144720" cy="14472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Oval 86"/>
          <p:cNvSpPr/>
          <p:nvPr/>
        </p:nvSpPr>
        <p:spPr>
          <a:xfrm>
            <a:off x="4762440" y="6004080"/>
            <a:ext cx="144360" cy="144360"/>
          </a:xfrm>
          <a:prstGeom prst="ellipse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87"/>
          <p:cNvSpPr/>
          <p:nvPr/>
        </p:nvSpPr>
        <p:spPr>
          <a:xfrm>
            <a:off x="6507000" y="5541840"/>
            <a:ext cx="144720" cy="144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88"/>
          <p:cNvSpPr/>
          <p:nvPr/>
        </p:nvSpPr>
        <p:spPr>
          <a:xfrm>
            <a:off x="3030480" y="5678640"/>
            <a:ext cx="1033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89"/>
          <p:cNvSpPr/>
          <p:nvPr/>
        </p:nvSpPr>
        <p:spPr>
          <a:xfrm>
            <a:off x="5659560" y="5462640"/>
            <a:ext cx="50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90"/>
          <p:cNvSpPr/>
          <p:nvPr/>
        </p:nvSpPr>
        <p:spPr>
          <a:xfrm>
            <a:off x="1433520" y="6229440"/>
            <a:ext cx="17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anium-23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91"/>
          <p:cNvSpPr/>
          <p:nvPr/>
        </p:nvSpPr>
        <p:spPr>
          <a:xfrm>
            <a:off x="4022640" y="6210360"/>
            <a:ext cx="179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orium-23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92"/>
          <p:cNvSpPr/>
          <p:nvPr/>
        </p:nvSpPr>
        <p:spPr>
          <a:xfrm>
            <a:off x="6005520" y="6229440"/>
            <a:ext cx="17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lium-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decay of a large sample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175" name="Picture 5" descr="&#13;halflife1.gif  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781280" y="1360440"/>
            <a:ext cx="5661000" cy="475632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Radioactive Age Dating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88600" y="2280960"/>
            <a:ext cx="794556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small percentage of all natural potassium is the radioactive isotope, potassium-4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 a rock ages, its potassium-40 slowly disintegrates, leaving argon-40 atoms behin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gon is never incorporated into igneous crystals as they form, because it is a noble g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 the ratio of argon-40 to potassium-40 is a direct measure of a rock’s ag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sible problem:  Heating a rock can allow trapped argon atoms to escape.  If a rock has been heated, it might be older than we think it 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89"/>
          <p:cNvSpPr/>
          <p:nvPr/>
        </p:nvSpPr>
        <p:spPr>
          <a:xfrm>
            <a:off x="1025640" y="1287360"/>
            <a:ext cx="731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:  Potassium-40 decays to Argon-40 with a half-life of 1.4 billion y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Radioactive Age Dat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07880" y="1736280"/>
            <a:ext cx="340992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rmington Canyon Complex:                   1.8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dest earth rocks:  about 4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ldest moon rocks:  4.6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meteorites:   4.6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Picture 5" descr="_x0011_ThurstonRidge.jpg                                              0000BE59_x0008_OS9 disk                       B98E62DA:"/>
          <p:cNvPicPr/>
          <p:nvPr/>
        </p:nvPicPr>
        <p:blipFill>
          <a:blip r:embed="rId1"/>
          <a:srcRect l="0" t="32329" r="0" b="14548"/>
          <a:stretch/>
        </p:blipFill>
        <p:spPr>
          <a:xfrm>
            <a:off x="4035600" y="1527120"/>
            <a:ext cx="2263680" cy="1603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_x001a_earth_nearly_full-NASA.jpg                                     0000CDBA_x0008_OS9 disk                       B98E62DA:"/>
          <p:cNvPicPr/>
          <p:nvPr/>
        </p:nvPicPr>
        <p:blipFill>
          <a:blip r:embed="rId2"/>
          <a:stretch/>
        </p:blipFill>
        <p:spPr>
          <a:xfrm>
            <a:off x="6407280" y="2651040"/>
            <a:ext cx="2482560" cy="1819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_x0008_moon.jpg                                                       0000CDBA_x0008_OS9 disk                       B98E62DA:"/>
          <p:cNvPicPr/>
          <p:nvPr/>
        </p:nvPicPr>
        <p:blipFill>
          <a:blip r:embed="rId3"/>
          <a:stretch/>
        </p:blipFill>
        <p:spPr>
          <a:xfrm>
            <a:off x="4414680" y="3873600"/>
            <a:ext cx="1567080" cy="17175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8" descr="_x0008_0826.jpg                                                       0000D64D_x0008_OS9 disk                       B98E62DA:"/>
          <p:cNvPicPr/>
          <p:nvPr/>
        </p:nvPicPr>
        <p:blipFill>
          <a:blip r:embed="rId4">
            <a:lum contrast="36000"/>
          </a:blip>
          <a:srcRect l="0" t="0" r="0" b="5906"/>
          <a:stretch/>
        </p:blipFill>
        <p:spPr>
          <a:xfrm>
            <a:off x="6391440" y="4883040"/>
            <a:ext cx="2533320" cy="181620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Another interesting pattern . . .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07520" y="1736280"/>
            <a:ext cx="836316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ranium 238 (half-life 4.5 billion years) is 140 times more common than uranium-235 (half-life 0.7 billion years).  Other isotopes of uranium are not found on earth, although some have half-lives in the millions of yea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ments heavier than uranium do not occur naturally at all on earth.  The longest-lived example is an isotope of plutonium with a half-life of 80 million yea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the hundreds of isotopes with half-lives under 100 million years, only a few are found naturally on earth.  These are being formed continuously by decay of heavier isotopes or cosmic ray bombard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nation:  The earth is made of stuff that’s billions of years old, so short-lived isotopes are long g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ormation of the Solar System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98080" y="1569600"/>
            <a:ext cx="376092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vitational collapse of a cloud of gas and d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ntrifugal effect gathers material into a d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cles collide and clump together, eventually forming planet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Picture 4" descr="_x001f_formation_solar_system#DA00.jpg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4367160" y="1344600"/>
            <a:ext cx="4546800" cy="520848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can we test this theory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3560" y="1496520"/>
            <a:ext cx="4613040" cy="14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 simula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ok for other examples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Picture 5" descr="_x0013_EagleNebulaFull.jpg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87280" y="3281400"/>
            <a:ext cx="2332080" cy="2755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_x0014_eagle-neb-Hubble.jpg      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2755800" y="3173400"/>
            <a:ext cx="2851200" cy="28130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_x0016_EagleHubbleCloseup.jpg                                         0000D9E3_x0008_OS9 disk                       B98E62DA:"/>
          <p:cNvPicPr/>
          <p:nvPr/>
        </p:nvPicPr>
        <p:blipFill>
          <a:blip r:embed="rId3"/>
          <a:stretch/>
        </p:blipFill>
        <p:spPr>
          <a:xfrm>
            <a:off x="5748480" y="3417840"/>
            <a:ext cx="3124080" cy="23590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8"/>
          <p:cNvSpPr/>
          <p:nvPr/>
        </p:nvSpPr>
        <p:spPr>
          <a:xfrm>
            <a:off x="3157560" y="6138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gle Nebul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80680" y="380520"/>
            <a:ext cx="799164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tar formation in the Orion Nebula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206" name="Picture 9" descr="_x0015_orion_spinelli_c1.jpg                                          0000D9E3_x0008_OS9 disk                       B98E62DA:"/>
          <p:cNvPicPr/>
          <p:nvPr/>
        </p:nvPicPr>
        <p:blipFill>
          <a:blip r:embed="rId1"/>
          <a:srcRect l="17960" t="0" r="21217" b="0"/>
          <a:stretch/>
        </p:blipFill>
        <p:spPr>
          <a:xfrm>
            <a:off x="304920" y="2055960"/>
            <a:ext cx="2340000" cy="32922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0" descr="_x0018_orionNeb2_gendler_c1.jpg  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2766960" y="1749600"/>
            <a:ext cx="3765600" cy="3981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1" descr="_x001a_OrionProtostarPhotoHST.jpg                                     0000D9E3_x0008_OS9 disk                       B98E62DA:"/>
          <p:cNvPicPr/>
          <p:nvPr/>
        </p:nvPicPr>
        <p:blipFill>
          <a:blip r:embed="rId3"/>
          <a:stretch/>
        </p:blipFill>
        <p:spPr>
          <a:xfrm>
            <a:off x="6683400" y="2941560"/>
            <a:ext cx="2082600" cy="144792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Formation of the Solar System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15520" y="2185560"/>
            <a:ext cx="7915320" cy="42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 the sun, it was too hot for light atoms and molecules to condense into solid clump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un continuously emits high-energy particles (“solar wind”) that can push light atoms out of the inner solar syst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 Jupiter and beyond, it was cold enough for light atoms to condense (and the solar wind was weaker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3935520" y="135900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Detail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938760"/>
            <a:ext cx="791064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ur Solar System and Others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4952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 October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Picture 21" descr="_x0014_eagle-neb-Hubble.jpg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970360" y="558720"/>
            <a:ext cx="3147840" cy="310536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r theory seems to explain it all, but more testing is still required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1520" y="398160"/>
            <a:ext cx="822636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ebf1"/>
                </a:solidFill>
                <a:latin typeface="Arial"/>
              </a:rPr>
              <a:t>Further test:  Look for other solar systems</a:t>
            </a:r>
            <a:endParaRPr b="0" lang="en-US" sz="32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ot eas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 Other stars are so far away that planets are invis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st current method:  Look for Doppler shift in a star’s spectral lines, indicating wobble due to the gravitational pull of an orbiting plan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other method:  Look for periodic dimming of a star, caused by an orbiting planet passing in fro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Picture 4" descr="_x000f_SunSpectrum.jpg                                                0000D9E3_x0008_OS9 disk                       B98E62DA:"/>
          <p:cNvPicPr/>
          <p:nvPr/>
        </p:nvPicPr>
        <p:blipFill>
          <a:blip r:embed="rId1"/>
          <a:srcRect l="0" t="9837" r="0" b="5320"/>
          <a:stretch/>
        </p:blipFill>
        <p:spPr>
          <a:xfrm>
            <a:off x="4657680" y="3483000"/>
            <a:ext cx="3584520" cy="20271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_x0008_0906.jpg                                                       0000DA0D_x0008_OS9 disk                       B98E62DA:"/>
          <p:cNvPicPr/>
          <p:nvPr/>
        </p:nvPicPr>
        <p:blipFill>
          <a:blip r:embed="rId2"/>
          <a:srcRect l="0" t="0" r="0" b="5791"/>
          <a:stretch/>
        </p:blipFill>
        <p:spPr>
          <a:xfrm>
            <a:off x="1062000" y="3430440"/>
            <a:ext cx="3314880" cy="203364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1520" y="398520"/>
            <a:ext cx="8226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uccess!  </a:t>
            </a:r>
            <a:br>
              <a:rPr sz="4000"/>
            </a:br>
            <a:r>
              <a:rPr b="0" lang="en-US" sz="2400" spc="-1" strike="noStrike">
                <a:solidFill>
                  <a:srgbClr val="e3ebf1"/>
                </a:solidFill>
                <a:latin typeface="Arial"/>
              </a:rPr>
              <a:t>&gt;100 extrasolar planets discovered in last 12 years</a:t>
            </a:r>
            <a:endParaRPr b="0" lang="en-US" sz="2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88600" y="1960200"/>
            <a:ext cx="7916760" cy="44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are massive:  comparable to Jupi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are much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loser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their stars than Jupiter.  How is this possible?  Our theory predicts that giant planets should be farther ou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t our detection method is inherently biased toward these cases, since they produce the greatest stellar wob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1520" y="323640"/>
            <a:ext cx="822636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Extrasolar planet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226" name="Picture 3" descr="_x0008_09CO.jpg                                                       0000DA0D_x0008_OS9 disk                       B98E62DA:"/>
          <p:cNvPicPr/>
          <p:nvPr/>
        </p:nvPicPr>
        <p:blipFill>
          <a:blip r:embed="rId1"/>
          <a:stretch/>
        </p:blipFill>
        <p:spPr>
          <a:xfrm>
            <a:off x="2535120" y="1122480"/>
            <a:ext cx="4102200" cy="554976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1520" y="398520"/>
            <a:ext cx="8226360" cy="13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tay tuned!  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179360" y="1704960"/>
            <a:ext cx="68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a very active field of research, and better instruments are being planned and bui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6" descr="_x001b_JamesWebbSpaceTelescope.jpg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5016600" y="2928960"/>
            <a:ext cx="3663720" cy="31338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_x001a_kepler_mission_drawing.jpg                                     0000D9E3_x0008_OS9 disk                       B98E62DA:"/>
          <p:cNvPicPr/>
          <p:nvPr/>
        </p:nvPicPr>
        <p:blipFill>
          <a:blip r:embed="rId2"/>
          <a:stretch/>
        </p:blipFill>
        <p:spPr>
          <a:xfrm>
            <a:off x="417600" y="2909880"/>
            <a:ext cx="4151160" cy="325296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8"/>
          <p:cNvSpPr/>
          <p:nvPr/>
        </p:nvSpPr>
        <p:spPr>
          <a:xfrm>
            <a:off x="642960" y="6270480"/>
            <a:ext cx="40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pler” telescope, 2008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929120" y="6270480"/>
            <a:ext cx="40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b” telescope, 2013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3168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oday: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90440" y="2079360"/>
            <a:ext cx="736776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ar system patter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 of the solar system (and a crash course in nuclear physic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ion of the solar syst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anets around other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Solar System Pattern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88600" y="1379160"/>
            <a:ext cx="791676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olar system is very flat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arly all the planets orbit and spin in the same direction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small; outer planets are big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are mostly solid; outer planets are mostly gas and liquid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ner planets have little hydrogen and helium; outer planets have lots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ial answers are not hard to gues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iled answers require an account of how the solar system form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old is the solar system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88960" y="2064960"/>
            <a:ext cx="4587840" cy="42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yered rocks imply an age of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at lea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illions of year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rth’s hot interior implies an upper limit on its age (as does sun’s energy output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3" name="Picture 4" descr="_x0010_Grand Canyon.jpg                                               0000CDBA_x0008_OS9 disk                       B98E62DA:"/>
          <p:cNvPicPr/>
          <p:nvPr/>
        </p:nvPicPr>
        <p:blipFill>
          <a:blip r:embed="rId1"/>
          <a:stretch/>
        </p:blipFill>
        <p:spPr>
          <a:xfrm>
            <a:off x="5329080" y="1387440"/>
            <a:ext cx="3102120" cy="2565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1270080" y="1371600"/>
            <a:ext cx="333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 of the eart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6" descr="_x000e_LordKelvin.jpg                                                 0000D9E3_x0008_OS9 disk                       B98E62DA:"/>
          <p:cNvPicPr/>
          <p:nvPr/>
        </p:nvPicPr>
        <p:blipFill>
          <a:blip r:embed="rId2"/>
          <a:srcRect l="0" t="0" r="0" b="14387"/>
          <a:stretch/>
        </p:blipFill>
        <p:spPr>
          <a:xfrm>
            <a:off x="5943600" y="4175280"/>
            <a:ext cx="1962000" cy="21542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7"/>
          <p:cNvSpPr/>
          <p:nvPr/>
        </p:nvSpPr>
        <p:spPr>
          <a:xfrm>
            <a:off x="5356080" y="6396120"/>
            <a:ext cx="340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lliam Thomson, Lord Kelv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old is the solar system?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69" name="Picture 9" descr="_x000f_AtomCartoon.jpg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940040" y="1976400"/>
            <a:ext cx="5317920" cy="332424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0"/>
          <p:cNvSpPr/>
          <p:nvPr/>
        </p:nvSpPr>
        <p:spPr>
          <a:xfrm>
            <a:off x="1089000" y="1325520"/>
            <a:ext cx="72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get an actual number, we need nuclear physic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1163520" y="5715000"/>
            <a:ext cx="734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chemical element has a different number of electrons (and an equal number of proton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The Periodic Table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163520" y="5715000"/>
            <a:ext cx="734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ses and rarities increase (mostly) toward the bottom of the 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6" descr="_x0011_PeriodicTable.gif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750960" y="1390680"/>
            <a:ext cx="7632720" cy="413388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Isotop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pic>
        <p:nvPicPr>
          <p:cNvPr id="78" name="Picture 3" descr="_x000f_AtomCartoon.jpg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2122560" y="2249640"/>
            <a:ext cx="4881600" cy="3051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853920" y="1325520"/>
            <a:ext cx="767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me element, different numbers of neutrons (hence different mass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709560" y="5715000"/>
            <a:ext cx="76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  Hydrogen-1 (1p, 0n); Hydrogen-2 (1p, 1n); Uranium-235 (92p, 143n); Uranium-238 (92p, 146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981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Nuclear Isotopes</a:t>
            </a:r>
            <a:endParaRPr b="0" lang="en-US" sz="40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901800" y="5424480"/>
            <a:ext cx="760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all the thousands of possible isotopes, only a few hundred are stable.  These tend to have slightly more neutrons than protons.  Others spontaneously dec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7" descr="_x000c_nucchrt2.gif                                                   0000D9E3_x0008_OS9 disk                       B98E62DA:"/>
          <p:cNvPicPr/>
          <p:nvPr/>
        </p:nvPicPr>
        <p:blipFill>
          <a:blip r:embed="rId1"/>
          <a:stretch/>
        </p:blipFill>
        <p:spPr>
          <a:xfrm>
            <a:off x="1806480" y="1343160"/>
            <a:ext cx="5553000" cy="386532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05:06:36Z</dcterms:created>
  <dc:creator>WSU</dc:creator>
  <dc:description/>
  <dc:language>en-US</dc:language>
  <cp:lastModifiedBy>Legion</cp:lastModifiedBy>
  <dcterms:modified xsi:type="dcterms:W3CDTF">2017-01-26T10:22:12Z</dcterms:modified>
  <cp:revision>146</cp:revision>
  <dc:subject/>
  <dc:title>Introduction to Astronomy</dc:title>
</cp:coreProperties>
</file>