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0C72-9FEA-4ACC-83B2-5210CBF6A3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surviv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and was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urv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and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s of today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be able to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ways in which a mammal gains and loses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e that the kidneys are the main organs for regulating the water content in a mamm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in the role of ADH in the regulation of water bal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of toda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ways in which a mammal gains and loses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at the kidneys are the main organs for regulating the water content in a mam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ADH in the regulation of water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 % of our bodies are water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% of our bodies ar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gain liquid from…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l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ffe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u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itself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od?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reactions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ain liquid from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t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+ oxygen  Water + Carbon  + energ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dioxi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  Water + Carbon  + energ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lose water through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ea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(kidney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eces (easily expell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ose water throug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(kidney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eces (easily expell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bal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% of our bodies are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s constant due to our kidneys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nking lots of water =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ts of pe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nking little water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ttle pe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% of our bodies a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ys constant due to our kidney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pe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ittle water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pe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dneys are controlled by anti-diuretic hormone (ADH) released from the pituitary gland (attached to brain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H (a hormone) controls volume of water reabsorbed and returned to bloodstream by kidney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not reabsorbed passes to bladder as urine to be expell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s are controlled by anti-diuretic hormone (ADH) released from the pituitary gland (attached to br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 (a hormone) controls volume of water reabsorbed and returned to bloodstream by kidne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not reabsorbed passes to bladder as urine to be expe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blood norm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of the blood HI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lood 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o much water dru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o much sal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swea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in produ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in produc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 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 volume of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volume of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mall volum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ntrated urin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arge volum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urin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blood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of the blood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 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water dru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s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rodu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volume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volume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mall volum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ed ur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arge volum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ute ur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9D1F-251D-4DA6-8977-B353202D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4325-7384-4725-9FB4-7F2D9C91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C809-4CBB-4283-97BC-F4C63FD3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3CFD-0A0E-4E5F-9C2B-3F732AD0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F61A4-45F4-4CBA-9039-2B119E0D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2C735-2F92-4A0D-948F-C0BA811C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F7EA2-A02A-4AC5-96C7-B50A7ECE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3FA26-96CF-42B2-8A91-6BADE345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EDE84-4B7D-43FB-9992-701CDE0F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A4431-99A0-4880-981D-027F94E3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639D4-2288-4492-B169-8A2A501B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71E6-AFE2-46B4-ADF2-2207457A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19123-BC43-4196-8DC0-5990DD32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7EC83-7729-4918-BD5D-CBE6EFA5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31CD5-E95A-4421-815D-9B4F4FC7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1F0EA-3073-49D1-8F9E-DDB268FF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3996A-C9CD-4C38-9E8F-D605F88B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8BF3-5B8B-4F08-B3E4-E563FACD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C9AF-A838-4C8B-A1F4-586165C7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91C5-50F9-4FA5-A68C-4B33A808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52D0-2FB7-4176-93BF-ED90635D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5759-369B-4958-9DD9-9CE89421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C121-F81F-44D0-9A35-AC5DA827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90A3-F2C9-4F27-B673-030333FF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FFA1-922A-4AE6-B8FA-F8866CD84A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7438-912E-4E84-82F5-885F0982891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ffffff"/>
                </a:solidFill>
                <a:latin typeface="Tahoma"/>
              </a:rPr>
              <a:t>Animal survival</a:t>
            </a:r>
            <a:endParaRPr b="0" lang="en-US" sz="10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f"/>
                </a:solidFill>
                <a:latin typeface="Tahoma"/>
              </a:rPr>
              <a:t>Water and waste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f"/>
                </a:solidFill>
                <a:latin typeface="Tahoma"/>
              </a:rPr>
              <a:t>Aims of today…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be able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dentify ways in which a mammal gains and loses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ate that the kidneys are the main organs for regulating the water content in a mamm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xplain the role of ADH in the regulation of water bal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70 % of our bodies are water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e gain liquid from…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6920" y="1844640"/>
            <a:ext cx="40388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il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ff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7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ater itself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ood?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hemical reaction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48320" y="1905120"/>
          <a:ext cx="4038480" cy="4114800"/>
        </p:xfrm>
        <a:graphic>
          <a:graphicData uri="http://schemas.openxmlformats.org/drawingml/2006/table">
            <a:tbl>
              <a:tblPr/>
              <a:tblGrid>
                <a:gridCol w="2228760"/>
                <a:gridCol w="1809720"/>
              </a:tblGrid>
              <a:tr h="100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oo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%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Lettu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ota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hee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ornflak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Aerobic respir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lucose + oxygen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ater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+ Carbon  + energy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diox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400" spc="-1" strike="noStrike">
                <a:solidFill>
                  <a:srgbClr val="ffffff"/>
                </a:solidFill>
                <a:latin typeface="Tahoma"/>
              </a:rPr>
              <a:t>We lose water through…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Sweat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Breath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Urine (kidneys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Faeces (easily expelled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ater bal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70% of our bodies are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ays constant due to our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idney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rinking lots of water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ots of pe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rinking little water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ittle pe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D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idneys are controlled by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nti-diuretic hormone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(ADH) released from the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ituitary gland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(attached to brain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DH (a hormone) controls volume of water reabsorbed and returned to bloodstream by kidne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ater not reabsorbed passes to bladder as urine to be expel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510360" y="3048120"/>
            <a:ext cx="21070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Water conten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of the blood norm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5486400" y="380880"/>
            <a:ext cx="19810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Water content of the blood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371600" y="457200"/>
            <a:ext cx="19051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Water content of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the blood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 LO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09" name="AutoShape 6"/>
          <p:cNvCxnSpPr>
            <a:stCxn id="106" idx="0"/>
            <a:endCxn id="107" idx="1"/>
          </p:cNvCxnSpPr>
          <p:nvPr/>
        </p:nvCxnSpPr>
        <p:spPr>
          <a:xfrm flipH="1" flipV="1" rot="5400000">
            <a:off x="3854160" y="1415520"/>
            <a:ext cx="2342520" cy="92304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0" name="Text Box 7"/>
          <p:cNvSpPr/>
          <p:nvPr/>
        </p:nvSpPr>
        <p:spPr>
          <a:xfrm>
            <a:off x="4572000" y="1295280"/>
            <a:ext cx="327672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o much water drun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1" name="AutoShape 8"/>
          <p:cNvCxnSpPr>
            <a:stCxn id="106" idx="0"/>
            <a:endCxn id="108" idx="3"/>
          </p:cNvCxnSpPr>
          <p:nvPr/>
        </p:nvCxnSpPr>
        <p:spPr>
          <a:xfrm flipV="1" rot="16200000">
            <a:off x="2787480" y="1270800"/>
            <a:ext cx="2265840" cy="12880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2" name="Text Box 9"/>
          <p:cNvSpPr/>
          <p:nvPr/>
        </p:nvSpPr>
        <p:spPr>
          <a:xfrm>
            <a:off x="3126960" y="1676520"/>
            <a:ext cx="141048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o much sal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or sweat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0" y="2743200"/>
            <a:ext cx="1295280" cy="916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ain produ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More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4" name="AutoShape 11"/>
          <p:cNvCxnSpPr>
            <a:stCxn id="108" idx="1"/>
            <a:endCxn id="113" idx="0"/>
          </p:cNvCxnSpPr>
          <p:nvPr/>
        </p:nvCxnSpPr>
        <p:spPr>
          <a:xfrm flipV="1" rot="10800000">
            <a:off x="646920" y="782280"/>
            <a:ext cx="724680" cy="19612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5" name="Text Box 12"/>
          <p:cNvSpPr/>
          <p:nvPr/>
        </p:nvSpPr>
        <p:spPr>
          <a:xfrm>
            <a:off x="1683360" y="5334120"/>
            <a:ext cx="134496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LO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6" name="AutoShape 13"/>
          <p:cNvCxnSpPr>
            <a:stCxn id="113" idx="2"/>
            <a:endCxn id="115" idx="1"/>
          </p:cNvCxnSpPr>
          <p:nvPr/>
        </p:nvCxnSpPr>
        <p:spPr>
          <a:xfrm flipH="1" rot="16200000">
            <a:off x="167400" y="4151520"/>
            <a:ext cx="1989720" cy="102960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7" name="AutoShape 14"/>
          <p:cNvCxnSpPr>
            <a:stCxn id="115" idx="3"/>
            <a:endCxn id="106" idx="2"/>
          </p:cNvCxnSpPr>
          <p:nvPr/>
        </p:nvCxnSpPr>
        <p:spPr>
          <a:xfrm flipV="1">
            <a:off x="3034800" y="3698640"/>
            <a:ext cx="1529640" cy="196272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8" name="Text Box 15"/>
          <p:cNvSpPr/>
          <p:nvPr/>
        </p:nvSpPr>
        <p:spPr>
          <a:xfrm>
            <a:off x="7816680" y="2895480"/>
            <a:ext cx="13273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ain produc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5872680" y="5257800"/>
            <a:ext cx="13449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0" name="AutoShape 17"/>
          <p:cNvCxnSpPr>
            <a:stCxn id="107" idx="3"/>
            <a:endCxn id="118" idx="0"/>
          </p:cNvCxnSpPr>
          <p:nvPr/>
        </p:nvCxnSpPr>
        <p:spPr>
          <a:xfrm>
            <a:off x="7467480" y="705960"/>
            <a:ext cx="1013760" cy="21898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1" name="AutoShape 18"/>
          <p:cNvCxnSpPr>
            <a:stCxn id="118" idx="2"/>
            <a:endCxn id="119" idx="3"/>
          </p:cNvCxnSpPr>
          <p:nvPr/>
        </p:nvCxnSpPr>
        <p:spPr>
          <a:xfrm rot="5400000">
            <a:off x="6969960" y="4073040"/>
            <a:ext cx="1762920" cy="125820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2" name="AutoShape 19"/>
          <p:cNvCxnSpPr>
            <a:stCxn id="119" idx="1"/>
            <a:endCxn id="106" idx="2"/>
          </p:cNvCxnSpPr>
          <p:nvPr/>
        </p:nvCxnSpPr>
        <p:spPr>
          <a:xfrm rot="10800000">
            <a:off x="4563360" y="3698280"/>
            <a:ext cx="1303920" cy="188496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3" name="Text Box 20"/>
          <p:cNvSpPr/>
          <p:nvPr/>
        </p:nvSpPr>
        <p:spPr>
          <a:xfrm>
            <a:off x="215640" y="4253040"/>
            <a:ext cx="206424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High volume of w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6860880" y="4191120"/>
            <a:ext cx="206424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Low volume of w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1452960" y="6019920"/>
            <a:ext cx="194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(small volume 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Concentrated urin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5719320" y="6019920"/>
            <a:ext cx="164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(large volume 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dilute urin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24" descr="http://www.cogneuro.ox.ac.uk/images/brain.gif"/>
          <p:cNvPicPr/>
          <p:nvPr/>
        </p:nvPicPr>
        <p:blipFill>
          <a:blip r:embed="rId1"/>
          <a:stretch/>
        </p:blipFill>
        <p:spPr>
          <a:xfrm>
            <a:off x="0" y="1447920"/>
            <a:ext cx="1419120" cy="99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http://www.cogneuro.ox.ac.uk/images/brain.gif"/>
          <p:cNvPicPr/>
          <p:nvPr/>
        </p:nvPicPr>
        <p:blipFill>
          <a:blip r:embed="rId2"/>
          <a:stretch/>
        </p:blipFill>
        <p:spPr>
          <a:xfrm>
            <a:off x="7724880" y="1600200"/>
            <a:ext cx="1419120" cy="990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6"/>
          <p:cNvSpPr/>
          <p:nvPr/>
        </p:nvSpPr>
        <p:spPr>
          <a:xfrm>
            <a:off x="2666880" y="9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7" descr="http://www.uky.edu/LCC/BSN/BIO/BiologyLabs/BSL111/111Lab6/Lab6Images/KidneyModel-Kidney.jpg"/>
          <p:cNvPicPr/>
          <p:nvPr/>
        </p:nvPicPr>
        <p:blipFill>
          <a:blip r:embed="rId3"/>
          <a:stretch/>
        </p:blipFill>
        <p:spPr>
          <a:xfrm>
            <a:off x="2362320" y="4343400"/>
            <a:ext cx="691920" cy="914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http://www.uky.edu/LCC/BSN/BIO/BiologyLabs/BSL111/111Lab6/Lab6Images/KidneyModel-Kidney.jpg"/>
          <p:cNvPicPr/>
          <p:nvPr/>
        </p:nvPicPr>
        <p:blipFill>
          <a:blip r:embed="rId4"/>
          <a:stretch/>
        </p:blipFill>
        <p:spPr>
          <a:xfrm>
            <a:off x="5943600" y="4267080"/>
            <a:ext cx="692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8:17:50Z</dcterms:created>
  <dc:creator>test</dc:creator>
  <dc:description/>
  <dc:language>en-US</dc:language>
  <cp:lastModifiedBy>RomaK</cp:lastModifiedBy>
  <dcterms:modified xsi:type="dcterms:W3CDTF">2015-09-02T05:53:34Z</dcterms:modified>
  <cp:revision>7</cp:revision>
  <dc:subject/>
  <dc:title>Animal survival</dc:title>
</cp:coreProperties>
</file>