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FD9D-2F84-410C-B8C7-AE36302BB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C19-EDFA-4B55-AB25-8C4F5A30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DB9-72C7-4547-9297-E182EA33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6DA-4A22-49C8-A05A-0AE07834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04C-374D-45D9-B903-8F86227C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479-70C0-4513-8417-8B62E632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A38-B47D-4CE9-83FB-D80AAB1F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19B-8EAA-4350-8947-42A18018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498-378E-46ED-8CE9-5FA0DA56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B54-F1DA-41D9-8F5C-B3A43444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21E-4224-4A86-977B-E0E89047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B5E-C77D-4583-9138-C5F13A7D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345-5C9E-4BF1-930B-C733F10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61AA-7218-4557-8F2E-D3C24CF67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0017"/>
                </a:solidFill>
                <a:latin typeface="Georgia"/>
              </a:rPr>
              <a:t>Space, Time and Einste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278" t="-5412" r="0" b="-1796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ahred on shift at cdf"/>
          <p:cNvPicPr/>
          <p:nvPr/>
        </p:nvPicPr>
        <p:blipFill>
          <a:blip r:embed="rId1"/>
          <a:srcRect l="0" t="21272" r="0" b="0"/>
          <a:stretch/>
        </p:blipFill>
        <p:spPr>
          <a:xfrm>
            <a:off x="4572000" y="1905120"/>
            <a:ext cx="457200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About my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iginally from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5th year graduate student at the University of Chicago, working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duating in a few months with a measurement of the mass of the top quark (ask me what that means if you don’t kno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61280" y="5068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LEASE ask questions if something isn’t cl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57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7-01-26T10:22:54Z</dcterms:modified>
  <cp:revision>62</cp:revision>
  <dc:subject/>
  <dc:title>Space, Time and Einstein</dc:title>
</cp:coreProperties>
</file>