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8.png" ContentType="image/png"/>
  <Override PartName="/ppt/media/image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87AA-BE9E-4A33-A4B4-8C25F3926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775-0EAD-41E9-A75C-2A130CC9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812-4EAF-43CE-B688-3266056F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477-F7BF-4854-B2C9-AC5E1A5F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DF8-EB0D-47B2-98F2-5637D4C9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353-712A-46C9-BCA3-4BA86778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50E-35ED-4E2D-A139-70E8F861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E86-D43B-4A73-8BA8-5E958D59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576-3A58-4B68-B4C8-A35F0124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8B4-4FD3-45B0-9D26-C912D914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7B3-571E-48EC-91A7-F6C9FCBB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415-2049-46CC-97D6-2AB1CEFF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EE6-0B16-404C-B050-2DEBA370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9501-BDCB-4E51-8C67-97CBE3D64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70017"/>
                </a:solidFill>
                <a:latin typeface="Georgia"/>
              </a:rPr>
              <a:t>Space, Time and Einste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278" t="-5412" r="0" b="-1796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/>
            <a:ahLst/>
            <a:rect l="l" t="t" r="r" b="b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jahred on shift at cdf"/>
          <p:cNvPicPr/>
          <p:nvPr/>
        </p:nvPicPr>
        <p:blipFill>
          <a:blip r:embed="rId1"/>
          <a:srcRect l="0" t="21272" r="0" b="0"/>
          <a:stretch/>
        </p:blipFill>
        <p:spPr>
          <a:xfrm>
            <a:off x="4572000" y="1905120"/>
            <a:ext cx="457200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About my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riginally from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5th year graduate student at the University of Chicago, working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duating in a few months with a measurement of the mass of the top quark (ask me what that means if you don’t know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461280" y="50688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PLEASE ask questions if something isn’t cl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57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7-01-26T10:22:54Z</dcterms:modified>
  <cp:revision>62</cp:revision>
  <dc:subject/>
  <dc:title>Space, Time and Einstein</dc:title>
</cp:coreProperties>
</file>