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EB37-EA42-4265-847C-9628ABE9C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converts 4 billion kg of matter to energy every 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er conversion = 1/140 of original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converts 560 billion kg of H to He (5.6 x 1011 kg) every 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of Sun: 2 x 1030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x 1030 kg/ 5.6 x 1011 kg/sec = 3.6 x 1018 sec = 114 billion yea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converts 4 billion kg of matter to energy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conversion = 1/140 of original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converts 560 billion kg of H to He (5.6 x 1011 kg)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Sun: 2 x 1030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1030 kg/ 5.6 x 1011 kg/sec = 3.6 x 1018 sec = 114 billion ye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We Can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: The Visible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ransparent than 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see a couple of hundred kilometers de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 cooler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e know what stars are made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thin but very 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so hot is a mys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We Can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: The Visible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ransparent than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ee a couple of hundred kilometers d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cooler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know what stars are mad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thin but very 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so hot is a mys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atures On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ges: hot clouds in the 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tures O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u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ges: hot clouds in the 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er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er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nd Fac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nd Facu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, Faculae, 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, Faculae, 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an ordinary middle-sized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sible surface of the Sun is called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in cool layer, the chromosphere, allows us to determine what the sun is made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ery thin but very hot outer layer is called the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in the sun is revealed by 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atures on the sun include sunspots, prominences, spicules and fac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urbances on the sun affect electrical and electronic equipment on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is an ordinary middle-sized s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ble surface of the Sun is called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in cool layer, the chromosphere, allows us to determine what the sun is mad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y thin but very hot outer layer is called the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in the sun is revealed by 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tures on the sun include sunspots, prominences, spicules and facu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urbances on the sun affect electrical and electronic equipment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pi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pi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Promin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romin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ance: 150 million km (93 million miles) = 8.3 light min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: 1.4 million km (870,000 miles) = 109 x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330,000 x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lk density = 1.4 gm/c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temperature = 58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: 25 days at equator, 34 at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The Sun is an ordinary middle-sized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: 150 million km (93 million miles) = 8.3 light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meter: 1.4 million km (870,000 miles) = 109 x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= 330,000 x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k density = 1.4 gm/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temperature = 5800 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on: 25 days at equator, 34 at 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he Sun is an ordinary middle-sized s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Inter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al Gas La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x Volume is proportional to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= weight of overlying mate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l Gas La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x Volume is proportional to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= weight of overlying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io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: 0-20% of radius. Energy produced by nuclear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: 20-70% of radius: Energy travels as thermal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chocline: Boundary of Radiative Zone: Exterior slips over inter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Zone: Outer 30% of Sun: Energy moves by con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: 0-20% of radius. Energy produced by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Zone: 20-70% of radius: Energy travels as thermal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chocline: Boundary of Radiative Zone: Exterior slips over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Zone: Outer 30% of Sun: Energy moves by conv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output: 90 billion megatons/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output = 6 microwatts/kg – less than a can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an body outputs 1.2 W/kg – 200,000 times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volume: Core of Sun =  0.9 W/m3; Human body = 1200 W/m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ing to duplicate sun’s energy output not practical on Earth; We try to use other fusion proce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takes 10,000 – 100,000 years to reach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output: 90 billion megatons/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output = 6 microwatts/kg – less than a ca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body outputs 1.2 W/kg – 200,000 times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volume: Core of Sun =  0.9 W/m3; Human body = 1200 W/m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ing to duplicate sun’s energy output not practical on Earth; We try to use other fusion 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akes 10,000 – 100,000 years to reach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H  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H = 4 x 1.00794 = 4.0317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= 4.0026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= 0.029158 = 0.7% = 1/1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ed to energy via E=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you get over being freaked out by Einstein, this is middle school m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H  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H = 4 x 1.00794 = 4.031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= 4.0026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 = 0.029158 = 0.7% = 1/1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ed to energy via E=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get over being freaked out by Einstein, this is middle school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=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m/sec = 300,000,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joules (one Watt = 1 J/se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’s energy output = 3.8 x 1026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mass is that per secon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E/c2  = 3.8 x 1026/(300,000,000)2 = 4 billion kg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=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m/sec = 300,00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joules (one Watt = 1 J/s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’s energy output = 3.8 x 1026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mass is that per seco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E/c2  = 3.8 x 1026/(300,000,000)2 = 4 billion kg/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8A2C-B984-4BC5-97DB-D32EBD2F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FDE7-D2D7-4D75-818C-6555D651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C60D-D807-4B4B-8F9A-8F7FD8DEA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3118-6CA3-4ABD-94C7-85B27101F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6E91-500E-467E-8788-A9F4F17D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63D3-DB59-4862-A8BF-94A9463C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BD49-82C3-4110-819D-A8D3CFDC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51A7-D415-4D8F-B407-7DE5DEC3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78BD-5D9C-4978-A6C0-A3F25780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664C-5BCD-47B6-B30C-972151FE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C7CA-D691-49C9-B6D8-47288091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FFD9-7112-49BF-8B4B-176D424B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EA90-3543-4EDB-903F-7612DE5ADD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image/1006/orangesun_friedman_big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 converts 4 billion kg of matter to energy every sec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ter conversion = 1/140 of original m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 converts 560 billion kg of H to He (5.6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g) every sec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 of Sun: 2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g/ 5.6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g/sec = 3.6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8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 = 114 billion yea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D:\working copy\GRAPHIC0\Astronomy\Solar0.gif"/>
          <p:cNvPicPr/>
          <p:nvPr/>
        </p:nvPicPr>
        <p:blipFill>
          <a:blip r:embed="rId1"/>
          <a:stretch/>
        </p:blipFill>
        <p:spPr>
          <a:xfrm>
            <a:off x="1371600" y="228600"/>
            <a:ext cx="6400800" cy="6400800"/>
          </a:xfrm>
          <a:prstGeom prst="rect">
            <a:avLst/>
          </a:prstGeom>
          <a:ln w="0">
            <a:noFill/>
          </a:ln>
        </p:spPr>
      </p:pic>
      <p:sp>
        <p:nvSpPr>
          <p:cNvPr id="78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un We Can S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otosphere: The Visibl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transparent than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can see a couple of hundred kilometers de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n cooler atmosp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we know what stars are made 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thin but very h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so hot is a myst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://www.uwgb.edu/dutchs/GRAPHIC0/Astronomy/Solar1.gif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84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atures On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ula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ges: hot clouds in the Chromosp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a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rface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rcRect l="0" t="3122" r="0" b="4810"/>
          <a:stretch/>
        </p:blipFill>
        <p:spPr>
          <a:xfrm>
            <a:off x="457200" y="18288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90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ergran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://www.tc.cornell.edu/~slantz/Students/Clark/sun.gif"/>
          <p:cNvPicPr/>
          <p:nvPr/>
        </p:nvPicPr>
        <p:blipFill>
          <a:blip r:embed="rId1"/>
          <a:stretch/>
        </p:blipFill>
        <p:spPr>
          <a:xfrm>
            <a:off x="1371600" y="1447920"/>
            <a:ext cx="6324480" cy="5049720"/>
          </a:xfrm>
          <a:prstGeom prst="rect">
            <a:avLst/>
          </a:prstGeom>
          <a:ln w="0">
            <a:noFill/>
          </a:ln>
        </p:spPr>
      </p:pic>
      <p:sp>
        <p:nvSpPr>
          <p:cNvPr id="93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ergran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http://www.thaispaceweather.com/IHY/Sun/images/pho06.jpg"/>
          <p:cNvPicPr/>
          <p:nvPr/>
        </p:nvPicPr>
        <p:blipFill>
          <a:blip r:embed="rId1"/>
          <a:stretch/>
        </p:blipFill>
        <p:spPr>
          <a:xfrm>
            <a:off x="2209680" y="1447920"/>
            <a:ext cx="5114880" cy="5114880"/>
          </a:xfrm>
          <a:prstGeom prst="rect">
            <a:avLst/>
          </a:prstGeom>
          <a:ln w="0">
            <a:noFill/>
          </a:ln>
        </p:spPr>
      </p:pic>
      <p:sp>
        <p:nvSpPr>
          <p:cNvPr id="96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22860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nspots and Facula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http://www.solarphysics.kva.se/gallery/images/2003/29Jun2003_4305.1886-1888_color.jpg"/>
          <p:cNvPicPr/>
          <p:nvPr/>
        </p:nvPicPr>
        <p:blipFill>
          <a:blip r:embed="rId1"/>
          <a:stretch/>
        </p:blipFill>
        <p:spPr>
          <a:xfrm>
            <a:off x="2514600" y="228600"/>
            <a:ext cx="6400800" cy="6461280"/>
          </a:xfrm>
          <a:prstGeom prst="rect">
            <a:avLst/>
          </a:prstGeom>
          <a:ln w="0">
            <a:noFill/>
          </a:ln>
        </p:spPr>
      </p:pic>
      <p:sp>
        <p:nvSpPr>
          <p:cNvPr id="99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nspots, Faculae, Limb Dark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http://www.damianpeach.com/images/solar/2004_05_31_1111vis.jpg"/>
          <p:cNvPicPr/>
          <p:nvPr/>
        </p:nvPicPr>
        <p:blipFill>
          <a:blip r:embed="rId1"/>
          <a:stretch/>
        </p:blipFill>
        <p:spPr>
          <a:xfrm>
            <a:off x="1143000" y="1447920"/>
            <a:ext cx="6858000" cy="5094000"/>
          </a:xfrm>
          <a:prstGeom prst="rect">
            <a:avLst/>
          </a:prstGeom>
          <a:ln w="0">
            <a:noFill/>
          </a:ln>
        </p:spPr>
      </p:pic>
      <p:sp>
        <p:nvSpPr>
          <p:cNvPr id="102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un is an ordinary middle-sized st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un creates energy by nuclear fusion in its c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visible surface of the Sun is called the photosp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hin cool layer, the chromosphere, allows us to determine what the sun is made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very thin but very hot outer layer is called the coro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vection in the sun is revealed by gran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atures on the sun include sunspots, prominences, spicules and facula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urbances on the sun affect electrical and electronic equipment on Ea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Spic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http://stereo.gsfc.nasa.gov/img/stereoimages/preview/Spicules080307.jpg"/>
          <p:cNvPicPr/>
          <p:nvPr/>
        </p:nvPicPr>
        <p:blipFill>
          <a:blip r:embed="rId1"/>
          <a:stretch/>
        </p:blipFill>
        <p:spPr>
          <a:xfrm>
            <a:off x="533520" y="1447920"/>
            <a:ext cx="8069040" cy="5105160"/>
          </a:xfrm>
          <a:prstGeom prst="rect">
            <a:avLst/>
          </a:prstGeom>
          <a:ln w="0">
            <a:noFill/>
          </a:ln>
        </p:spPr>
      </p:pic>
      <p:sp>
        <p:nvSpPr>
          <p:cNvPr id="105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Promin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704880" y="1295280"/>
            <a:ext cx="7734240" cy="5220000"/>
          </a:xfrm>
          <a:prstGeom prst="rect">
            <a:avLst/>
          </a:prstGeom>
          <a:ln w="0">
            <a:noFill/>
          </a:ln>
        </p:spPr>
      </p:pic>
      <p:sp>
        <p:nvSpPr>
          <p:cNvPr id="108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Coro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318960" y="1447920"/>
            <a:ext cx="8506080" cy="4873680"/>
          </a:xfrm>
          <a:prstGeom prst="rect">
            <a:avLst/>
          </a:prstGeom>
          <a:ln w="0">
            <a:noFill/>
          </a:ln>
        </p:spPr>
      </p:pic>
      <p:sp>
        <p:nvSpPr>
          <p:cNvPr id="111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2" descr="See Explanation.  Clicking on the picture will download&#10; the highest resolution version availabl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152280" y="0"/>
            <a:ext cx="881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360360" y="0"/>
            <a:ext cx="832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ance: 150 million km (93 million miles) = 8.3 light min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meter: 1.4 million km (870,000 miles) = 109 x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 = 330,000 x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lk density = 1.4 gm/c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face temperature = 5800 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tation: 25 days at equator, 34 at p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olar Interi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al Gas Law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sure x Volume is proportional to Temper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sure = weight of overlying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ior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295280"/>
          <a:ext cx="8229600" cy="51818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of Radi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sure (At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nsity (gm/c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of M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x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13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6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3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 b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8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b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37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 b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 b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7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 b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ucture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e: 0-20% of radius. Energy produced by nuclear f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ve Zone: 20-70% of radius: Energy travels as thermal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chocline: Boundary of Radiative Zone: Exterior slips over inter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ctive Zone: Outer 30% of Sun: Energy moves by conv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e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output: 90 billion megatons/sec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output = 6 microwatts/kg – less than a cand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body outputs 1.2 W/kg – 200,000 times gre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volume: Core of Sun =  0.9 W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 Human body = 1200 W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ying to duplicate sun’s energy output not practical on Earth; We try to use other fusion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takes 10,000 – 100,000 years to reach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H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H = 4 x 1.00794 = 4.0317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= 4.0026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ce = 0.029158 = 0.7% = 1/1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ed to energy via E=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you get over being freaked out by Einstein, this is middle school m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=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 = k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 = m/sec = 300,000,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= joules (one Watt = 1 J/se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’s energy output = 3.8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much mass is that per seco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 = E/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= 3.8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(300,000,000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4 billion kg/se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3T18:38:07Z</dcterms:created>
  <dc:creator>default prof</dc:creator>
  <dc:description/>
  <dc:language>en-US</dc:language>
  <cp:lastModifiedBy>Legion</cp:lastModifiedBy>
  <dcterms:modified xsi:type="dcterms:W3CDTF">2017-01-26T10:28:27Z</dcterms:modified>
  <cp:revision>36</cp:revision>
  <dc:subject/>
  <dc:title>Life Cycles of Stars</dc:title>
</cp:coreProperties>
</file>