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6F6AF-D9AC-44F4-A593-B71EFE70BC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converts 4 billion kg of matter to energy every seco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ter conversion = 1/140 of original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converts 560 billion kg of H to He (5.6 x 1011 kg) every seco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of Sun: 2 x 1030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x 1030 kg/ 5.6 x 1011 kg/sec = 3.6 x 1018 sec = 114 billion yea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converts 4 billion kg of matter to energy every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er conversion = 1/140 of original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converts 560 billion kg of H to He (5.6 x 1011 kg) every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of Sun: 2 x 1030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x 1030 kg/ 5.6 x 1011 kg/sec = 3.6 x 1018 sec = 114 billion yea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We Can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: The Visible Di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transparent than 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see a couple of hundred kilometers dee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 cooler at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we know what stars are made 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y thin but very h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so hot is a myst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We Can S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phere: The Visible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transparent than 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see a couple of hundred kilometers d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 cooler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e know what stars are mad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thin but very h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so hot is a myst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yers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ers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atures On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b Darke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n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ul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ges: hot clouds in the 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min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atures O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b Dark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n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ul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ges: hot clouds in the Chro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min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ergran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ergran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ergran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ergran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and Facul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 and Facul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, Faculae, Limb Darke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, Faculae, Limb Dark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-Away Poi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is an ordinary middle-sized st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isible surface of the Sun is called the 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hin cool layer, the chromosphere, allows us to determine what the sun is made 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ery thin but very hot outer layer is called the 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on in the sun is revealed by gran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atures on the sun include sunspots, prominences, spicules and facul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urbances on the sun affect electrical and electronic equipment on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-Away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is an ordinary middle-sized st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isible surface of the Sun is called the 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hin cool layer, the chromosphere, allows us to determine what the sun is mad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very thin but very hot outer layer is called the 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on in the sun is revealed by gran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atures on the sun include sunspots, prominences, spicules and facul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urbances on the sun affect electrical and electronic equipment on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Spic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pi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Promin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Promin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ance: 150 million km (93 million miles) = 8.3 light minu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: 1.4 million km (870,000 miles) = 109 x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330,000 x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lk density = 1.4 gm/c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 temperature = 58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tation: 25 days at equator, 34 at p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The Sun is an ordinary middle-sized st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: 150 million km (93 million miles) = 8.3 light minu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meter: 1.4 million km (870,000 miles) = 109 x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= 330,000 x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lk density = 1.4 gm/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temperature = 5800 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ation: 25 days at equator, 34 at p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The Sun is an ordinary middle-sized st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Interi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al Gas Law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 x Volume is proportional to Temper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 = weight of overlying mater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ar In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al Gas Law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x Volume is proportional to 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= weight of overlying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ior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ior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: 0-20% of radius. Energy produced by nuclear f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ative Zone: 20-70% of radius: Energy travels as thermal 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chocline: Boundary of Radiative Zone: Exterior slips over interi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ve Zone: Outer 30% of Sun: Energy moves by conv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e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e: 0-20% of radius. Energy produced by nuclear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tive Zone: 20-70% of radius: Energy travels as thermal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chocline: Boundary of Radiative Zone: Exterior slips over in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ve Zone: Outer 30% of Sun: Energy moves by conv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output: 90 billion megatons/seco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output = 6 microwatts/kg – less than a cand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man body outputs 1.2 W/kg – 200,000 times g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volume: Core of Sun =  0.9 W/m3; Human body = 1200 W/m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ing to duplicate sun’s energy output not practical on Earth; We try to use other fusion proce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takes 10,000 – 100,000 years to reach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e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output: 90 billion megatons/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output = 6 microwatts/kg – less than a cand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body outputs 1.2 W/kg – 200,000 times gr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volume: Core of Sun =  0.9 W/m3; Human body = 1200 W/m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ing to duplicate sun’s energy output not practical on Earth; We try to use other fusion proc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takes 10,000 – 100,000 years to reach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H  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H = 4 x 1.00794 = 4.0317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= 4.0026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ce = 0.029158 = 0.7% = 1/14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ted to energy via E=mc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ce you get over being freaked out by Einstein, this is middle school m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H  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H = 4 x 1.00794 = 4.031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= 4.0026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 = 0.029158 = 0.7% = 1/1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ed to energy via E=mc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you get over being freaked out by Einstein, this is middle school m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=mc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 = m/sec = 300,000,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joules (one Watt = 1 J/se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’s energy output = 3.8 x 1026 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mass is that per secon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E/c2  = 3.8 x 1026/(300,000,000)2 = 4 billion kg/se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=mc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= m/sec = 300,000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joules (one Watt = 1 J/se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’s energy output = 3.8 x 1026 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uch mass is that per secon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E/c2  = 3.8 x 1026/(300,000,000)2 = 4 billion kg/s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CE9A-895D-4C11-BF8A-661C59C9E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CAAB-E336-4266-A796-0237399D0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D4CD-F9CE-44DF-A1E2-E59F11E66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DA65-BF3F-4B30-B70B-B4190BA8C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3053-6549-4D81-8D50-F67313823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1AED-1B9F-4161-9FF4-DD8B07A09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7A77-B1CB-480F-8D16-CBC8DD8B0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EC2F-3695-4CAB-8800-978CEE664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3B48-C929-4D39-80A2-90E1754F7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8F26-C991-40C7-902B-DA4171188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6C71-2266-4210-B7C3-BC731CA7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C793-81C2-4950-9F8C-E16FA3FA8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592A5-61E6-4760-A711-8E392C8AA8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antwrp.gsfc.nasa.gov/apod/image/1006/orangesun_friedman_big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he Su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oter Placeholder 2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lar Ener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n converts 4 billion kg of matter to energy every sec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ter conversion = 1/140 of original m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n converts 560 billion kg of H to He (5.6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1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kg) every sec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 of Sun: 2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k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kg/ 5.6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1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kg/sec = 3.6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18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 = 114 billion yea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D:\working copy\GRAPHIC0\Astronomy\Solar0.gif"/>
          <p:cNvPicPr/>
          <p:nvPr/>
        </p:nvPicPr>
        <p:blipFill>
          <a:blip r:embed="rId1"/>
          <a:stretch/>
        </p:blipFill>
        <p:spPr>
          <a:xfrm>
            <a:off x="1371600" y="228600"/>
            <a:ext cx="6400800" cy="6400800"/>
          </a:xfrm>
          <a:prstGeom prst="rect">
            <a:avLst/>
          </a:prstGeom>
          <a:ln w="0">
            <a:noFill/>
          </a:ln>
        </p:spPr>
      </p:pic>
      <p:sp>
        <p:nvSpPr>
          <p:cNvPr id="78" name="Footer Placeholder 2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Sun We Can S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otosphere: The Visibl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transparent than a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can see a couple of hundred kilometers dee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n cooler atmosp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we know what stars are made o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ery thin but very ho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y so hot is a myste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yers Of The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http://www.uwgb.edu/dutchs/GRAPHIC0/Astronomy/Solar1.gif"/>
          <p:cNvPicPr/>
          <p:nvPr/>
        </p:nvPicPr>
        <p:blipFill>
          <a:blip r:embed="rId1"/>
          <a:stretch/>
        </p:blipFill>
        <p:spPr>
          <a:xfrm>
            <a:off x="914400" y="1523880"/>
            <a:ext cx="7315200" cy="4876920"/>
          </a:xfrm>
          <a:prstGeom prst="rect">
            <a:avLst/>
          </a:prstGeom>
          <a:ln w="0">
            <a:noFill/>
          </a:ln>
        </p:spPr>
      </p:pic>
      <p:sp>
        <p:nvSpPr>
          <p:cNvPr id="84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eatures On The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mb Darke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an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nsp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cula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ges: hot clouds in the Chromosp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a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min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rface of the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rcRect l="0" t="3122" r="0" b="4810"/>
          <a:stretch/>
        </p:blipFill>
        <p:spPr>
          <a:xfrm>
            <a:off x="457200" y="1828800"/>
            <a:ext cx="8229600" cy="4495680"/>
          </a:xfrm>
          <a:prstGeom prst="rect">
            <a:avLst/>
          </a:prstGeom>
          <a:ln w="0">
            <a:noFill/>
          </a:ln>
        </p:spPr>
      </p:pic>
      <p:sp>
        <p:nvSpPr>
          <p:cNvPr id="90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pergran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http://www.tc.cornell.edu/~slantz/Students/Clark/sun.gif"/>
          <p:cNvPicPr/>
          <p:nvPr/>
        </p:nvPicPr>
        <p:blipFill>
          <a:blip r:embed="rId1"/>
          <a:stretch/>
        </p:blipFill>
        <p:spPr>
          <a:xfrm>
            <a:off x="1371600" y="1447920"/>
            <a:ext cx="6324480" cy="5049720"/>
          </a:xfrm>
          <a:prstGeom prst="rect">
            <a:avLst/>
          </a:prstGeom>
          <a:ln w="0">
            <a:noFill/>
          </a:ln>
        </p:spPr>
      </p:pic>
      <p:sp>
        <p:nvSpPr>
          <p:cNvPr id="93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582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pergran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http://www.thaispaceweather.com/IHY/Sun/images/pho06.jpg"/>
          <p:cNvPicPr/>
          <p:nvPr/>
        </p:nvPicPr>
        <p:blipFill>
          <a:blip r:embed="rId1"/>
          <a:stretch/>
        </p:blipFill>
        <p:spPr>
          <a:xfrm>
            <a:off x="2209680" y="1447920"/>
            <a:ext cx="5114880" cy="5114880"/>
          </a:xfrm>
          <a:prstGeom prst="rect">
            <a:avLst/>
          </a:prstGeom>
          <a:ln w="0">
            <a:noFill/>
          </a:ln>
        </p:spPr>
      </p:pic>
      <p:sp>
        <p:nvSpPr>
          <p:cNvPr id="96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228600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nspots and Facula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http://www.solarphysics.kva.se/gallery/images/2003/29Jun2003_4305.1886-1888_color.jpg"/>
          <p:cNvPicPr/>
          <p:nvPr/>
        </p:nvPicPr>
        <p:blipFill>
          <a:blip r:embed="rId1"/>
          <a:stretch/>
        </p:blipFill>
        <p:spPr>
          <a:xfrm>
            <a:off x="2514600" y="228600"/>
            <a:ext cx="6400800" cy="6461280"/>
          </a:xfrm>
          <a:prstGeom prst="rect">
            <a:avLst/>
          </a:prstGeom>
          <a:ln w="0">
            <a:noFill/>
          </a:ln>
        </p:spPr>
      </p:pic>
      <p:sp>
        <p:nvSpPr>
          <p:cNvPr id="99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nspots, Faculae, Limb Darke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http://www.damianpeach.com/images/solar/2004_05_31_1111vis.jpg"/>
          <p:cNvPicPr/>
          <p:nvPr/>
        </p:nvPicPr>
        <p:blipFill>
          <a:blip r:embed="rId1"/>
          <a:stretch/>
        </p:blipFill>
        <p:spPr>
          <a:xfrm>
            <a:off x="1143000" y="1447920"/>
            <a:ext cx="6858000" cy="5094000"/>
          </a:xfrm>
          <a:prstGeom prst="rect">
            <a:avLst/>
          </a:prstGeom>
          <a:ln w="0">
            <a:noFill/>
          </a:ln>
        </p:spPr>
      </p:pic>
      <p:sp>
        <p:nvSpPr>
          <p:cNvPr id="102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ke-Away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Sun is an ordinary middle-sized st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sun creates energy by nuclear fusion in its co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visible surface of the Sun is called the photosp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thin cool layer, the chromosphere, allows us to determine what the sun is made o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very thin but very hot outer layer is called the coro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vection in the sun is revealed by granul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eatures on the sun include sunspots, prominences, spicules and facula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turbances on the sun affect electrical and electronic equipment on Ear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4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lar Spic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http://stereo.gsfc.nasa.gov/img/stereoimages/preview/Spicules080307.jpg"/>
          <p:cNvPicPr/>
          <p:nvPr/>
        </p:nvPicPr>
        <p:blipFill>
          <a:blip r:embed="rId1"/>
          <a:stretch/>
        </p:blipFill>
        <p:spPr>
          <a:xfrm>
            <a:off x="533520" y="1447920"/>
            <a:ext cx="8069040" cy="5105160"/>
          </a:xfrm>
          <a:prstGeom prst="rect">
            <a:avLst/>
          </a:prstGeom>
          <a:ln w="0">
            <a:noFill/>
          </a:ln>
        </p:spPr>
      </p:pic>
      <p:sp>
        <p:nvSpPr>
          <p:cNvPr id="105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lar Promin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704880" y="1295280"/>
            <a:ext cx="7734240" cy="5220000"/>
          </a:xfrm>
          <a:prstGeom prst="rect">
            <a:avLst/>
          </a:prstGeom>
          <a:ln w="0">
            <a:noFill/>
          </a:ln>
        </p:spPr>
      </p:pic>
      <p:sp>
        <p:nvSpPr>
          <p:cNvPr id="108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lar Coro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318960" y="1447920"/>
            <a:ext cx="8506080" cy="4873680"/>
          </a:xfrm>
          <a:prstGeom prst="rect">
            <a:avLst/>
          </a:prstGeom>
          <a:ln w="0">
            <a:noFill/>
          </a:ln>
        </p:spPr>
      </p:pic>
      <p:sp>
        <p:nvSpPr>
          <p:cNvPr id="111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Footer Placeholder 2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2" descr="See Explanation.  Clicking on the picture will download&#10; the highest resolution version available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Footer Placeholder 2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2" descr="See Explanation.  Clicking on the picture will download&#10; the highest resolution version available.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Footer Placeholder 2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2" descr="See Explanation.  Clicking on the picture will download&#10; the highest resolution version available."/>
          <p:cNvPicPr/>
          <p:nvPr/>
        </p:nvPicPr>
        <p:blipFill>
          <a:blip r:embed="rId1"/>
          <a:stretch/>
        </p:blipFill>
        <p:spPr>
          <a:xfrm>
            <a:off x="152280" y="0"/>
            <a:ext cx="8817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Footer Placeholder 2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2" descr="See Explanation.  Clicking on the picture will download&#10; the highest resolution version available.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Footer Placeholder 2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2" descr="See Explanation.  Clicking on the picture will download&#10; the highest resolution version available.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Footer Placeholder 2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4" descr="See Explanation.  Clicking on the picture will download&#10; the highest resolution version available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Footer Placeholder 2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2" descr="See Explanation.  Clicking on the picture will download&#10; the highest resolution version available."/>
          <p:cNvPicPr/>
          <p:nvPr/>
        </p:nvPicPr>
        <p:blipFill>
          <a:blip r:embed="rId1"/>
          <a:stretch/>
        </p:blipFill>
        <p:spPr>
          <a:xfrm>
            <a:off x="360360" y="0"/>
            <a:ext cx="8326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tance: 150 million km (93 million miles) = 8.3 light minu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ameter: 1.4 million km (870,000 miles) = 109 x Ear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 = 330,000 x Ear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lk density = 1.4 gm/c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rface temperature = 5800 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tation: 25 days at equator, 34 at po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Solar Interi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al Gas Law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ssure x Volume is proportional to Tempera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ssure = weight of overlying mate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ior of the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295280"/>
          <a:ext cx="8229600" cy="518184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of Radi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erature 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sure (At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nsity (gm/c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of M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x 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-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13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36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,0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3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3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,0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1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0,0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0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0,0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1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7 bill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8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bill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37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 bill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1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 bill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7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0 bill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ructure of the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e: 0-20% of radius. Energy produced by nuclear fu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ative Zone: 20-70% of radius: Energy travels as thermal rad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chocline: Boundary of Radiative Zone: Exterior slips over interi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ctive Zone: Outer 30% of Sun: Energy moves by conv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re of the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ergy output: 90 billion megatons/seco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ergy output = 6 microwatts/kg – less than a cand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man body outputs 1.2 W/kg – 200,000 times grea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volume: Core of Sun =  0.9 W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; Human body = 1200 W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ying to duplicate sun’s energy output not practical on Earth; We try to use other fusion proc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ergy takes 10,000 – 100,000 years to reach surf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lar Ener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 H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H = 4 x 1.00794 = 4.0317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= 4.0026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fference = 0.029158 = 0.7% = 1/14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ed to energy via E=m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ce you get over being freaked out by Einstein, this is middle school ma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lar Ener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=m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 = k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 = m/sec = 300,000,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 = joules (one Watt = 1 J/se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n’s energy output = 3.8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much mass is that per secon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 = E/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= 3.8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(300,000,000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4 billion kg/se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3T18:38:07Z</dcterms:created>
  <dc:creator>default prof</dc:creator>
  <dc:description/>
  <dc:language>en-US</dc:language>
  <cp:lastModifiedBy>Legion</cp:lastModifiedBy>
  <dcterms:modified xsi:type="dcterms:W3CDTF">2017-01-26T10:28:27Z</dcterms:modified>
  <cp:revision>36</cp:revision>
  <dc:subject/>
  <dc:title>Life Cycles of Stars</dc:title>
</cp:coreProperties>
</file>