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9625-F8D2-4EF0-A944-DD1882B76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68B04-348E-4D98-89EB-F264B2FA2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DD037-25A1-4B04-BD6F-6D53CEE2F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42DE6-5942-47D9-969D-F7DE094F4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F289E-642E-4052-BE48-B0E36CF12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7422C-09E6-4344-A3D4-AC16AE24F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74C82-FC8B-49EA-B1D7-72EF28666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C7BA7-7754-44F7-857E-5300DDBE0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0C902-BB60-47D4-877C-E784EF22F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70A9-5BD2-4FEE-8EEA-674169A36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57B86-9B95-41E2-BE8D-FBD3438FF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AC7D-E702-46F1-A487-5166DE1B7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C338-2BFC-4BF9-A049-ED7AEBE31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9B67-839B-47D7-A420-26AAE2620E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7-01-26T10:29:33Z</dcterms:modified>
  <cp:revision>2</cp:revision>
  <dc:subject/>
  <dc:title>Chapter 6  Our Solar System and Its Origin</dc:title>
</cp:coreProperties>
</file>