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6D65-D769-458D-9D31-7095C150F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C6EB9-5B73-4DC1-9164-B0A203742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7E761-B05A-49C7-99AE-BC429F482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9F8AA-7903-456D-853E-5F461508A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786C8-865B-4F3D-94CB-32EB05CA6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C43E7-D1E7-490A-BA05-FDB32332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D30B1-AA0B-4F00-BFC6-6F09DB016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F8BBC-A9DF-437B-9C75-793BBD6A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A3FB8-1440-4DE1-AD84-93BF301F7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65776-EFE9-4F38-A32B-FAA3BCFC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6D88-1E1F-4246-A702-B6278E37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62FE-834B-4852-A9F6-5D436FB6D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1091-06EF-4BD2-831E-A24602882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9CAB-652A-494E-9783-EE3C41E4E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7-01-26T10:29:33Z</dcterms:modified>
  <cp:revision>2</cp:revision>
  <dc:subject/>
  <dc:title>Chapter 6  Our Solar System and Its Origin</dc:title>
</cp:coreProperties>
</file>