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EE49-0BC7-49A2-AB29-C39531F721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108-1A9A-4EEF-990E-D9064212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99B-6F7C-44D6-B1FB-529A32E8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5BF-5C2C-4112-B1D7-DF5C1FE2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958-0282-4514-937C-EFEFDF7F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504-86D4-48B0-9F77-96DEC9DE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84D-A5D5-4BDA-B76D-E39F3EC3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5C7-BB29-47D8-A495-6FCF3D2D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03E-BB5C-4875-B659-58FC43E4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930-8994-4544-8A7E-72D7A5CD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3B3-D2B1-4AD7-A640-7F7B9B72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11B-8628-43BD-B78E-29CB29F2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14A-AC3F-4DA3-8279-73FBE284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0A14-790D-4501-AA91-C0EEA97F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7-01-26T10:30:29Z</dcterms:modified>
  <cp:revision>10</cp:revision>
  <dc:subject/>
  <dc:title>Outer Layers of the Sun</dc:title>
</cp:coreProperties>
</file>