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5A28-2321-4DC0-BB18-E9464A7AF6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84F-8FF2-444F-8B6B-B828C5C2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C48-EC6A-4BE2-BD51-CDB2C010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77D4-CE8C-4EC3-B64E-2B6F92F0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F10A-E330-489B-B35A-0C8167C6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5066-AA4B-412B-AB86-A703EEFD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DE7-5A6C-4738-93E6-653480D8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994-F53E-4B9F-B492-6D3CBA7A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A0D-679A-41BF-A703-D73729C8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59D-BF77-470E-84FF-FBF8C1EE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4A78-7DC6-4737-BAC5-712CF093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FC38-2878-4DB0-BBCD-B3D56E91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D96-83F8-4672-9D7E-C826DB8A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C423-504D-4277-A01B-FE5FAFC4C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7-01-26T10:30:29Z</dcterms:modified>
  <cp:revision>10</cp:revision>
  <dc:subject/>
  <dc:title>Outer Layers of the Sun</dc:title>
</cp:coreProperties>
</file>