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04C1-06B4-4BDB-ACE4-5C3F12D4D76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DF4A-7239-4B09-A495-A9CAE63F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2E05-F78C-4B29-B1A8-71F536CF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0E7-1BC1-4145-A747-126E8B2E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8EA-268A-4030-94D3-823E7C44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08B0-7529-408A-B0A0-E454B5AB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040D-C4F8-4939-B644-2C7C658A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9EB3-1CFC-44E3-9A20-93BD3F94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01B-96D8-458A-B06F-C1BA80DA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07A5-12E4-4BED-A5D8-D2958CF6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1621-A913-40F6-B2EA-ECF6C45F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927F-E72A-4B3D-A0F0-039D3689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D93-08AE-41F0-A80D-930C7DD7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AE85-C074-4670-BF33-F2666BB84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prominence_10jan00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cme_anim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9400" y="1066680"/>
            <a:ext cx="2362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temp"/>
          <p:cNvPicPr/>
          <p:nvPr/>
        </p:nvPicPr>
        <p:blipFill>
          <a:blip r:embed="rId1"/>
          <a:srcRect l="5319" t="5326" r="7448" b="7450"/>
          <a:stretch/>
        </p:blipFill>
        <p:spPr>
          <a:xfrm>
            <a:off x="0" y="-28440"/>
            <a:ext cx="716292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temp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7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28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ormal solar magnetic field.   They can be as large as 50,000 km and last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27" descr="Z:\kaaret\class\2004f_29c50\Sunspot-Rotation-Animation.gif"/>
          <p:cNvPicPr/>
          <p:nvPr/>
        </p:nvPicPr>
        <p:blipFill>
          <a:blip r:embed="rId1"/>
          <a:stretch/>
        </p:blipFill>
        <p:spPr>
          <a:xfrm>
            <a:off x="380880" y="1828800"/>
            <a:ext cx="4649760" cy="464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8"/>
          <p:cNvSpPr/>
          <p:nvPr/>
        </p:nvSpPr>
        <p:spPr>
          <a:xfrm>
            <a:off x="5562720" y="1905120"/>
            <a:ext cx="3124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58000" y="380988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1 years, the Sun’s magnetic field changes direction.  Overall cycle is 22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Z:\kaaret\class\2004f_29c50\17f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temp"/>
          <p:cNvPicPr/>
          <p:nvPr/>
        </p:nvPicPr>
        <p:blipFill>
          <a:blip r:embed="rId1"/>
          <a:stretch/>
        </p:blipFill>
        <p:spPr>
          <a:xfrm>
            <a:off x="3657600" y="1539720"/>
            <a:ext cx="5486400" cy="53182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5715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Z:\kaaret\class\2004f_29c50\SolarProminence.jpg"/>
          <p:cNvPicPr/>
          <p:nvPr/>
        </p:nvPicPr>
        <p:blipFill>
          <a:blip r:embed="rId1"/>
          <a:srcRect l="7146" t="7141" r="9186" b="9191"/>
          <a:stretch/>
        </p:blipFill>
        <p:spPr>
          <a:xfrm>
            <a:off x="0" y="685800"/>
            <a:ext cx="7772400" cy="62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nence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ler than phot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Z:\kaaret\class\2004f_29c50\solar_flare.jpg"/>
          <p:cNvPicPr/>
          <p:nvPr/>
        </p:nvPicPr>
        <p:blipFill>
          <a:blip r:embed="rId1"/>
          <a:stretch/>
        </p:blipFill>
        <p:spPr>
          <a:xfrm>
            <a:off x="0" y="0"/>
            <a:ext cx="7010280" cy="6891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-3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flares 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ter, up to 40,000,000 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energ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Z:\kaaret\class\2004f_29c50\prominence_anim.gif"/>
          <p:cNvPicPr/>
          <p:nvPr/>
        </p:nvPicPr>
        <p:blipFill>
          <a:blip r:embed="rId1"/>
          <a:stretch/>
        </p:blipFill>
        <p:spPr>
          <a:xfrm>
            <a:off x="2286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s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ruption of gas, can reach Earth and affect aurora, satell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:\kaaret\class\2004f_29c50\soho_2_400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975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ar coronal temperature is abo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’s core has a temperature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ally intense regions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cooler than surroundings (dark by contrast with hotter surfa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5800 K layer we s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thin layer, a few 1000 km thick, at a temperature of about 10,000 K.  Can be seen during solar ecli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utermost layer, 1,000,000 km thick, at a temperature of about 1,000,0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Z:\kaaret\class\2004f_29c50\sunlayer.gif"/>
          <p:cNvPicPr/>
          <p:nvPr/>
        </p:nvPicPr>
        <p:blipFill>
          <a:blip r:embed="rId1"/>
          <a:stretch/>
        </p:blipFill>
        <p:spPr>
          <a:xfrm>
            <a:off x="1752480" y="0"/>
            <a:ext cx="5181840" cy="49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609480" y="51814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emp"/>
          <p:cNvPicPr/>
          <p:nvPr/>
        </p:nvPicPr>
        <p:blipFill>
          <a:blip r:embed="rId1"/>
          <a:srcRect l="7367" t="7365" r="7367" b="7371"/>
          <a:stretch/>
        </p:blipFill>
        <p:spPr>
          <a:xfrm>
            <a:off x="228600" y="304920"/>
            <a:ext cx="6553080" cy="630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Z:\kaaret\class\2004f_29c50\chromosphere.jpg"/>
          <p:cNvPicPr/>
          <p:nvPr/>
        </p:nvPicPr>
        <p:blipFill>
          <a:blip r:embed="rId1"/>
          <a:stretch/>
        </p:blipFill>
        <p:spPr>
          <a:xfrm>
            <a:off x="0" y="0"/>
            <a:ext cx="86868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Z:\kaaret\class\2004f_29c50\corona_beer.jpg"/>
          <p:cNvPicPr/>
          <p:nvPr/>
        </p:nvPicPr>
        <p:blipFill>
          <a:blip r:embed="rId1"/>
          <a:stretch/>
        </p:blipFill>
        <p:spPr>
          <a:xfrm>
            <a:off x="-380880" y="1295280"/>
            <a:ext cx="9524880" cy="326556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:\kaaret\class\2004f_29c50\corona.gif"/>
          <p:cNvPicPr/>
          <p:nvPr/>
        </p:nvPicPr>
        <p:blipFill>
          <a:blip r:embed="rId1"/>
          <a:stretch/>
        </p:blipFill>
        <p:spPr>
          <a:xfrm>
            <a:off x="0" y="168120"/>
            <a:ext cx="668988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temp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4889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58:33Z</dcterms:created>
  <dc:creator>Philip Kaaret</dc:creator>
  <dc:description/>
  <dc:language>en-US</dc:language>
  <cp:lastModifiedBy>Legion</cp:lastModifiedBy>
  <dcterms:modified xsi:type="dcterms:W3CDTF">2017-01-26T10:30:29Z</dcterms:modified>
  <cp:revision>10</cp:revision>
  <dc:subject/>
  <dc:title>Outer Layers of the Sun</dc:title>
</cp:coreProperties>
</file>