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94B95-C827-4BB1-986A-58C800C4078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ize and Structure of the Milky Way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live in a new class of astronomical ob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ze and Structure of the Milky Way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live in a new class of astronomical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responds to net force by moving on circular path around the galactic ce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responds to net force by moving on circular path around the galactic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distributions like 1,2, and 3 give circular orbits with V(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lot of V versus R is called a rotation cur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distributions like 1,2, and 3 give circular orbits with V(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ot of V versus R is called a rotation cu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bserved Case for 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sign of the “root-R falloff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bserved Case for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sign of the “root-R falloff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gnificance of the Rotation Curve for 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tation curve stays high outside the bulk of the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indicated by the rotation curve exceeds that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the mass of the Milky Way is in an unknown form of “Dark Matter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ificance of the Rotation Curve for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tation curve stays high outside the bulk of the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indicated by the rotation curve exceeds that in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 mass of the Milky Way is in an unknown form of “Dark Matt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w View of 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ark matter ha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w View of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dark matter ha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rk Matter: A Major Problem for Contemporary Physics and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s are a small fraction of the mass of major galax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ark matter problem becomes more pronounced as you go out in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rm of the dark matter is unknown; probably not what you studied in chemis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sibly/probably an unknown form of elementary parti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rk Matter: A Major Problem for Contemporary Physics and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s are a small fraction of the mass of major galax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ark matter problem becomes more pronounced as you go out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m of the dark matter is unknown; probably not what you studied in 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y/probably an unknown form of elementary part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Very Ce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Very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we see at the galactic center (radio and infrared wavelength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radio source (synchrotron radia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infrared wavelengths, can see stars orbiting very vast around Sgr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antwrp.gsfc.nasa.gov/apod/ap001220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 years of observations speeded 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see at the galactic center (radio and infrared wavelength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radio source (synchrotron radi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infrared wavelengths, can see stars orbiting very vast around Sgr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antwrp.gsfc.nasa.gov/apod/ap001220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 years of observations speeded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rbit of Star S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bit of Star S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 S2 passes about as close to Sagittarius A* as the planet Pluto passes to the Sun.  Indicates supermassive object in a very small re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 S2 passes about as close to Sagittarius A* as the planet Pluto passes to the Sun.  Indicates supermassive object in a very small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… an advertisement for 29:52 “Exploration of the Solar System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ther half of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… an advertisement for 29:52 “Exploration of the Solar System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ther half of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ations indicate the shape and size of the Milky Way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ations indicate the shape and size of the Milky Way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l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actic ce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actic ha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: what simple obser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consistent with a part of this pictu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l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actic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actic ha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what simple ob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consistent with a part of this pictu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iew of the Milky Way with an artist’s tou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iew of the Milky Way with an artist’s tou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 topic: the motion of the Sun in the Milky Way (leads to something extremely interest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the Sun move in the Milky 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topic: the motion of the Sun in the Milky Way (leads to something extremely interest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Sun move in the Milky 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 topic: the motion of the Sun in the Milky Way (leads to something extremely interest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the Sun move in the Milky 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=220 km/se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moves in response to the gravitational force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rest of the mass in the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topic: the motion of the Sun in the Milky Way (leads to something extremely interest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Sun move in the Milky 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=220 km/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 moves in response to the gravitational force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rest of the mass in the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is the mass distribut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ould we tel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the mass distribut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uld we te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 of Gravity acts on the Sun and all objects in the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y has magnitude and dir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of Gravity acts on the Sun and all objects in the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has magnitude and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7B5B-DA38-47E5-AD35-4C8FBFA6D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19F7-EB1E-400E-ACCD-99BF9AC71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4F24-DE73-41FD-AADF-0355452AE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A1D3-CE1F-46C0-AFF3-042EE7B7F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EC2E-56B9-4862-9A67-7C58428CB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AEE8-C50A-4424-A001-112178C97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B584-C280-43D8-ADC8-20D301CEC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DAC8-B29B-4B2B-8DDD-566C559D8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3668-8A82-4A56-BC7A-173736781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B91D-C285-454C-B5C2-B49278EB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3F48-A37D-4E13-A214-51C374A2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3561-E244-437B-83DC-E45CBE2D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2C686-6B87-40F9-BF91-B82E8E169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antwrp.gsfc.nasa.gov/apod/ap001220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964"/>
                </a:solidFill>
                <a:latin typeface="Arial"/>
              </a:rPr>
              <a:t>The Size and Structure of the Milky Way Galax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22_28"/>
          <p:cNvPicPr/>
          <p:nvPr/>
        </p:nvPicPr>
        <p:blipFill>
          <a:blip r:embed="rId1"/>
          <a:stretch/>
        </p:blipFill>
        <p:spPr>
          <a:xfrm>
            <a:off x="2819520" y="1523880"/>
            <a:ext cx="3450960" cy="47674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6553080" y="2286000"/>
            <a:ext cx="213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5807"/>
                </a:solidFill>
                <a:latin typeface="Arial"/>
              </a:rPr>
              <a:t>We live in a new class of astronomical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54097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n responds to net force by moving on circular path around the galactic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Forces on Star"/>
          <p:cNvPicPr/>
          <p:nvPr/>
        </p:nvPicPr>
        <p:blipFill>
          <a:blip r:embed="rId1"/>
          <a:stretch/>
        </p:blipFill>
        <p:spPr>
          <a:xfrm>
            <a:off x="1143000" y="298440"/>
            <a:ext cx="6400800" cy="4795920"/>
          </a:xfrm>
          <a:prstGeom prst="rect">
            <a:avLst/>
          </a:prstGeom>
          <a:ln w="0">
            <a:noFill/>
          </a:ln>
        </p:spPr>
      </p:pic>
      <p:sp>
        <p:nvSpPr>
          <p:cNvPr id="94" name="Oval 4"/>
          <p:cNvSpPr/>
          <p:nvPr/>
        </p:nvSpPr>
        <p:spPr>
          <a:xfrm>
            <a:off x="2209680" y="3505320"/>
            <a:ext cx="38124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>
            <a:off x="5943600" y="2057400"/>
            <a:ext cx="38088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s distributions like 1,2, and 3 give circular orbits with V(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22_29"/>
          <p:cNvPicPr/>
          <p:nvPr/>
        </p:nvPicPr>
        <p:blipFill>
          <a:blip r:embed="rId1"/>
          <a:stretch/>
        </p:blipFill>
        <p:spPr>
          <a:xfrm>
            <a:off x="304920" y="2394000"/>
            <a:ext cx="8458200" cy="2492280"/>
          </a:xfrm>
          <a:prstGeom prst="rect">
            <a:avLst/>
          </a:prstGeom>
          <a:ln w="0">
            <a:noFill/>
          </a:ln>
        </p:spPr>
      </p:pic>
      <p:sp>
        <p:nvSpPr>
          <p:cNvPr id="99" name="Line 4"/>
          <p:cNvSpPr/>
          <p:nvPr/>
        </p:nvSpPr>
        <p:spPr>
          <a:xfrm>
            <a:off x="2819520" y="4952880"/>
            <a:ext cx="1523880" cy="0"/>
          </a:xfrm>
          <a:prstGeom prst="line">
            <a:avLst/>
          </a:prstGeom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7086600" y="5029200"/>
            <a:ext cx="1676520" cy="0"/>
          </a:xfrm>
          <a:prstGeom prst="line">
            <a:avLst/>
          </a:prstGeom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1296360" y="5486400"/>
            <a:ext cx="643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5807"/>
                </a:solidFill>
                <a:latin typeface="Arial"/>
              </a:rPr>
              <a:t>A plot of V versus R is called a </a:t>
            </a:r>
            <a:r>
              <a:rPr b="1" lang="en-US" sz="2400" spc="-1" strike="noStrike">
                <a:solidFill>
                  <a:srgbClr val="0d5807"/>
                </a:solidFill>
                <a:latin typeface="Arial"/>
              </a:rPr>
              <a:t>rotation cu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Observed Case for the Milky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219320" y="60195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ign of the “root-R falloff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22_30"/>
          <p:cNvPicPr/>
          <p:nvPr/>
        </p:nvPicPr>
        <p:blipFill>
          <a:blip r:embed="rId1"/>
          <a:stretch/>
        </p:blipFill>
        <p:spPr>
          <a:xfrm>
            <a:off x="1752480" y="1752480"/>
            <a:ext cx="5572080" cy="426744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Significance of the Rotation Curve for the Milky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tation curve stays high outside the bulk of the st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 indicated by the rotation curv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ceed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in st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of the mass of the Milky Way is in an unknown form of “Dark Matt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View of the Milky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"/>
          <p:cNvSpPr/>
          <p:nvPr/>
        </p:nvSpPr>
        <p:spPr>
          <a:xfrm>
            <a:off x="3733920" y="3809880"/>
            <a:ext cx="1066680" cy="0"/>
          </a:xfrm>
          <a:prstGeom prst="line">
            <a:avLst/>
          </a:prstGeom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4"/>
          <p:cNvSpPr/>
          <p:nvPr/>
        </p:nvSpPr>
        <p:spPr>
          <a:xfrm>
            <a:off x="4191120" y="37339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5"/>
          <p:cNvSpPr/>
          <p:nvPr/>
        </p:nvSpPr>
        <p:spPr>
          <a:xfrm>
            <a:off x="1676520" y="2286000"/>
            <a:ext cx="5181480" cy="3200400"/>
          </a:xfrm>
          <a:prstGeom prst="ellipse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304920" y="57913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rk matter ha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7"/>
          <p:cNvSpPr/>
          <p:nvPr/>
        </p:nvSpPr>
        <p:spPr>
          <a:xfrm flipV="1">
            <a:off x="1752480" y="4571640"/>
            <a:ext cx="1295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Dark Matter: A Major Problem for Contemporary Physics and Astr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Stars are a small fraction of the mass of major galax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The dark matter problem becomes more pronounced as you go out in the unive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The form of the dark matter is unknown; probably not what you studied in chem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Possibly/probably an unknown form of elementary part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t the Very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gcradioarc_vla"/>
          <p:cNvPicPr/>
          <p:nvPr/>
        </p:nvPicPr>
        <p:blipFill>
          <a:blip r:embed="rId1"/>
          <a:stretch/>
        </p:blipFill>
        <p:spPr>
          <a:xfrm>
            <a:off x="1066680" y="990720"/>
            <a:ext cx="7143840" cy="568008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hat do we see at the galactic center (radio and infrared wavelength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trong radio source (synchrotron radi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At infrared wavelengths, can see stars orbiting very vast around Sgr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antwrp.gsfc.nasa.gov/apod/ap001220.html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Ten years of observations speeded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Orbit of Star 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S2-GC"/>
          <p:cNvPicPr/>
          <p:nvPr/>
        </p:nvPicPr>
        <p:blipFill>
          <a:blip r:embed="rId1"/>
          <a:stretch/>
        </p:blipFill>
        <p:spPr>
          <a:xfrm>
            <a:off x="1600200" y="1447920"/>
            <a:ext cx="5791320" cy="476712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 S2 passes about as close to Sagittarius A* as the planet Pluto passes to the Sun.  Indicates supermassive object in a very small reg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1752480" y="48006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d0964"/>
                </a:solidFill>
                <a:latin typeface="Arial"/>
              </a:rPr>
              <a:t>First… an advertisement for 29:52 “Exploration of the Solar System”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19320" y="5790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30309"/>
                </a:solidFill>
                <a:latin typeface="Arial"/>
              </a:rPr>
              <a:t>The other half of astr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saturn"/>
          <p:cNvPicPr/>
          <p:nvPr/>
        </p:nvPicPr>
        <p:blipFill>
          <a:blip r:embed="rId1"/>
          <a:stretch/>
        </p:blipFill>
        <p:spPr>
          <a:xfrm>
            <a:off x="609480" y="1600200"/>
            <a:ext cx="4930920" cy="3676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titan"/>
          <p:cNvPicPr/>
          <p:nvPr/>
        </p:nvPicPr>
        <p:blipFill>
          <a:blip r:embed="rId2"/>
          <a:stretch/>
        </p:blipFill>
        <p:spPr>
          <a:xfrm>
            <a:off x="6153120" y="1523880"/>
            <a:ext cx="2322720" cy="411480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110645"/>
                </a:solidFill>
                <a:latin typeface="Arial"/>
              </a:rPr>
              <a:t>Observations indicate the shape and size of the Milky Way Galax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22_28"/>
          <p:cNvPicPr/>
          <p:nvPr/>
        </p:nvPicPr>
        <p:blipFill>
          <a:blip r:embed="rId1"/>
          <a:stretch/>
        </p:blipFill>
        <p:spPr>
          <a:xfrm>
            <a:off x="4371840" y="457200"/>
            <a:ext cx="4413240" cy="609588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110645"/>
                </a:solidFill>
                <a:latin typeface="Arial"/>
              </a:rPr>
              <a:t>Structure of the Milky Wa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402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020b"/>
                </a:solidFill>
                <a:latin typeface="Arial"/>
              </a:rPr>
              <a:t>D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2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020b"/>
                </a:solidFill>
                <a:latin typeface="Arial"/>
              </a:rPr>
              <a:t>Bul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2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020b"/>
                </a:solidFill>
                <a:latin typeface="Arial"/>
              </a:rPr>
              <a:t>Galactic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2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020b"/>
                </a:solidFill>
                <a:latin typeface="Arial"/>
              </a:rPr>
              <a:t>Galactic ha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22_28"/>
          <p:cNvPicPr/>
          <p:nvPr/>
        </p:nvPicPr>
        <p:blipFill>
          <a:blip r:embed="rId1"/>
          <a:stretch/>
        </p:blipFill>
        <p:spPr>
          <a:xfrm>
            <a:off x="5029200" y="1600200"/>
            <a:ext cx="3451320" cy="47671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593640" y="4543560"/>
            <a:ext cx="435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7d17"/>
                </a:solidFill>
                <a:latin typeface="Arial"/>
              </a:rPr>
              <a:t>Question: what simple obse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7d17"/>
                </a:solidFill>
                <a:latin typeface="Arial"/>
              </a:rPr>
              <a:t>Is consistent with a part of this pic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10645"/>
                </a:solidFill>
                <a:latin typeface="Arial"/>
              </a:rPr>
              <a:t>A view of the Milky Way with an artist’s tou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Milky_Way"/>
          <p:cNvPicPr/>
          <p:nvPr/>
        </p:nvPicPr>
        <p:blipFill>
          <a:blip r:embed="rId1"/>
          <a:stretch/>
        </p:blipFill>
        <p:spPr>
          <a:xfrm>
            <a:off x="1752480" y="99072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964"/>
                </a:solidFill>
                <a:latin typeface="Arial"/>
              </a:rPr>
              <a:t>Next topic: the motion of the Sun in the Milky Way (leads to something </a:t>
            </a:r>
            <a:r>
              <a:rPr b="0" i="1" lang="en-US" sz="3200" spc="-1" strike="noStrike">
                <a:solidFill>
                  <a:srgbClr val="0d0964"/>
                </a:solidFill>
                <a:latin typeface="Arial"/>
              </a:rPr>
              <a:t>extremely </a:t>
            </a:r>
            <a:r>
              <a:rPr b="0" lang="en-US" sz="3200" spc="-1" strike="noStrike">
                <a:solidFill>
                  <a:srgbClr val="0d0964"/>
                </a:solidFill>
                <a:latin typeface="Arial"/>
              </a:rPr>
              <a:t>interesting</a:t>
            </a:r>
            <a:r>
              <a:rPr b="0" i="1" lang="en-US" sz="3200" spc="-1" strike="noStrike">
                <a:solidFill>
                  <a:srgbClr val="0d0964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193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30309"/>
                </a:solidFill>
                <a:latin typeface="Arial"/>
              </a:rPr>
              <a:t>How does the Sun move in the Milky W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4"/>
          <p:cNvSpPr/>
          <p:nvPr/>
        </p:nvSpPr>
        <p:spPr>
          <a:xfrm>
            <a:off x="4419720" y="3048120"/>
            <a:ext cx="30456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5"/>
          <p:cNvSpPr/>
          <p:nvPr/>
        </p:nvSpPr>
        <p:spPr>
          <a:xfrm>
            <a:off x="2438280" y="2819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>
            <a:off x="2514600" y="2895480"/>
            <a:ext cx="2057400" cy="3049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964"/>
                </a:solidFill>
                <a:latin typeface="Arial"/>
              </a:rPr>
              <a:t>Next topic: the motion of the Sun in the Milky Way (leads to something </a:t>
            </a:r>
            <a:r>
              <a:rPr b="0" i="1" lang="en-US" sz="3200" spc="-1" strike="noStrike">
                <a:solidFill>
                  <a:srgbClr val="0d0964"/>
                </a:solidFill>
                <a:latin typeface="Arial"/>
              </a:rPr>
              <a:t>extremely </a:t>
            </a:r>
            <a:r>
              <a:rPr b="0" lang="en-US" sz="3200" spc="-1" strike="noStrike">
                <a:solidFill>
                  <a:srgbClr val="0d0964"/>
                </a:solidFill>
                <a:latin typeface="Arial"/>
              </a:rPr>
              <a:t>interesting</a:t>
            </a:r>
            <a:r>
              <a:rPr b="0" i="1" lang="en-US" sz="3200" spc="-1" strike="noStrike">
                <a:solidFill>
                  <a:srgbClr val="0d0964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2193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30309"/>
                </a:solidFill>
                <a:latin typeface="Arial"/>
              </a:rPr>
              <a:t>How does the Sun move in the Milky W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4"/>
          <p:cNvSpPr/>
          <p:nvPr/>
        </p:nvSpPr>
        <p:spPr>
          <a:xfrm>
            <a:off x="4419720" y="3048120"/>
            <a:ext cx="30456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5"/>
          <p:cNvSpPr/>
          <p:nvPr/>
        </p:nvSpPr>
        <p:spPr>
          <a:xfrm>
            <a:off x="2438280" y="2819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"/>
          <p:cNvSpPr/>
          <p:nvPr/>
        </p:nvSpPr>
        <p:spPr>
          <a:xfrm>
            <a:off x="2514600" y="2895480"/>
            <a:ext cx="2057400" cy="3049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7"/>
          <p:cNvSpPr/>
          <p:nvPr/>
        </p:nvSpPr>
        <p:spPr>
          <a:xfrm>
            <a:off x="2514600" y="1295280"/>
            <a:ext cx="4419720" cy="4038840"/>
          </a:xfrm>
          <a:prstGeom prst="ellipse">
            <a:avLst/>
          </a:prstGeom>
          <a:noFill/>
          <a:ln w="316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8"/>
          <p:cNvSpPr/>
          <p:nvPr/>
        </p:nvSpPr>
        <p:spPr>
          <a:xfrm rot="17811600">
            <a:off x="2115360" y="2075400"/>
            <a:ext cx="687240" cy="345960"/>
          </a:xfrm>
          <a:prstGeom prst="rightArrow">
            <a:avLst>
              <a:gd name="adj1" fmla="val 50000"/>
              <a:gd name="adj2" fmla="val 4966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6249960" y="1905120"/>
            <a:ext cx="21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=220 km/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671040" y="5610240"/>
            <a:ext cx="768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5807"/>
                </a:solidFill>
                <a:latin typeface="Arial"/>
              </a:rPr>
              <a:t>The sun moves in response to the gravitational forc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5807"/>
                </a:solidFill>
                <a:latin typeface="Arial"/>
              </a:rPr>
              <a:t>All the rest of the mass in the gala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ow is the mass distribut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95280" y="6324120"/>
            <a:ext cx="640080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could we te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Distribution Galactic Mass"/>
          <p:cNvPicPr/>
          <p:nvPr/>
        </p:nvPicPr>
        <p:blipFill>
          <a:blip r:embed="rId1"/>
          <a:stretch/>
        </p:blipFill>
        <p:spPr>
          <a:xfrm>
            <a:off x="990720" y="895320"/>
            <a:ext cx="7315200" cy="548316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cc"/>
                </a:solidFill>
                <a:latin typeface="Arial"/>
              </a:rPr>
              <a:t>Force of Gravity acts on the Sun and all objects in the Galax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95280" y="60958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ravity has magnitude and direc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orbits"/>
          <p:cNvPicPr/>
          <p:nvPr/>
        </p:nvPicPr>
        <p:blipFill>
          <a:blip r:embed="rId1"/>
          <a:stretch/>
        </p:blipFill>
        <p:spPr>
          <a:xfrm>
            <a:off x="1828800" y="1905120"/>
            <a:ext cx="5410080" cy="405432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9T03:29:46Z</dcterms:created>
  <dc:creator>Steven/Spangler</dc:creator>
  <dc:description/>
  <dc:language>en-US</dc:language>
  <cp:lastModifiedBy>Legion</cp:lastModifiedBy>
  <dcterms:modified xsi:type="dcterms:W3CDTF">2017-01-26T10:35:16Z</dcterms:modified>
  <cp:revision>10</cp:revision>
  <dc:subject/>
  <dc:title>The Size and Structure of the Milky Way Galaxy</dc:title>
</cp:coreProperties>
</file>