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7AA1-6E95-44A2-96B8-E85262EA9B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F5B-98C3-4C22-9DEC-3057CED3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1CE-EC3B-4B17-9BF5-42202A5A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D8C-E2C4-40BD-8017-9CBCC4D0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2F0-27D2-497D-9869-330E6262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FF8-DAEE-4F87-9B5B-3C39D94F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4C7-9C5A-4436-85A3-66980D86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B98-C61A-4F97-96F5-C8365235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FDF-68DC-429A-ACE5-FEAB8E07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391-7168-4A20-B729-E906C428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AE8-17FF-4231-ACCC-8CA4419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247-215B-4289-A427-A86C355F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12F-8433-440F-8BC1-26D1F988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E53C-BF04-4637-A46C-BEF5A9F22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7-01-26T10:35:16Z</dcterms:modified>
  <cp:revision>10</cp:revision>
  <dc:subject/>
  <dc:title>The Size and Structure of the Milky Way Galaxy</dc:title>
</cp:coreProperties>
</file>