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C0A1-5373-4C14-A744-FB823BA94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pter 15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Galax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5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Galax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ew Toward the Galactic C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Towar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– Visible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–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– Infrared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– Infrared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lactic Center – Zooming in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Infrared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s very high density at the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Galactic Center – Zooming in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Infrared 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ows very high density at the Cen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actic Nucleus – in Radio W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ctic Nucleus – in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actic Nucleus – in Infra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ctic Nucleus – in 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ack Hole Area at the Center of our Galaxy might look something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ack Hole Area at the Center of our Galaxy might look something 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bits of Stars in Different Parts of Our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GC 4144, very similar to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bits of Stars in Different Part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GC 4144, very similar to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Galaxy rotates, and the center rotates faster than the outer parts do – Kepler’s 3rd Law 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r Galaxy rotates, and the center rotates faster than the outer parts do – Kepler’s 3rd Law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un moving through the Milky Way Galaxy and, if so, about how fa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about how fa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Dark Matter Do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alaxy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know what this Dark Matter is, but it does have gra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uch Dark Matter Do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Galaxy Hav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don’t know what this Dark Matter is, but it does have grav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ID YOU THIN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has about 200 billion st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how fast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about 200 billion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un moving through the Milky Way Galaxy and, if so, how fas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discov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perties of our Milky Way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location in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re is a huge Black Hole at the center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discove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perties of our Milky Way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location in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there is a huge Black Hole at the center of our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– Side 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ge-on view showing the Milky Way’s disk, nuclear bulge, and ha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ilky Way – Sid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ge-on view showing the Milky Way’s disk, nuclear bulge, and ha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– Top 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ilky Way – Top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e Map the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We Map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p of the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 of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Big?  How Many Sta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000 light years thick where we 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 billion st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n is 26,000 light years from the galactic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Big?  How Many St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000 light years thick where w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 billion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n is 26,000 light years from the galactic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Sta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bulge about 20,000 light years diame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k contains gas, dust, and Population I stars (young, metal-rich star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o is composed mostly of Population II stars (old, metal-poor star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Kinds of St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clear bulge about 20,000 light years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k contains gas, dust, and Population I stars (young, metal-rich st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lo is composed mostly of Population II stars (old, metal-poor st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2958-0EDC-45E4-8660-ECDD91CD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6C91-EEE5-49BD-AD90-73E41628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132-6BA6-43CA-8188-C3F3B903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117-98BE-493F-AC63-40036AAE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2B5B-5858-440A-A9FB-9E7CEB62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40F2-D573-43BB-A89E-E02184F1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DCAF-A006-4536-A973-8F372C9B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B515-91CE-46EF-87B3-637ABDA0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AAB9-A625-454E-8850-388085F5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FC35-4962-4CDF-8094-616682E2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995F-4A5A-4602-9313-66C43BDA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D871-35B4-4C88-9212-7EA27C67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8DE5-832E-4C8E-9233-035840E9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D65E-71AB-45EB-A96F-96D81BD7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8309-945D-4392-AF01-836557E7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57D4-7EB4-4C08-BFBC-38929536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7889-A9DE-43DA-B97A-D7BCAC44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23B-B357-4E20-87F8-780063D6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7A10-09AC-49BC-A911-0A21E297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448-CCB6-484A-B5D9-64FA08C4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C69-F37D-4410-B0F4-0AE46427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250-9B89-4029-AE5C-FA569FC6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84B-235D-4EEC-AE78-751D8510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F1F-9107-4CB8-A06F-F8AF537F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7C3E-83DF-4CC5-9D9C-F000C07409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EAE5-0F21-4F5E-A21B-93FDFBF0EDC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344600"/>
            <a:ext cx="2895480" cy="307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hapter 15: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Milky Way Galaxy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6" descr="milky way optical &amp; ir"/>
          <p:cNvPicPr/>
          <p:nvPr/>
        </p:nvPicPr>
        <p:blipFill>
          <a:blip r:embed="rId1"/>
          <a:stretch/>
        </p:blipFill>
        <p:spPr>
          <a:xfrm>
            <a:off x="3352680" y="812880"/>
            <a:ext cx="6197760" cy="61974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View Toward the Galactic Cente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Picture 3" descr="COMINS 15-06"/>
          <p:cNvPicPr/>
          <p:nvPr/>
        </p:nvPicPr>
        <p:blipFill>
          <a:blip r:embed="rId1"/>
          <a:stretch/>
        </p:blipFill>
        <p:spPr>
          <a:xfrm>
            <a:off x="1752480" y="1219320"/>
            <a:ext cx="5640480" cy="4624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 Box 4"/>
          <p:cNvSpPr/>
          <p:nvPr/>
        </p:nvSpPr>
        <p:spPr>
          <a:xfrm>
            <a:off x="1295280" y="58672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Looking toward the Galaxy Center in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Sagittarius – Visible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3" descr="COMINS 15-05"/>
          <p:cNvPicPr/>
          <p:nvPr/>
        </p:nvPicPr>
        <p:blipFill>
          <a:blip r:embed="rId1"/>
          <a:stretch/>
        </p:blipFill>
        <p:spPr>
          <a:xfrm>
            <a:off x="76320" y="1838160"/>
            <a:ext cx="9021600" cy="4105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4" name="Text Box 4"/>
          <p:cNvSpPr/>
          <p:nvPr/>
        </p:nvSpPr>
        <p:spPr>
          <a:xfrm>
            <a:off x="1523880" y="7451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Looking toward the Galaxy Center in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Sagittarius – Infrared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3880" y="7451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COMINS 15-12"/>
          <p:cNvPicPr/>
          <p:nvPr/>
        </p:nvPicPr>
        <p:blipFill>
          <a:blip r:embed="rId1"/>
          <a:stretch/>
        </p:blipFill>
        <p:spPr>
          <a:xfrm>
            <a:off x="152280" y="1828800"/>
            <a:ext cx="8967960" cy="4297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Galactic Center – Zooming in,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in Infrared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Picture 3" descr="COMIN 15-13abc"/>
          <p:cNvPicPr/>
          <p:nvPr/>
        </p:nvPicPr>
        <p:blipFill>
          <a:blip r:embed="rId1"/>
          <a:stretch/>
        </p:blipFill>
        <p:spPr>
          <a:xfrm>
            <a:off x="90360" y="1676520"/>
            <a:ext cx="8977320" cy="4260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52" name="Text Box 4"/>
          <p:cNvSpPr/>
          <p:nvPr/>
        </p:nvSpPr>
        <p:spPr>
          <a:xfrm>
            <a:off x="2286000" y="6156360"/>
            <a:ext cx="48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very high density at the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Galactic Nucleus – in Radio Wav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334200" cy="452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6" name="Text Box 5"/>
          <p:cNvSpPr/>
          <p:nvPr/>
        </p:nvSpPr>
        <p:spPr>
          <a:xfrm>
            <a:off x="1295280" y="59277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Galactic Nucleus – in Infrared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838080" y="59277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COMINS 15-14b"/>
          <p:cNvPicPr/>
          <p:nvPr/>
        </p:nvPicPr>
        <p:blipFill>
          <a:blip r:embed="rId1"/>
          <a:stretch/>
        </p:blipFill>
        <p:spPr>
          <a:xfrm>
            <a:off x="2062080" y="914400"/>
            <a:ext cx="4872240" cy="48578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e Black Hole Area at the Center of our Galaxy might look something like this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Picture 3" descr="hubble black hole accretion disk"/>
          <p:cNvPicPr/>
          <p:nvPr/>
        </p:nvPicPr>
        <p:blipFill>
          <a:blip r:embed="rId1"/>
          <a:stretch/>
        </p:blipFill>
        <p:spPr>
          <a:xfrm>
            <a:off x="1339920" y="1600200"/>
            <a:ext cx="6508800" cy="5168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rbits of Stars in Different Parts of Our Galaxy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6" name="Picture 3" descr="FINAL COMIN 15-15"/>
          <p:cNvPicPr/>
          <p:nvPr/>
        </p:nvPicPr>
        <p:blipFill>
          <a:blip r:embed="rId1"/>
          <a:stretch/>
        </p:blipFill>
        <p:spPr>
          <a:xfrm>
            <a:off x="1828800" y="1295280"/>
            <a:ext cx="5548320" cy="457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7" name="Text Box 4"/>
          <p:cNvSpPr/>
          <p:nvPr/>
        </p:nvSpPr>
        <p:spPr>
          <a:xfrm>
            <a:off x="2209680" y="609588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C 4144, very similar to the Milky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ur Galaxy rotates, and the center rotates faster than the outer parts do – Kepler’s 3</a:t>
            </a:r>
            <a:r>
              <a:rPr b="1" lang="en-US" sz="2800" spc="-1" strike="noStrike" baseline="30000">
                <a:solidFill>
                  <a:srgbClr val="b2b2b2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Law !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0" name="Picture 4" descr="COMINS 15-17a"/>
          <p:cNvPicPr/>
          <p:nvPr/>
        </p:nvPicPr>
        <p:blipFill>
          <a:blip r:embed="rId1"/>
          <a:stretch/>
        </p:blipFill>
        <p:spPr>
          <a:xfrm>
            <a:off x="228600" y="2108160"/>
            <a:ext cx="4259160" cy="3683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OMINS 15-17b"/>
          <p:cNvPicPr/>
          <p:nvPr/>
        </p:nvPicPr>
        <p:blipFill>
          <a:blip r:embed="rId2"/>
          <a:stretch/>
        </p:blipFill>
        <p:spPr>
          <a:xfrm>
            <a:off x="4800600" y="2092320"/>
            <a:ext cx="4159080" cy="3699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990720" y="6994440"/>
            <a:ext cx="7315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523880" y="600408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lik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249240" y="601992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7" name="Picture 3" descr="COMINS 15-18"/>
          <p:cNvPicPr/>
          <p:nvPr/>
        </p:nvPicPr>
        <p:blipFill>
          <a:blip r:embed="rId1"/>
          <a:stretch/>
        </p:blipFill>
        <p:spPr>
          <a:xfrm>
            <a:off x="990720" y="1219320"/>
            <a:ext cx="7138800" cy="5560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about how fa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How Much Dark Matter Does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ur Galaxy Have?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don’t know what this Dark Matter is, but it does have gr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HAT DID YOU THIN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lky Way has about 200 billion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how f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You will discover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erties of our Milky Way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’s location in the Milky 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re is a huge Black Hole at the center of our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e Milky Way – Side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5" descr="COMINS 15-01a"/>
          <p:cNvPicPr/>
          <p:nvPr/>
        </p:nvPicPr>
        <p:blipFill>
          <a:blip r:embed="rId1"/>
          <a:stretch/>
        </p:blipFill>
        <p:spPr>
          <a:xfrm>
            <a:off x="1523880" y="1143000"/>
            <a:ext cx="6216840" cy="485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685800" y="61722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ge-on view showing the Milky Way’s disk, nuclear bulge, and ha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e Milky Way – Top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90720" y="57754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milky way barred spiral"/>
          <p:cNvPicPr/>
          <p:nvPr/>
        </p:nvPicPr>
        <p:blipFill>
          <a:blip r:embed="rId1"/>
          <a:stretch/>
        </p:blipFill>
        <p:spPr>
          <a:xfrm>
            <a:off x="2306520" y="1184400"/>
            <a:ext cx="4530960" cy="4530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ow We Map the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3" descr="COMINS 15-08"/>
          <p:cNvPicPr/>
          <p:nvPr/>
        </p:nvPicPr>
        <p:blipFill>
          <a:blip r:embed="rId1"/>
          <a:stretch/>
        </p:blipFill>
        <p:spPr>
          <a:xfrm>
            <a:off x="1828800" y="1219320"/>
            <a:ext cx="5448240" cy="44226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228600" y="57754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p of the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3" descr="COMINS 15-09"/>
          <p:cNvPicPr/>
          <p:nvPr/>
        </p:nvPicPr>
        <p:blipFill>
          <a:blip r:embed="rId1"/>
          <a:stretch/>
        </p:blipFill>
        <p:spPr>
          <a:xfrm>
            <a:off x="0" y="1752480"/>
            <a:ext cx="9167760" cy="3656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8" name="Text Box 4"/>
          <p:cNvSpPr/>
          <p:nvPr/>
        </p:nvSpPr>
        <p:spPr>
          <a:xfrm>
            <a:off x="609480" y="577548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34290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ow Big?  How Many Stars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2174400"/>
            <a:ext cx="259092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,000 light years thick where we 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 billion st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 is 26,000 light years from the galactic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COMINS 15-11"/>
          <p:cNvPicPr/>
          <p:nvPr/>
        </p:nvPicPr>
        <p:blipFill>
          <a:blip r:embed="rId1"/>
          <a:stretch/>
        </p:blipFill>
        <p:spPr>
          <a:xfrm>
            <a:off x="4191120" y="38160"/>
            <a:ext cx="4030560" cy="681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124080" cy="19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What Kinds of Stars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clear bulge about 20,000 light years dia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k contains gas, dust, and Population I stars (young, metal-rich sta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lo is composed mostly of Population II stars (old, metal-poor sta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COMINS 15-11"/>
          <p:cNvPicPr/>
          <p:nvPr/>
        </p:nvPicPr>
        <p:blipFill>
          <a:blip r:embed="rId1"/>
          <a:stretch/>
        </p:blipFill>
        <p:spPr>
          <a:xfrm>
            <a:off x="4191120" y="25560"/>
            <a:ext cx="4039920" cy="6832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8:35:13Z</dcterms:created>
  <dc:creator>Dr. Mark Hollabaugh</dc:creator>
  <dc:description/>
  <dc:language>en-US</dc:language>
  <cp:lastModifiedBy>Legion</cp:lastModifiedBy>
  <dcterms:modified xsi:type="dcterms:W3CDTF">2017-01-26T14:01:38Z</dcterms:modified>
  <cp:revision>40</cp:revision>
  <dc:subject/>
  <dc:title>Chapter 15: The Milky Way Galaxy</dc:title>
</cp:coreProperties>
</file>