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D06C-DCEC-4673-8AF1-DAAA9C5AB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ctic Center – Zooming in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alactic Center – Zooming in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Infrared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ws very high density at the Cen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A9D-D593-4AA5-87D4-44C8DB07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DFB-E7DB-40AF-BE09-9DBEC772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65C-4D99-48D0-8EC4-2F5188BE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FDD-052C-480C-AA3F-8E2ACBD1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F8CD-5E05-4C0F-AD04-B01EAC19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EE99-22EA-4150-A68D-54EE5C7F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3BEC-C441-47ED-8491-13A31967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1E1D-3587-4BBA-BC04-A19216E8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382D-C16A-4304-8D08-F0E40110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BA5C-1DD1-47B6-8095-4EA350C8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868C-6729-4E59-BF50-853B1A37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39B-4DD1-415F-ACFD-B9082110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1300-FBB6-4D1A-A832-25D03E34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57E0-9DF5-48AB-8F7B-B0F06330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C3AE-26A5-43BD-829D-7211CE5F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3831-A939-4EB0-86DF-A4AA1215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11D1-2944-4F6F-8F5A-BDAB69B9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94F-11C4-4AC6-A85F-9C1375B5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118-FC23-4967-BD62-1A94DB5C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B07-BBB1-4DB9-9C07-CF2E6D09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0D9-C69A-40D6-937E-DCDA8339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7A5-A3F1-4C8B-8BBE-A028249A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08E-0C77-4DD8-A1C0-3A03A32A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C7B-6110-4F23-82E7-D26DF01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B1BB-8E7E-4DEF-ACA9-DC07375B3B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16AF-E2A4-4AFD-8557-0EB7C8751E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344600"/>
            <a:ext cx="2895480" cy="307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pter 15: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Milky Way Galaxy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6" descr="milky way optical &amp; ir"/>
          <p:cNvPicPr/>
          <p:nvPr/>
        </p:nvPicPr>
        <p:blipFill>
          <a:blip r:embed="rId1"/>
          <a:stretch/>
        </p:blipFill>
        <p:spPr>
          <a:xfrm>
            <a:off x="3352680" y="812880"/>
            <a:ext cx="6197760" cy="61974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iew Toward the Galactic Cen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3" descr="COMINS 15-06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46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12952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Visible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COMINS 15-05"/>
          <p:cNvPicPr/>
          <p:nvPr/>
        </p:nvPicPr>
        <p:blipFill>
          <a:blip r:embed="rId1"/>
          <a:stretch/>
        </p:blipFill>
        <p:spPr>
          <a:xfrm>
            <a:off x="76320" y="1838160"/>
            <a:ext cx="902160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OMINS 15-12"/>
          <p:cNvPicPr/>
          <p:nvPr/>
        </p:nvPicPr>
        <p:blipFill>
          <a:blip r:embed="rId1"/>
          <a:stretch/>
        </p:blipFill>
        <p:spPr>
          <a:xfrm>
            <a:off x="152280" y="1828800"/>
            <a:ext cx="8967960" cy="429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Galactic Center – Zooming in,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in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COMIN 15-13abc"/>
          <p:cNvPicPr/>
          <p:nvPr/>
        </p:nvPicPr>
        <p:blipFill>
          <a:blip r:embed="rId1"/>
          <a:stretch/>
        </p:blipFill>
        <p:spPr>
          <a:xfrm>
            <a:off x="90360" y="1676520"/>
            <a:ext cx="8977320" cy="426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Text Box 4"/>
          <p:cNvSpPr/>
          <p:nvPr/>
        </p:nvSpPr>
        <p:spPr>
          <a:xfrm>
            <a:off x="2286000" y="6156360"/>
            <a:ext cx="48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Radio Wav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34200" cy="45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1295280" y="59277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Infrar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3808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OMINS 15-14b"/>
          <p:cNvPicPr/>
          <p:nvPr/>
        </p:nvPicPr>
        <p:blipFill>
          <a:blip r:embed="rId1"/>
          <a:stretch/>
        </p:blipFill>
        <p:spPr>
          <a:xfrm>
            <a:off x="2062080" y="914400"/>
            <a:ext cx="4872240" cy="4857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Black Hole Area at the Center of our Galaxy might look something like thi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3" descr="hubble black hole accretion disk"/>
          <p:cNvPicPr/>
          <p:nvPr/>
        </p:nvPicPr>
        <p:blipFill>
          <a:blip r:embed="rId1"/>
          <a:stretch/>
        </p:blipFill>
        <p:spPr>
          <a:xfrm>
            <a:off x="1339920" y="1600200"/>
            <a:ext cx="6508800" cy="5168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bits of Stars in Different Parts of Our Galax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Picture 3" descr="FINAL COMIN 15-15"/>
          <p:cNvPicPr/>
          <p:nvPr/>
        </p:nvPicPr>
        <p:blipFill>
          <a:blip r:embed="rId1"/>
          <a:stretch/>
        </p:blipFill>
        <p:spPr>
          <a:xfrm>
            <a:off x="1828800" y="1295280"/>
            <a:ext cx="5548320" cy="45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2209680" y="60958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ur Galaxy rotates, and the center rotates faster than the outer parts do – Kepler’s 3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Law !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4" descr="COMINS 15-17a"/>
          <p:cNvPicPr/>
          <p:nvPr/>
        </p:nvPicPr>
        <p:blipFill>
          <a:blip r:embed="rId1"/>
          <a:stretch/>
        </p:blipFill>
        <p:spPr>
          <a:xfrm>
            <a:off x="228600" y="2108160"/>
            <a:ext cx="425916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MINS 15-17b"/>
          <p:cNvPicPr/>
          <p:nvPr/>
        </p:nvPicPr>
        <p:blipFill>
          <a:blip r:embed="rId2"/>
          <a:stretch/>
        </p:blipFill>
        <p:spPr>
          <a:xfrm>
            <a:off x="4800600" y="2092320"/>
            <a:ext cx="4159080" cy="369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90720" y="699444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3880" y="60040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49240" y="60199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3" descr="COMINS 15-18"/>
          <p:cNvPicPr/>
          <p:nvPr/>
        </p:nvPicPr>
        <p:blipFill>
          <a:blip r:embed="rId1"/>
          <a:stretch/>
        </p:blipFill>
        <p:spPr>
          <a:xfrm>
            <a:off x="990720" y="1219320"/>
            <a:ext cx="7138800" cy="5560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Dark Matter Do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ur Galaxy Have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ID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You will discover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Side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COMINS 15-01a"/>
          <p:cNvPicPr/>
          <p:nvPr/>
        </p:nvPicPr>
        <p:blipFill>
          <a:blip r:embed="rId1"/>
          <a:stretch/>
        </p:blipFill>
        <p:spPr>
          <a:xfrm>
            <a:off x="1523880" y="1143000"/>
            <a:ext cx="6216840" cy="485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685800" y="6172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Top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57754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ilky way barred spiral"/>
          <p:cNvPicPr/>
          <p:nvPr/>
        </p:nvPicPr>
        <p:blipFill>
          <a:blip r:embed="rId1"/>
          <a:stretch/>
        </p:blipFill>
        <p:spPr>
          <a:xfrm>
            <a:off x="2306520" y="1184400"/>
            <a:ext cx="4530960" cy="4530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ow We Map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3" descr="COMINS 15-08"/>
          <p:cNvPicPr/>
          <p:nvPr/>
        </p:nvPicPr>
        <p:blipFill>
          <a:blip r:embed="rId1"/>
          <a:stretch/>
        </p:blipFill>
        <p:spPr>
          <a:xfrm>
            <a:off x="1828800" y="1219320"/>
            <a:ext cx="5448240" cy="4422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75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p of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3" descr="COMINS 15-09"/>
          <p:cNvPicPr/>
          <p:nvPr/>
        </p:nvPicPr>
        <p:blipFill>
          <a:blip r:embed="rId1"/>
          <a:stretch/>
        </p:blipFill>
        <p:spPr>
          <a:xfrm>
            <a:off x="0" y="1752480"/>
            <a:ext cx="9167760" cy="365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8" name="Text Box 4"/>
          <p:cNvSpPr/>
          <p:nvPr/>
        </p:nvSpPr>
        <p:spPr>
          <a:xfrm>
            <a:off x="609480" y="5775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ow Big?  How Many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74400"/>
            <a:ext cx="25909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COMINS 15-11"/>
          <p:cNvPicPr/>
          <p:nvPr/>
        </p:nvPicPr>
        <p:blipFill>
          <a:blip r:embed="rId1"/>
          <a:stretch/>
        </p:blipFill>
        <p:spPr>
          <a:xfrm>
            <a:off x="4191120" y="38160"/>
            <a:ext cx="4030560" cy="68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What Kinds of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MINS 15-11"/>
          <p:cNvPicPr/>
          <p:nvPr/>
        </p:nvPicPr>
        <p:blipFill>
          <a:blip r:embed="rId1"/>
          <a:stretch/>
        </p:blipFill>
        <p:spPr>
          <a:xfrm>
            <a:off x="4191120" y="25560"/>
            <a:ext cx="4039920" cy="683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5:13Z</dcterms:created>
  <dc:creator>Dr. Mark Hollabaugh</dc:creator>
  <dc:description/>
  <dc:language>en-US</dc:language>
  <cp:lastModifiedBy>Legion</cp:lastModifiedBy>
  <dcterms:modified xsi:type="dcterms:W3CDTF">2017-01-26T14:01:38Z</dcterms:modified>
  <cp:revision>40</cp:revision>
  <dc:subject/>
  <dc:title>Chapter 15: The Milky Way Galaxy</dc:title>
</cp:coreProperties>
</file>