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BCD8-E7FF-434D-9537-3F443B629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555-88BC-4BBB-B696-5E0601FD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B12-A8AC-4B46-9209-64BA3A01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7FCA3-B456-4393-8F84-A46FF3B2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B8835-DDF4-4346-9722-8C1B598F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80CEE-E7BB-4BF3-8EB4-224C846A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C6809-C8A1-4D27-980E-5E65C1BC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7D117-89C1-40EC-9799-6A3CD814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D4CDA-DA6F-4305-8AAE-5A165420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1764D-F285-42FD-9EF6-4B0B993F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50260-0942-43E2-8C0F-3D7BA9A5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886FC-A4D0-4706-A7F0-8F0765B8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5EE07-A5AE-493D-819E-B16AACA3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834-0313-4BDF-B93F-68E04DE5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FFE20-FDE8-4AE2-8FC0-38264CD2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5EAF6-5C51-4A10-8C0B-BCAA4172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AE4F5-B3EB-41FD-8656-0698ADEF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00DE4-C819-4C2C-B660-100AF1D6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881C7-AF43-4749-9453-4B945BAA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FFDCC-5D6A-4A3A-9DB7-36C7E8BE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AE321-DA30-4FCF-8E4A-85E44D8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8200C-F4EE-47CC-91C8-EF5E52A3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64A07-EC59-497B-9BA1-23186496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5B14C-ED01-455C-A675-C37C36C8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CC9-29BB-40FA-8B0C-9A561BCE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1A173-96AC-4107-A3F1-DA378A46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87162-C5F0-46DA-B297-E7F73DED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20E5E-997F-415C-99D7-FD4D70A0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2E9EA-E4DF-4744-98C7-3839D32B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F78D0-BA4A-4082-A26B-A97F6C5F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32EB1-BCDA-4212-8021-8254378C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5B5C3-8914-409E-9600-0BB7D58F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3D728-0394-476C-AC06-F70EFBCB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02DAE-996E-41D1-B60F-CAAB56D8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0B7A5-6DF7-4F79-8C6F-023FB9EB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9E96-E236-490B-A7B0-DC0BC90E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2ADE2-076C-47D4-8BBD-087CE30C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5C9E2-7D41-4B3D-90CA-32EC6D72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17F7C-C722-45D8-808F-D4FC7127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4464A-F924-4514-8620-51F2924E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046E5-111E-491C-8ADF-80925D37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134D2-C8F8-467A-BA76-D6C65EE6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A0C76-53A6-464E-9D4E-68FDA97D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2B3E5-18F9-40DC-8198-13CE71AA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9304D-7357-45D9-8591-7F0D56F6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87EAB-8DB3-4B53-9B74-9079946A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3C23-E63E-4DBC-B1E0-A648E6DA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24B6A-E6A0-4E61-B452-5B651F64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2A7BC-F8E0-486F-A013-F9EA4F8F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E6972-A92E-483D-91A0-9371CABB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284D5-A4FB-4E2A-9B6B-D9938CAD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DEDCA-5ECE-4AC7-A4C0-9D281446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92E00-5357-4594-82D4-355A61FC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A8BCA-AA69-4B36-B64C-65F97166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510FA-DB9E-4ECF-8967-92F9243E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9270A-7534-4C92-8BC5-C670D742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5619A-B02D-4A67-8656-56D6D27F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4FF5-AC8E-4BCD-8656-1E541D04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E2D3D-E849-4470-94BF-176A45F7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29835-6B35-4EE7-91BC-147F36E5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E9DE7-6618-4509-AE37-5CAE440A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DA68E-9645-45A1-8FA6-B5785D03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DA343-7917-4B95-8066-201B5C00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782739-9129-4A3A-8353-B8FB1FA1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2AA42-4796-4406-AA9A-CB6EB4F8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DC9AE-14A8-4FC5-8B8E-597907FA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A20E7-B052-4B09-8134-D1FBAA8D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F5282-7F21-46B3-A30D-0CBCFD9C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3336-A4B2-48D7-8AC2-5C06AD43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1AB337-907F-4FA5-85CA-21106EA2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28E86-1F10-4CA5-8F97-C13DC0CF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A8A31-CAA4-47E6-9F72-7A9BE593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D95AD-51F6-42E7-80E3-81932C33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BFA7F-C559-4718-AB33-35A4BC7B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D0E74-3A97-4C40-9B57-CBB0C4DD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8340D-B619-4A75-B416-5D7832EB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891AA-8A98-43A2-83F1-06B5A23D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7BD90-B3E6-4A62-A903-BF5F2CDE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109E58-2FF3-4DE2-9396-71B66E62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E499-DF49-4714-9D83-36666983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8E4AA9-6B09-4A6E-92D7-34FF1213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08AB4C-B6DB-4247-879F-3C3403AF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D2D58D-FF02-4059-ADD4-4E402280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36090D-EC72-4BBB-BE86-81940C25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B75157-984F-4199-90C5-EDD5F4ED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B01D8-29BD-4CCC-B6E2-29F7611E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3C1373-11F7-419F-98CD-3A42DC66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53F37-6E05-45D3-A771-422CBA0E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1D254-3C05-43B9-85FA-63F15F10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0B6FDC-8C66-471A-B8B7-8F70AEE3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2DF7-4659-410A-972F-E9B7889B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81052C-4B90-42CF-97A3-AD2CDC42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890182-E9C0-495C-8046-190D1390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B70233-FD2E-443E-B34F-61A4B20A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49AE0C-6166-4320-94A8-A84861BA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70914-696E-4A44-AC19-FBBBD85D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A5B7BE-4F13-4FA2-B91B-4AC2234A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E03ED9-E2AE-4AC6-AFBD-B1250AE3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4D82A7-CCE4-4BB3-94E7-D07F457D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0D7BE2-D3AB-4831-839C-4F0A0D6A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72735-823E-4D70-90D2-C40BC0EF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5A2A-64C5-4428-9E8A-20DE90FF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1C5B4A-5112-44F4-B1D9-FB5D8ED3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854073-1158-4184-89C1-5089B50F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C9E250-2D7F-4F00-85E7-136288C0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3DCBB7-3AE2-47A2-8C10-2351C1F7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8595C-615A-4DF0-9AFF-8F1EE97C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13ABD-8EF4-4559-9F84-A15CF051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F3B0DD-5B2D-47B9-BCAD-BC614CAA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7C1F2F-5D71-4F01-9526-644A6D02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ACE11A-D091-4FDB-A5AE-027586AB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D87F1-8DA0-45A3-9089-2F164513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0E5-260C-42E6-BF14-CA02CF2A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E755-77D4-429B-A570-E809BE41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23C63-0835-4D46-8BF6-BD6AB109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ECA56-A8C5-4F9B-BC12-6FA685F1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32FDB-9FF3-4CE0-9D9B-41E73EED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76035C-0130-487F-A5F9-A02E883D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C3BECA-FFFB-4500-B4D6-7D8379A5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A6DF76-61E8-4F87-9851-9253F51C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577810-2750-4F85-8863-9784998B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E32323-2607-4036-83B4-F18A99B7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CFB1D5-B33B-4FA4-8929-454DDDEB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E46E58-F31A-4340-B7C2-12992E5A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78B9-EFDA-44D8-9461-96945815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57379-9616-499D-9843-F4D1AE5B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A5C201-C20A-4C16-BBF2-4397C5A1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C8C94F-983C-4C5D-B47A-1CC6439D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E7697D-77E1-4E44-9B4E-3C4CAA15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9BCE7C-C6B4-4A03-8F18-47E31509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5BB43A-5272-4EB9-80FD-0C91FA36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9B3018-6C4E-4CE3-B31B-DB788928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12A7C1-C631-4F57-9C3C-0AF9B976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B35810-EC69-4C30-A46A-7F0CA279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C78933-056D-4A88-BE17-C5FD62AE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0195-E0A0-45EA-9C0A-68739D3D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A41AD1-4D9E-4E6D-AE0D-4B836E10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5E3998-86DC-420F-9956-443AC5F6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46F2E9-AA15-414A-A271-FF8C0C42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C90465-279E-42A6-984D-6E88ECFB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4A1EB9-90A0-4CB0-9D4B-0E37F5DC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AE98E5-CEFC-4A79-8EB1-56403357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4A8D9-8780-41A3-BBEA-2677A65D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B3BA9-E65D-40FD-9401-4968C06F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C30E21-D3FC-46F2-BFE0-5F7FE037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4ED0A8-488C-4692-897B-C1B3DCB2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DCF3-F114-44B6-9BD7-7B0375C7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73E469-70E8-474C-992E-A935E92A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C06C08-EFE1-4A0F-8B21-9462D76E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BE353A-F620-4059-ADF9-08F5B252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5228EA-CEFF-40C9-A9E9-61BE1FD2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549300-EA23-4285-A563-1C885CEB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52C71D-E5FE-4C5C-9040-B34EE786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2058AF-39E0-457E-B869-4A402092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B5EDBA-5EBD-4CD3-A738-1E1D980A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5ED42D-A518-4530-95BD-214593CE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0A5405-8D93-4113-B8C3-17E3A0DA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2240-F17D-4966-B812-B654E050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EDFAB4-8C3F-4DC5-80D7-DEB1D237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94D725-0765-4F55-8213-F8FF2901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2AD8B7-5AAF-4EE3-A3D5-42F271BC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24F05D-EB78-49F8-BA25-67826D56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A32520-E0D0-4BEA-A4E0-3AA0C0B2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AC8076-B00A-4B81-BFCE-42D7AA69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318DB9-1055-42E3-8608-1528BB47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570FF2-9503-4300-B823-029A6291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155318-3C22-47A5-99EC-AA170614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62D371-5F75-4D74-9D17-05096492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B4107-EB6B-420D-B15B-C83628D7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DCFA33-641A-4859-92D6-CC777F1A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598B14-CDBF-478D-A142-CB71AFB7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C76CDF-C4B6-4F35-83F8-8DD880DD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6FA91F-4ABD-4B9C-82F2-2C358661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1E9134-7363-4BC7-91B6-1981173E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8D524C-E098-4444-87F2-5B5D1811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8B1A8A-EDD1-47F4-8A29-637FCBD8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C757BF-B6B0-44AA-AFC0-FBF38068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43B60F-C8BD-4E7F-8B05-378E257A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0CCC9B-E553-4627-8B5B-72A724C5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4DBE4-1010-4B6E-9415-E7B742D8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A358CC-5C3D-494B-B3AF-2A926E7D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94E344-D9CC-429F-9A0F-3F7D5209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DBD61F-810D-4C02-86F3-71DB599D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A37DEC-5BDC-4684-9C5C-6D90A430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3B9C94-EF08-441A-AFE1-C7C23593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02A275-E5BB-4E27-8F2A-08233908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23452C-778E-40B9-A7FB-7053FBB1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6B9A86-A63D-4976-AB55-67E49D7F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679858-8C66-49F9-80E9-C30850B5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490DE6-ACC9-43C7-8F07-A96109F8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D18C8-C954-48A2-8493-37523DAA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7F63DE-0B5E-4C59-B222-8B1145AC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BA3CEB-6828-43C7-AD6F-BFD77B1C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4584D2-7D5C-4572-A9F6-6673A761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3DA0AB-CD36-4DB2-94BE-0BDD7D60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994D31-B64A-4D2C-A671-BE0994E2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B3F9EF-327A-4908-900A-5D81C6C7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BE443C-1B14-403D-A43C-5A550072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FB4B87-6866-41B3-8D0E-FD42BEF2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DCE9EA-813A-4E75-9D67-8858D5C5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B992EF-E29B-45B7-8FB3-3CA62A22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E5DE-67E1-4E26-B0D3-9726D233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CFB813-BFB3-48DD-A5A5-8A32CCFF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06898D-EB53-4A50-8CB7-8D6299B3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79D402-3908-45D0-8982-6B95D685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D16773-0752-46A3-9DA9-15B1756D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B506C8-3817-4ED3-B077-96651E1C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A037B3-D9F1-4E40-9FCC-47C379AE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2F8C13-908A-4319-9F7C-B4A7878C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343F5E-BA3E-4E39-BD20-B1EA564D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C9D851-9094-4F4A-84DB-77B56C0B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BF3711-9BAE-4D8B-AE52-DD0A7F40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10B6D-7DA4-4748-BC6A-90BA1D01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EDC424-3C70-4D39-9061-918B82F2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292973-C5BD-4ADE-BE9F-0D0D0BF7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BD7E5B-29D2-4124-BC61-9E52BB83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024AD7-DADA-489B-88A9-791C902F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F4E42B-C548-4A9B-A963-A70D3B9B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9B647E-8E8D-4EA1-B3F7-8EFE8A60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466AA7-F24D-4E55-86A1-8050DED0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5AA7DD-4FB4-4D28-9D04-7BFC2BB8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F67220-726B-4406-A127-EDAD282D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FDE6F0-E259-4126-9408-657CD607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B98-9BC4-47ED-9D61-E34683A4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8DD2-738C-4C01-95F9-F312D90E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18845C-81B0-4856-8D54-56411A88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C4FE35-90CF-4908-95A0-87FD9348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213E49-FDA9-4057-A625-CCEF2567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A5C88E-EE00-477B-A4F2-C6B2C5D6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C25408-D549-43D2-95AB-F0140EF1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B87C37-91D6-403F-AF46-43C6064F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5FA27E-89FD-47BE-B132-5606E931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654CB1-42B9-4171-9A39-5CE2EE82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276100-BFD0-40CD-B560-ACAAEBF1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1769E3-8DE9-4945-B31E-7BC87B3F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E9756-54E7-4F96-ADFA-860A26AD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B5233A-D696-40DC-9160-B1F1A0D3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5F5A1F-AAFF-4C6B-BD17-368A86EE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7EB620-978F-4EFA-BFBA-ED19CFD0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C11621-31B4-4B6E-B353-D1ABF84A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629E55-E2E7-4812-9429-418811BE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8F8B33-29FD-4433-8808-B0697794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E19BB3-86F6-446D-88FA-43C94CE3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7D3664-A525-42CE-A37A-A7BE77C2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3A4679-BA6D-4F25-AFA2-AED3521B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485120-247D-4B89-8346-11E61779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D02E-7FF6-403F-AEBA-A7181116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019211-8227-4158-A28E-CA3C0943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B62BC7-B911-48B0-943A-FB2BDFD5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631145-E4AA-4E01-95E4-1EE6D8E6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FA6170-E523-41D8-BE4D-97B97E39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609730-8BBA-48E2-8646-60343290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7798A7-E05B-4A39-BE86-87677645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D3AE84-EDBC-458D-B53A-D9D8DB5E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26F785-519D-4230-BAC7-575055F6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8A942A-87B4-48D2-ABEB-A49BD6DA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656109-1A78-44DC-8C33-92890ABB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4BAC-5644-4A76-B6CA-F47A4152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13A5D9-AC18-49BA-B506-E03DC8F7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2F3553-22A4-499F-92C3-FB3A88CE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B9B53B-DF8D-491D-BADF-CCB71089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D6CBBD-9DD5-4848-9493-9FB68967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DBA310-626B-4DA5-B772-9D86B466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498C83-173F-4DA2-8184-12F3561D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69335A-8DC3-4F62-8243-09A12C42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9D499B7-E3AD-461F-BCDB-9066B543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810B95A-17EF-400A-9267-2E19CA7C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09BF8B1-9AF1-4E0F-BB55-027146F7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BF27E-0969-45F3-99C2-C2D21126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B6639A5-8A7A-4F01-A212-B0254067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94DFF5F-F6AA-4E34-B876-EEA840C6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03F811D-3F77-43AF-89E0-C1677FEC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275A717-E7D0-4477-9E2B-4C2CB396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99E3369-278F-43D6-ACD5-DC76A385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8B3CA97-A8EE-4CC6-953C-764B0CB9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2625200-53FB-4A8E-A0B6-25CC7DF1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19E5427-D301-4AB6-94A9-43294C7D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F948F94-CECB-4622-A9D2-43C00C40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5A413A-05D5-4211-A2F7-9D9DB728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3E8C-748C-477E-A626-6D26AE3D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8411B2-9992-4EFC-8EFF-554120CA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AE8A1A-3617-42CD-A4BF-A15FA35A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A6C8B9-1290-41FF-8AD6-0E7376D3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90FE41-6700-46C3-968A-CE5E2C1F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23122C-40E8-404C-8B8F-8AE1C750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835352-2D22-444C-982A-A9D1A877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EAA1C2-0DF8-4BCC-A3EE-39A31DE2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0A18EA-9BE7-4402-8F06-659C8DE6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547EC4-9AC8-4E7B-8DA5-1FFFB982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0627BC-F5AD-43B4-8715-55932109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57F8-6948-4613-9688-F5C9A344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B46B8E-FBCB-4656-B695-0F90D248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70A66C-99D0-4A32-8C9D-04100F68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4FC4A5-609C-4E45-8A27-471FD511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88AEE8-8E62-4826-AE8F-7391F5D5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BA7B6E-3B84-4C83-A2E1-63C7803A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96FD27-64E4-4B72-A3AE-E7AAA698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3FE62F-AC8D-49C7-B377-C41FF0D5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657AC4-8C17-4BF7-8152-F2C3A6FA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0EB88D-9AE8-4DE8-96F0-054ABE60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E22048-D070-4966-ADC7-8C2A482A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450DBA-F717-4811-A0CF-68082566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278494-8B01-4514-A1F2-1F0D228C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DD1828-40B7-4E99-93EA-DEFF6F65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D533B9-40EE-4803-AA5A-00FDFF2F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CB187B-ED02-409B-A3B9-9D04F18B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12F962-CC4F-40EE-B5B7-BABC62AD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A790FA-3EE2-4B70-A549-B6A6D4E0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B4FAE4-ECEA-4F4F-9A19-05417497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66BE68-49C2-43B3-91B7-7526F881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3644D5-A8DD-459F-875A-111C793D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15B24A-CC1C-4D9F-82EB-277FCDED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AE3DAB-B880-4F0F-A4EA-59DB3D5B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0C2E42-E829-4C1E-B63D-3422F3CF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48F9A1-389B-446B-BCF7-17D049C6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947599-85EA-4242-88BF-A2F73B3E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5AF988-0A4C-492D-9B41-8705ECC0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FD64E7-7C2B-46C4-9C8C-FCF03719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8BBB64-AA9D-44F8-9287-A12ABE44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A376EC-C1D4-4CA2-9744-775492DF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8DFCAE-EFCD-4F82-A49D-F8888CC3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9C86EF-70AE-49FD-A819-10905228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D14D2D-73ED-499B-87AA-755AB037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B71F4-BFD4-40A8-9A81-B0634DF5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338B61-B10E-44EE-8F8F-8C384F59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D5BD62-6FF7-48DC-8E3B-A8A1482C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8B6278C-B57F-4538-A90B-213BC4C6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0526EB-BF4B-4AA1-96E5-73CD7943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708FB0-E79F-4334-BDF4-4E8F741B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FED1DB-F44E-43DF-A357-730CAC7B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EFE88B-988C-448E-81EF-FD4F62B2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1B6FA8-B191-490F-8487-40A9A51C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DF668D-5122-4CBB-BB36-AF2C3EFD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29AD2C-D12B-4CBC-A694-80D96BD2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205-B09A-48D1-8B9C-6947F9D2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0396C-7B20-4336-AF03-8E158AB2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8048FF-59DD-4BBB-BA72-95F69E4B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C1C6FD-7FAA-41D4-8A92-AD8964D2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A3127B-3D49-409B-A7FC-F550BEC2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FC282E-92B8-4A6C-AE09-BFB147A0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34DF40-3EDF-45BA-9496-413FFB7F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2664C5-86D2-4569-A905-7FB8AFEC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DDDE6C-D609-4917-A9D0-4FFB57E6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7CC8C5-C6D2-4675-B2F6-54827FEA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EF3EFF-6D3A-4777-9003-F9975891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0F49E84-4473-48E8-B48D-4CE67A70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98941-B566-4F9A-8AA9-9D7853F5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3AA5CD2-F493-495C-BD39-581FC311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066D903-1EE6-408C-9412-32B90CC1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60113A3-B8DA-4327-B1D8-1EFC1AF5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6AF71CD-9FDC-4674-8F87-CB55A98A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AEA1518-F364-4C52-8853-99DC4D80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AB03199-3028-47A3-B558-5E848053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7C7528E-3F32-485F-869F-DCA3E74B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32DCFEE-FC26-4621-B9B9-3FBF3C4C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248E6CF-8647-4BE4-81D3-959BE7C7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D9FB406-A234-423A-85F3-F06A5A12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D93213-6EA0-45DA-BF73-2F6A7752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F9DF6CF-6527-4F75-AB1A-74378DEB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CD58F0-0331-4AE6-990A-B23AFF80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BE313B-297A-405A-A650-A07129CF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C58945-07ED-4929-B64B-9253CCB6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701FA4-5A8F-4DBF-B316-875B5A03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54D21A-BAE8-4458-B713-1DA36E03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1FEAA3-E6F0-4DF1-BC99-500452F0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AE47F3-3220-46C3-80E4-94A11455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3EF1845-B79B-4617-AF28-53DBB49A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E59E76-EB65-40C1-8C69-E927C89E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8C130F-DA89-4763-9653-3C9FB4BB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041E05-DDC9-44D2-9B39-4619EF56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007B07-327C-4C82-9062-7F501A5A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3AC7FB-9EC5-4CC6-9920-A7B91573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A220D2-0FF0-4896-9FAE-AA5BDEC6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22D322-D7E0-4C31-BB1B-AA7EC9B5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00FD733-2157-446A-B7C3-A6A50366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805AF3-83D8-4616-B8CA-2FA80A48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3F81C2B-3FDF-475F-A5F7-947C7960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BBE9F50-3918-43C4-9CD6-94FD2681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C67896-A666-4916-B76B-EA338105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7FE17-81D4-4B95-A33D-2FB0D462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502682-EEC0-45EC-AF1F-67608C6E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ACC3F7-532A-4056-B925-27CDCE58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FA8989B-C03C-445B-90AB-16A046F8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223D0F-EB3E-4F10-AAF4-C7D97BE3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BDF441-B5F2-44FA-91CB-D684877E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0B96827-27D6-4647-A659-3BEBECD2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33D4CE9-93F6-4BF4-8779-73D9FF97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0BDDDCA-C793-423F-A5FD-BC3A48F9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1BDB92E-CCB9-45A0-B401-FFAF8229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4DD024-4D5C-47AC-A8FB-F7270E96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AE0EFA-9096-443B-928B-DFDF0342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BD9751E-0527-4DD2-AAE6-B0824F56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9E1EC55-824C-460F-8446-E22F3C9F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C006AB-F3D8-4985-AC94-B411646F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E890AB-E185-45E7-8933-8B22AE2F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2B48813-D067-4F5B-82D5-C9FB81D8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A3326A8-D535-405E-91B3-3E3778C2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37DAC0F-4BA1-4B07-9484-8E32A2AA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B95A462-3113-4EC8-8087-D76D7DD9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E8C3E9F-5B60-42C5-A93A-C67A2D16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E1B1592-0BDF-4706-A3CF-E7BDB8EB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939102-0C8B-45E5-9F0E-985688D2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34246B4-F1C4-427B-9D94-6C0C0F99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281E40A-E484-487C-A149-C42817F3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0685539-5E0A-454D-8E8D-A7DDCC85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D1E3849-C0E1-4F3B-BAB8-6F2E8DCC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02EAC3D-ACFE-4F7C-9BDE-1DF0A611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4418D9D-B553-4D88-94FC-7A009DC4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7B3D433-A70A-4106-8536-769247B0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58566B4-C512-4C9A-802D-58D061E3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48D9EB3-0CED-48B1-9FC8-B5F84994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CE6864-7765-4C08-8D27-EFA44EE2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F7BBA-97BB-4373-A9CA-479942FD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2908D1E-EDAF-4BD2-A8F6-04B9E8AB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FB5E85B-755B-462D-99DE-B9AD7975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A03A6D0-946F-4929-9030-DD7401E6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1905AF4-C78E-47AE-969D-77B4A8BA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50814A0-5330-4DFC-9C86-2C49A5FE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041F93D-7216-4829-BE11-E2E8E658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70730C-FC07-458E-B4E6-BA60F07A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3ABC12D-FA01-463C-B305-053963BC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23591DC-C38F-4645-B563-CB60C9CE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FDF94AA-9766-4128-A3A0-1F1B6831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424DA-AAE0-4120-B141-817F4686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54F0233-C0DB-4B05-9DD4-8C966D36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9C16553-B56C-421A-9098-9463039F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ACD1ADD-0C7B-4A8F-BB9C-36FFEF07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403314-DB17-4719-9B36-2A165E83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D9DAEC-0DAD-40AB-B601-C32DC85F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C8C86AF-26A1-4080-8DEF-13C64A36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06E7AC3-D658-409A-A191-E4770E89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8D927B-BB42-4615-A405-83685BF2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3D2A66C-4F6E-4C75-9118-0BFD24F3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895CF62-05D6-41B8-9504-CE34C54B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AE1F3-4735-4922-8651-DF807FF8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3C91A5-A96A-438A-901D-98B16F81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04D11EA-F5B8-4B9F-8EF2-62A4CFC0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9900B4E-F202-41E4-AA65-3F206252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494947-C853-4BF1-87AE-A61C6309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C19259-8738-4393-A764-397110A1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F10EBE7-4BC7-4D95-8CEA-874318F6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70A83C0-E26A-479D-834B-D1343356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71509E-D72C-44DE-A925-723F73C5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606832-61C7-4D1F-9D35-457A34A2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5F70DB1-B36E-4A7B-BF03-182CD3F1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D1C-BFEB-4BBD-8AA1-1E1CBD10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D4AC8-EEF6-46FD-B46B-8CBE36B5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B8261DE-C998-4BB6-B763-0B71D552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CBACDF7-9702-4841-9D67-A775E7ED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4FD2E93-EC2F-4B16-9829-A390D1CF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0708A00-46D0-4E69-B94C-D986476A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05F5706-16C8-48C9-B13D-4DA2F943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A414829-E7FE-4C75-A7CC-B31CE192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2DD3F0A-7AA8-43F6-8ACC-B403F499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2EDC2F9-D42E-4B65-97BD-23A02A92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873C7CF-EE2A-4485-9F1B-B466F7F2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082703E-7120-4CBE-BE3F-251B03C2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B915E-5A26-4715-9EB7-EC7AA6CD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1F7BD2-5AC6-4BBF-B3A0-293FE08D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7280EF4-0FD7-4AC7-9A04-94333A47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6473FC2-2988-418E-9554-520DEE39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2FE81AB-9DD7-4B53-AC20-7EFFA8EC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3773EAE-FCAB-4CD1-871C-B31F2301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941338C-EA20-4575-B451-89150373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F87ACAC-947B-483C-9042-86CD6222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16C2575-335C-469E-A537-F2693C1E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890E51B-760D-4937-BC2A-B1CD5EDB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44326FB-C211-4E00-92C6-91B902FF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402B9-E122-4A7E-A7B9-38D54659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6508052-1B19-40C2-8A83-AEB60EF4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2A7B683-6760-4EE1-84F1-6FAD95BA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D9166BC-7E0B-4CA2-9E84-CB9F02A2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7870955-090B-48C6-9E04-19228DB9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F363DCD-05A9-4657-AAA5-3DE7674D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8C8292E-819A-4E0F-94BC-4E0C48D6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18B45D0-DF0A-4A4D-9EC0-E5550AE4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55B9F12-AA7E-42E2-B8CC-D7E3E6D6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F8FD3AD-CC37-4F65-8E30-31714A71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42D5A88-5D7A-4C5F-A314-3E085A91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5DBEB-4219-419F-8CD8-E5EE1658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ABCED20-D9D3-4209-81F9-D4F6F671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9EEF084-F027-4734-91E6-34F8CDC7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33B940-983E-44F8-8077-A3432929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7ED1671-0685-48E4-90D6-0CD34B60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7DDA817-01F0-4774-9D0B-07212D9E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EC9572F-366D-4B43-AF1B-50F07957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FC2BA48-72A2-4EEB-B95D-4F262A98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96A9182-E7CE-4BC0-916B-765D362E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D5BF902-3111-4D88-832B-E0D40B1E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450564-FD59-49D2-96D6-4C9AA5E2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949DC-C67A-4563-83C5-C043C98B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D8E8FD0-7B38-49D7-860C-37332C67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9122939-1DAC-4718-B9C2-86DB0AB3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98564AF-98D1-4DDB-AACE-2B014672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E06A97F-FA8B-4890-9874-ED932BEF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CE62176-6361-4410-8530-EC70202B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D36C1EB-1039-4D97-9305-E4FE6E87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5BD6A2F-14AA-4DE6-A61F-287509F0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1D08B79-DE84-4761-824D-D6B42310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A309AF1-3453-4F4D-9439-E5DB3C46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021820-CCB7-41E4-A419-525627CE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E5653-3EFF-45DE-9DE6-C5EFFD42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5EA8A0F-3E5D-403E-B85E-56227551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C3F9969-84BD-4831-8130-04645F25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8B076F9-5941-4E5F-8BF2-5C236A9D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40C6901-6335-423C-B5FA-CEA0941F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ACFB3DE-AE98-44DA-AAD9-907E242B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1D38E57-E958-4334-B834-A9A6B3E5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25DC5BC-66E1-4121-B2C7-D527B1F1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51E4CC5-3908-4281-BE88-8DCAB39B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E52E2A7-321E-404C-B818-F91AE90F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4F1F701-9044-4746-BF80-F729AE82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CA6E5-B36D-4C20-922A-76B1D484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5DE6013-9BC4-4E4B-9D08-56DBCB2D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9E00DFF-6C77-4BDA-B851-0AF58D46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702292D-8E9E-426B-9A41-2AA8C0E7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211252E-49A7-49F7-92FE-859D1C54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E989B00-5127-4DFF-A5C8-31CFCCFE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16861EA-3195-4F54-9AE4-943A1DDB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304CBEA-1EBE-4133-A07A-99ED4638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0C8114-B2AC-4E84-B7C7-498CEB21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B5223F9-C568-49FE-9F4F-8EBC2E12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346F8B3-1DA4-486C-BF86-ED40761E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24F73-6F4E-4EF6-85E8-FCF9B73D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FD7BAD4-35D2-42C0-98F6-F49C1B7B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621E6C7-1A3C-46D0-A517-8BCD5399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7BC9079-DFBD-47FB-8788-656F78A4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F6414DC-B51D-4280-B7D1-13A48249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81D4DAD-F102-41AB-AC7A-1750DE34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B08FC45-966C-4548-9BE1-815EC50B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22FA60-1D72-4E73-9377-4763E78C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4AF46C5-3B29-48F1-8B13-E8DED91A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5A705A0-92A3-4C61-A170-66B2DABD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37CEBC8-EB12-4CA8-A803-421FEB66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CD410-318B-4308-975F-EF5B0E9E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A3D344C-FB7D-4F38-8621-4E769B0F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9275CF4-A6DE-4BD9-931C-A8A7A773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0DDCDDF-E1BD-412F-9CBD-E33667A6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BB8E6CF-DFAB-4CEE-82FA-66BA993F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CD52145-7C3B-4149-B02D-A9740532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4729A46-6A07-4E5F-ADCE-84D62EDC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6D042CC-667D-41FC-B4B8-B55EE20C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E3AF4A2-90E4-4187-9C19-B325B868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C3CD6EB-F80A-4FCD-AC39-B3077510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F4F6093-CB20-4CDB-A3CF-E7348C61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A3D9F-526F-432C-B700-F34F9B3D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D9DE2A4-5946-454F-8841-5D0B2BAA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E554E6F-BA2C-4568-A4EB-7B186782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51F9464-E8D1-48B2-9F57-6D378099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4931424-4F2E-4FB6-9C45-ECA7BF32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663CE47-933C-4AD8-8B8B-91D5CA43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D1051B5-D170-4B6B-A956-23415E5C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D8AAB81-0986-4D6B-8C74-A0FA4EAE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35233F5-E95A-46FA-B230-E1DEAB7D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59B207B-9C86-4A86-804A-D624D653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A3EAD3A-AAEE-4117-B68F-6DB894C6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8D2-C69B-43C4-91B7-92138654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353E3-BC70-44AF-A9DF-146A1A7F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CC1D58D-DC59-4BD9-97FF-F450741F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A88E08D-B8E7-4E54-98AC-646897E1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44EEC47-1E78-4802-A582-CDCD535A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CF01C1E-A985-43DC-8530-6A8DA603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321878A-5640-46BD-8E7D-694DB9EB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FB13B3B-600E-49F1-B6B8-9D3F65AD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75A9DBE-5AE0-4AEB-ABE8-385FAEB7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CDEC20E-11E4-4DE8-8451-2252414F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564F184-C32E-4295-92B3-4402A848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27818B4-FC67-42A3-A39E-F952EA9B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A9C3C-F7FE-420F-9332-897C3E1E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47567B7-9B68-47C0-AFCE-3B300D1C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50309F6-5B24-4BDC-AB6F-5B2382A2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59DD1EA-3F53-42C6-A630-D574CA3E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F76C3FD-ABD6-4D9A-A350-9F76273E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D940BC1-61D3-48B1-B77A-DD4AE26B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EB840A7-1C5E-48B8-8D82-E30AC431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5423076-18F7-4F68-A415-1571BEFE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A711511-E632-4C41-9A64-670DE484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DBCF613-31AE-463A-B5D6-06A64099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98CAC7B-745A-4EBC-A082-14181313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A4159-6500-4397-9C2E-46BAA93E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4BFA164-7156-4C35-B449-E4927684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134621E-E771-4D7D-A8C6-84B1F3DA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AA7490E-F430-4646-B85C-5A4BE37A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6B9C2E8-398F-4CC5-B9B4-761B6FC9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37AA15A-9A48-4E88-BB4C-BA455434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203CA87-532B-4C94-BCEA-63D6F854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7B915A2-A09B-48D3-AF62-2D4F4E1D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8CC7C6F-2D45-4DC0-AB3C-1CA40CA3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5D3595C-005B-4058-8FA5-E2F33391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554C95E-65B4-42C8-B4BE-E615B2E9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20191-9D32-41B3-B1E5-275BB738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70489FB-0057-444B-A058-C9490DC3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A45B48C-9EC3-4347-AAF0-481C484A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C81F24D-7D7B-4091-94CA-A7600975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A01CA0B-F471-470E-8342-B1314D43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E5FB5EF-80D0-4D17-AFD4-33CA04F4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97929FF-405C-4F7C-B4BF-843208D5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6FC1099-639A-4A67-A619-5C2D5A31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08325F1-43FF-469F-AABB-DEA77C81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FB750A0-12AE-4E8D-812D-A03D5A85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C50D8B4-06C3-4A01-BEEB-9F82C4CF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2C170-C0B0-45E3-9412-D42C593C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B330A26-F0F0-4E6D-9BDD-9A9B6398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93FE7B2-61DE-4241-8061-662BECCF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15D8F40-2607-458D-A7F2-A63814ED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354A309-93D9-4113-8B9C-C30560ED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67FAD33-972B-47A8-B042-4B791835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67407D0-930E-427C-8629-DBFB24D3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05D2698-FABC-4265-8254-5E1DD406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EE29DBE-1F28-40C1-A5FE-7079CCD9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1F6B261-E5C4-44D5-93C7-33EA0F2F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D84516B-5938-4C63-8045-15EA38D9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BF265-A79C-4F9F-BF0F-8C9FC96E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006A43F-B06A-4EAF-A105-BE2201BD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A350B00-09B2-4DA9-A4FA-00E49CCF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51A4D1A-87C2-49E8-A333-15D5CD66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D8B8D50-9814-41AC-B219-987E6ACF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AC0B683-04F5-4535-8929-9D897FCF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A75913D-EE6A-49BB-A2C2-238370A1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BBE215F-3EEE-463E-8846-45366F15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5F7C7E1-AFF7-4E01-AD1A-19706889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1516995-5163-48D4-A685-27770948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8F4C0BD-9E92-4E40-B83E-236B9443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D93D6-E309-49B3-BBB4-9BF101D8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40FE7BD-E397-44B5-9D0A-E1604B96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94F3F87-2EFC-4718-8F5E-2C2344FA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677763A-099D-4B45-B9A5-5C2020E6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4B2A123-DA18-49AF-90E2-9FD87123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E4D98A0-B162-4405-9549-5BAA7489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503C32E-695C-4FFD-9891-C738638C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FEDD98B-8914-4AE0-AE83-7BF36A7F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570587D-5D89-42E5-86BB-E12D93F2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5A73A17-B770-4D63-B9E0-45D4091D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0818532-E119-4801-A9FC-C25AE8B7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B0617-E211-46EE-A6FA-8D68C4E0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B0E3F4A-FD19-471A-BA79-972FB6AA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42CB76C-33E2-4EF2-BEB6-1B4307FD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6F2CC13-6EA4-4A2E-AA77-102A879E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D1D3012-809F-4F8B-8175-66A06DCF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5A1C0DA-93AC-483A-9962-DD28DBE4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C42D587-CEE1-4972-9D1D-24307DFE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9B432A0-42F0-44B1-93F3-FF2904DD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1ECA3D2-820C-4158-A149-4BA5A5E3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8956CEC-E90E-4B94-B4A4-240F0421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B34FD3F-5D58-4CDF-84BA-7107418C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D2E3B-959F-4562-8823-CD7A16C1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69176E0-C11F-4DE6-92CF-3392E4E0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38317C8-2D4A-4F02-B006-153F655A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B7B10BA-CC91-48FE-8111-821ABFF3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0CD97FC-624A-41E7-B834-28FA7E0A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894B07B-508C-4C63-A524-8A859B36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369C9-D68C-4A0F-AF2A-C3933EE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58E-7A26-4A20-A26C-2C274DAE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CFEA2-CF65-4331-8297-B0542610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E4010-56AE-47D7-8243-7FCE06BB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BCA87-13C7-4ECB-B55E-DB1E8B7D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38618-DD82-42DA-9EC4-255ABDEE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D40B16-9586-4A39-B30C-049E0D3F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EFE79-0367-482A-A741-7A1660AD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FB95D6-F7FE-4CE0-B052-B47ABB82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DBDFE-49FD-4B7D-B0AC-FAF6D921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31D8B0-87F9-4F44-8C35-90A6990F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073F8-18A9-4299-B1CA-7880FC72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1D8-E6AC-4750-8893-942F3B3A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76698-143A-4668-A29C-15BA89EF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0E6FE9-74AD-4080-9EE4-0BCA22AC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FCE1E1-A7FE-4785-9D3D-AF8129E4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582CA-31CE-4DA1-8A75-54043DDE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F3C224-FF4A-4B7E-A208-922D07E9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DCDD5-807C-4277-9ABD-88DBAD6F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9D93F-3A3E-4443-B492-2D1C6438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CE247-9F03-4278-8F5A-003B6A5B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96612-4AF9-4ECD-9EE3-DD0C9824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E62AB-E2E4-4AF1-8DA8-439E9A67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26E-D5B6-4B75-BEE6-9820F0F5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F8176-EEE3-4A99-A8FF-9ED482FD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54ACC-8B5A-48A3-A2B8-24287F6B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0ABC4-93B0-4214-8DC2-F4B4194E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4B426-68CD-4D07-B20F-D4F11173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3929B-2E1A-450D-9A7E-917847E1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39120-DDAE-446B-B320-39E7157A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82709-BBB7-4D81-B386-17B277F2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65DA1-F2AF-4EA3-A551-95241064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4B2A2-BB0C-41DB-A62F-53E980A8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6D313-1F40-401E-9826-06612735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DD89-CED9-4572-B1F3-A966A6C488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8C9E-3FCD-4D3C-B8E4-8FC19C180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347E-A0A1-4D60-ACBE-1A96B8390D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DA8A-6B1F-4082-BE4E-3032C0F4C7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398F-0C80-4D9E-AC10-AAA20E5CBA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C8B4-71EF-4668-862A-5B06A73EEFC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2989-527A-4788-AAD5-A0842A0E92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A58A-D763-4129-BBA6-D6DA7800E2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6354-8234-4185-ABCA-ECF5A7E4243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9BCC-631E-4E21-88F9-135D2A815B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B618-FC91-4A7B-8E4D-90B262609BA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AB8E-E701-4EE9-8531-F4208AF0E3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3978-B24B-4E0C-AAAD-5D9977CB2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CBF6-6860-484D-B490-973DEB23DD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06DD-24CE-411F-AC72-89C4009E6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8858-B0E3-4234-B6C2-72890BC62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5E04-F8B1-41BE-97A3-BF7243FA45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65BC-FD9A-4421-9B66-F208802F7E9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634B-2F24-456F-B2D1-31253CD52A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DC96-2A58-4B85-9AF3-9CC78338CE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C3E2-4434-47D8-8662-4F86786081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961A-64ED-412A-A8D6-D52E25A526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5BF3-D264-4870-A68E-46B96D2164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044D-09F2-43A6-BE58-0C5E69D0AE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1732-9E8F-4A26-85BB-E72D9544F0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2C6F-6419-4414-8562-BD289D8DEF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080B-A37D-430D-982F-900C58E612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FA72-FD7C-4428-90E5-3E5BB6425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0756-4E37-442F-8700-CCBE3CBCAF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813D-3C81-475E-8C6F-E3799A6262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F636-0C8F-4407-9F2F-A777637BAB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0F28-45D9-469F-B6CC-1AC7A1721D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23D9-D06D-42A9-9425-308B305D1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3501-F189-4F43-A7F6-334BD1F18A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B88D-A7FB-4213-9C46-FF825293470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D280-7C17-44D7-A817-DE475D8D900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E474-B41F-42D6-8A75-DAADB8286DC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A57E-6EFA-44DE-8D05-A6FD11916FA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9C8A-ECD3-4FC7-BE6A-16E4291065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F6F7-5701-46D0-B216-FB3FCC203F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5ED3-EF04-4BF0-83F8-08D525506F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3CC4-2CFB-4431-869F-339B34DEFF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E7A1-CF87-4178-8B6F-F0C64FDAD0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B4E9-2BDD-404C-8645-2D5CD59A7DE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4ADE-689B-4769-9B1C-7F9F84B92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0E0B-9D30-4D7F-B890-2333058FE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2402-9FC7-4D4E-91FA-BD7B76340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A8C5-FF39-46D2-951C-05B5743A53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C361-B74F-4D18-9F1C-CD1CD5A6B54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B43E-6962-4AB5-9E6A-4FC89E3642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4CEC-B54B-49BF-B782-6914CB2A5B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1884-90C8-4BAD-A2AE-1771992A46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26DC-6318-4871-B76B-9DBDB38C8D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C8A6-4C7D-4247-87B6-2B33968474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0144-57EA-477E-A1F5-013C6900C9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54BF-C450-4DCE-AE3D-C6A1787ECD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19F0-04CE-4813-973A-82C73BF2F9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  <p:sp>
        <p:nvSpPr>
          <p:cNvPr id="33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3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4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3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4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  <p:sp>
        <p:nvSpPr>
          <p:cNvPr id="339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97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1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2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4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  <p:sp>
        <p:nvSpPr>
          <p:cNvPr id="34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9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0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  <p:sp>
        <p:nvSpPr>
          <p:cNvPr id="3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2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  <p:sp>
        <p:nvSpPr>
          <p:cNvPr id="3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  <p:sp>
        <p:nvSpPr>
          <p:cNvPr id="34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9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0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3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2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  <p:sp>
        <p:nvSpPr>
          <p:cNvPr id="34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  <p:sp>
        <p:nvSpPr>
          <p:cNvPr id="34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0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4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5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6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8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  <p:sp>
        <p:nvSpPr>
          <p:cNvPr id="34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3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4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34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6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  <p:sp>
        <p:nvSpPr>
          <p:cNvPr id="3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8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9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0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sp>
        <p:nvSpPr>
          <p:cNvPr id="3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2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3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4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  <p:sp>
        <p:nvSpPr>
          <p:cNvPr id="34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  <p:sp>
        <p:nvSpPr>
          <p:cNvPr id="3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  <p:sp>
        <p:nvSpPr>
          <p:cNvPr id="3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9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  <p:sp>
        <p:nvSpPr>
          <p:cNvPr id="3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LEGION</cp:lastModifiedBy>
  <dcterms:modified xsi:type="dcterms:W3CDTF">2017-07-03T12:49:43Z</dcterms:modified>
  <cp:revision>8</cp:revision>
  <dc:subject/>
  <dc:title>Presidents of the Phillipines</dc:title>
</cp:coreProperties>
</file>