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7565-F394-403F-B3C8-D5B5ADD52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D36-8E54-4648-B2C7-59C30AE2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424-816A-4B64-A6A7-3395995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3D1-A0EE-4EFD-A29D-C0B2BE05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950-8EDF-48F9-B247-170B7763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CB9-E887-4036-B169-A01C78D9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8EE-192C-4749-9E0C-25A7C6B2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35C-FB4B-4433-AA75-6BA8AA9B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182-9996-4123-A3FB-8C9479E0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3F6-2559-4FFA-9065-3D39CE5F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932-921E-4483-8F47-94EA1E30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7BC-78DA-4C14-A3DD-1753F6A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66E-397E-4AD4-8BF2-47D3EAED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6127-7D12-43FA-8396-63D67BBF12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9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LEGION</cp:lastModifiedBy>
  <dcterms:modified xsi:type="dcterms:W3CDTF">2017-07-03T10:03:28Z</dcterms:modified>
  <cp:revision>9</cp:revision>
  <dc:subject/>
  <dc:title>A Brief History of Life</dc:title>
</cp:coreProperties>
</file>