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6DB6-0D3A-456F-BF2E-BAE4941DA2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D24F-A8F4-4C65-9A40-6A4808F8635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s &amp; Meteor Sh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EECA-816B-4250-B620-5A9F2687A7F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All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BE69-783A-49D5-B9F7-687B00AB97B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Questio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rue/False: The material or element that makes up a meteor is the main factor that determines the color of the glowing trail left beh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is major meteor shower has a peak time around early/mid Augu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Gemini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Leoni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Orioni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Perse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. Perse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is the point in the sky from which all of the meteors seem to come during a shower call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adi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27D6-82CA-496E-9E23-D06544E2593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sep10.phys.utk.edu/astr161/lect/meteors/shower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ky-watch.com/meteo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hometown.aol.com/theleonid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geocities.com/~starwanderer/meteo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eteorobs.org/shower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msmeteors.org/shower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6EF9-69F1-4D4B-BBA9-2D59972B2CD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oid, Meteorite, Meteor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eteoro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mall, solid body moving within the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eteori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lid remains of a meteor that falls to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eteor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hooting star)- bright trail of light created by small solid particles entering the Earth’s atmosphere &amp; burning up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D606-4E7E-4ABC-B448-039CD520E11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s (meteoroids) are the debris associated with comets or aster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meteoroid enters the Earth’s atmosphere &amp; becomes a meteor, it is traveling at 60-70 km per secon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given night (with favorable conditions), you can see 1 meteor every 1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ypical size of a meteor that produces a visible streak of light ranges from about the size of a grain of sand to the size of a small pebble! (average weight is only around 1 gram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irebal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large, brilliant meteors) are periodically seen (these may weigh up to several kilograms or more).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Bolid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fireballs that explode with a thunderous s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D0AD-CD09-4E26-8874-F1CECD401FF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y do meteors have a streak of light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ey travel through our atmosphere, meteors collide with air molecules that knock away materials and strip electrons from the meteo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tripped atoms recapture electrons, light is emitt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lor of the light depends on the temperature and the material being “excited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14FD-7A6B-4A16-903F-4936F9F6125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all meteors the same color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terial or element that makes up a meteor is the main factor that determines the color of its glowing trail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dium = orange-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ron =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gnesium = blue-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lcium = 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ilicon =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41DB-8F61-4A30-8AFB-2E6D2E728C0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adic Mete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meteors that can be seen on any given 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not associated with any particular meteor sh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ome from random directions in the 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DA3F-23A0-4C3E-ACBB-3FB06CD46BE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 Sh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vy displays of meteors that recur from year to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d by small fragments of comet debris entering the earth’s atmosphere at extremely high speeds…when the Earth’s orbit &amp; the comet’s orbit intersect at som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er meteors’ come from the same general point in the sk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adia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a shower is the point in the sky from which the meteors appear to 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A436-DCDD-4542-B127-069D5D46D29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 Showers (cont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 showers are usually named for the constellation in which their radiant lies at the peak of the showe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: Perseid shower = Pers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: Leonid shower = 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: Geminid shower = Gem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92F4-D8F4-41ED-9ECE-F8BD1A67CE8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Meteor Show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 showers occur on a regular basis throughout the year, but not all are visible in the northern latitudes  &amp; some are very weak and easily go unnotic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 more impressive showers throughout a given year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how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vg. P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Quadrantids – early Janu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yrids – mid Apr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rseids – early/mid Aug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rionids – mid/late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eonids – mid Nov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eminids – mid Dec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80CE-7A8A-4724-BFCB-832FED3C6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7573-9EB4-48F2-B7D8-90F695B1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A902-D994-4850-BF90-3A82E1F6B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AD94-C2B1-4126-9455-F3F8D91B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F3A9-EF50-44A5-A36F-5D67C9C36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387C-041E-4050-9BB6-1AE2A85F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CC31-5BF6-4681-A9D2-95512F26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C79C-0318-41B2-8943-7282E9A0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841D-0144-41A5-B58E-36EDC741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B442-D9EC-4F5A-A2E3-8D429C93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3D9E-E5F1-4CDF-8ECF-E2AFB6D8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5CA1-52F9-4AFB-843A-78F42A99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54EB-EAC6-4AD8-8200-0599FAE6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1426-02D5-4B85-A9A5-C3345C97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82BA-F337-491A-BC10-0C8438F2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FE27-6C63-4470-9B15-CB81A1734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21B0-F1BA-4512-928D-379478FAF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52C7-0670-47BF-87DA-6EE9301C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49F9-D763-47F2-AE75-6DA477AE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5FF7-0279-4B9D-83BC-E6565FC1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7E44-7911-471A-9031-EEC72215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4633-3972-4CA3-BD88-35992E9F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0A88-D33A-4D47-B64A-E84BBEB6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E894-2A87-4D4A-8DCF-A19AAC30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DD8D-E97F-4E01-9339-4794C7DF7A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7ADE-3824-435A-B7D4-D3DA5C7CC7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csep10.phys.utk.edu/astr161/lect/meteors/showers.html" TargetMode="External"/><Relationship Id="rId2" Type="http://schemas.openxmlformats.org/officeDocument/2006/relationships/hyperlink" Target="http://www.sky-watch.com/meteor.html" TargetMode="External"/><Relationship Id="rId3" Type="http://schemas.openxmlformats.org/officeDocument/2006/relationships/hyperlink" Target="http://hometown.aol.com/theleonids/" TargetMode="External"/><Relationship Id="rId4" Type="http://schemas.openxmlformats.org/officeDocument/2006/relationships/hyperlink" Target="http://www.geocities.com/~starwanderer/meteor.htm" TargetMode="External"/><Relationship Id="rId5" Type="http://schemas.openxmlformats.org/officeDocument/2006/relationships/hyperlink" Target="http://www.meteorobs.org/showers.html" TargetMode="External"/><Relationship Id="rId6" Type="http://schemas.openxmlformats.org/officeDocument/2006/relationships/hyperlink" Target="http://www.amsmeteors.org/showers.html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paceweather.com/meteors/images/18nov01/varros1_movie.gif" TargetMode="External"/><Relationship Id="rId2" Type="http://schemas.openxmlformats.org/officeDocument/2006/relationships/hyperlink" Target="http://www.spaceweather.com/meteors/images/18nov01_page3/Ponder1.MPG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paceweather.com/meteors/images/18nov01_page3/cordiale1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5" descr="Anderson1"/>
          <p:cNvPicPr/>
          <p:nvPr/>
        </p:nvPicPr>
        <p:blipFill>
          <a:blip r:embed="rId1"/>
          <a:srcRect l="0" t="43543" r="0" b="0"/>
          <a:stretch/>
        </p:blipFill>
        <p:spPr>
          <a:xfrm>
            <a:off x="2743200" y="380880"/>
            <a:ext cx="2743200" cy="1947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Ryan1"/>
          <p:cNvPicPr/>
          <p:nvPr/>
        </p:nvPicPr>
        <p:blipFill>
          <a:blip r:embed="rId2"/>
          <a:srcRect l="0" t="15594" r="10657" b="0"/>
          <a:stretch/>
        </p:blipFill>
        <p:spPr>
          <a:xfrm>
            <a:off x="5791320" y="380880"/>
            <a:ext cx="3352680" cy="2291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Toth1"/>
          <p:cNvPicPr/>
          <p:nvPr/>
        </p:nvPicPr>
        <p:blipFill>
          <a:blip r:embed="rId3"/>
          <a:srcRect l="17828" t="25081" r="0" b="0"/>
          <a:stretch/>
        </p:blipFill>
        <p:spPr>
          <a:xfrm>
            <a:off x="0" y="0"/>
            <a:ext cx="3505320" cy="3276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Meteors &amp; Meteor Shower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9" name="Picture 7" descr="varros2_strip_big"/>
          <p:cNvPicPr/>
          <p:nvPr/>
        </p:nvPicPr>
        <p:blipFill>
          <a:blip r:embed="rId4"/>
          <a:stretch/>
        </p:blipFill>
        <p:spPr>
          <a:xfrm>
            <a:off x="304920" y="327672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Welsh1"/>
          <p:cNvPicPr/>
          <p:nvPr/>
        </p:nvPicPr>
        <p:blipFill>
          <a:blip r:embed="rId5"/>
          <a:stretch/>
        </p:blipFill>
        <p:spPr>
          <a:xfrm>
            <a:off x="3886200" y="3048120"/>
            <a:ext cx="49528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2" descr="Larmay1"/>
          <p:cNvPicPr/>
          <p:nvPr/>
        </p:nvPicPr>
        <p:blipFill>
          <a:blip r:embed="rId1"/>
          <a:stretch/>
        </p:blipFill>
        <p:spPr>
          <a:xfrm>
            <a:off x="5448240" y="1514520"/>
            <a:ext cx="3695760" cy="5114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0" descr="Hamilton1"/>
          <p:cNvPicPr/>
          <p:nvPr/>
        </p:nvPicPr>
        <p:blipFill>
          <a:blip r:embed="rId2"/>
          <a:stretch/>
        </p:blipFill>
        <p:spPr>
          <a:xfrm>
            <a:off x="0" y="1143000"/>
            <a:ext cx="3228840" cy="52578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at’s All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0" name="Picture 12" descr="Anderson1"/>
          <p:cNvPicPr/>
          <p:nvPr/>
        </p:nvPicPr>
        <p:blipFill>
          <a:blip r:embed="rId3"/>
          <a:stretch/>
        </p:blipFill>
        <p:spPr>
          <a:xfrm>
            <a:off x="2895480" y="1752480"/>
            <a:ext cx="27432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3 Questions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True/False: The material or element that makes up a meteor is the main factor that determines the color of the glowing trail left behi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r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This major meteor shower has a peak time around early/mid Augus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Gemini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Leoni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Orioni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Perse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. Perse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What is the point in the sky from which all of the meteors seem to come during a shower call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adi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ferences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csep10.phys.utk.edu/astr161/lect/meteors/showers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www.sky-watch.com/meteor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http://hometown.aol.com/theleonid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http://www.geocities.com/~starwanderer/meteor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http://www.meteorobs.org/showers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http://www.amsmeteors.org/showers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Differences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eoroid, Meteorite, Meteor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eteoroi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mall, solid body moving within the solar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eteori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olid remains of a meteor that falls to the Ear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eteor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hooting star)- bright trail of light created by small solid particles entering the Earth’s atmosphere &amp; burning up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eteor Fac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eors (meteoroids) are the debris associated with comets or astero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a meteoroid enters the Earth’s atmosphere &amp; becomes a meteor, it is traveling at 60-70 km per secon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a given night (with favorable conditions), you can see 1 meteor every 15 minu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typical size of a meteor that produces a visible streak of light ranges from about the size of a grain of sand to the size of a small pebble! (average weight is only around 1 gram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Firebal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large, brilliant meteors) are periodically seen (these may weigh up to several kilograms or more).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Bolid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fireballs that explode with a thunderous sou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for yourself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spaceweather.com/meteors/images/18nov01/varros1_movie.gi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(Fireb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www.spaceweather.com/meteors/images/18nov01_page3/Ponder1.MP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(Bolid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Why do meteors have a streak of light?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y travel through our atmosphere, meteors collide with air molecules that knock away materials and strip electrons from the meteo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 stripped atoms recapture electrons, light is emitt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lor of the light depends on the temperature and the material being “excited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re all meteors the same color?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terial or element that makes up a meteor is the main factor that determines the color of its glowing trail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odium = orange-yel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Iron = yel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Magnesium = blue-gr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alcium = vio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ilicon = 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poradic Meteo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the meteors that can be seen on any given n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not associated with any particular meteor sh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ome from random directions in the s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eteor Show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y displays of meteors that recur from year to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d by small fragments of comet debris entering the earth’s atmosphere at extremely high speeds…when the Earth’s orbit &amp; the comet’s orbit intersect at some 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er meteors’ come from the same general point in the sky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adia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a shower is the point in the sky from which the meteors appear to 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eteor Showers (cont.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eor showers are usually named for the constellation in which their radiant lies at the peak of the showe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.: Perseid shower = Pers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.: Leonid shower = L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.: Geminid shower = Gemi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pecific Meteor Showers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eor showers occur on a regular basis throughout the year, but not all are visible in the northern latitudes  &amp; some are very weak and easily go unnoticed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of the more impressive showers throughout a given year 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how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vg. Pe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Quadrantids – early Janu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Lyrids – mid Apr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Perseids – early/mid Augu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Orionids – mid/late Octo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Leonids – mid Nove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Geminids – mid Dece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* Historically, the Perseids in August &amp; the Leonids in November have been the most impressive meteor showers -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spaceweather.com/meteors/images/18nov01_page3/cordiale1.mo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02:17:23Z</dcterms:created>
  <dc:creator>s1250620</dc:creator>
  <dc:description/>
  <dc:language>en-US</dc:language>
  <cp:lastModifiedBy>RomaK</cp:lastModifiedBy>
  <dcterms:modified xsi:type="dcterms:W3CDTF">2015-07-31T22:47:23Z</dcterms:modified>
  <cp:revision>37</cp:revision>
  <dc:subject/>
  <dc:title>Meteor Showers</dc:title>
</cp:coreProperties>
</file>