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2028-1250-47D0-920C-6265262FBC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927E-6379-42E1-85BF-F8FFF5AC4B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&amp; 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6147-867F-4893-9F1B-C72D38A396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6C34-F9EE-4918-824C-7CCB540E52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Qu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is major meteor shower has a peak time around early/mid Aug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mi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Le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Ori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AEA0-B674-4654-AB74-14B7B85E204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sep10.phys.utk.edu/astr161/lect/meteors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y-watch.com/mete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hometown.aol.com/theleoni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/~starwanderer/mete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teorob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msmeteor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179F-BA49-4B81-879A-DC7C9DED77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oid, Meteorite, Meteor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, solid body moving within the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lid remains of a meteor that falls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40CA-A98F-413C-B5FC-DBDBD68D34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(meteoroids) are the debris associated with comets or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iven night (with favorable conditions), you can see 1 meteor every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eb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l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reballs that explode with a thunderous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D0DA-9BE0-4777-9EDA-831FBD4542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meteors have a streak of light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tripped atoms recapture electrons, light is emit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8545-8485-4738-A2EA-2DCDC0B027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ll meteors the same color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dium = orange-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on =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gnesium = blue-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cium =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licon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659F-9B3B-4AA7-BB77-DB41A765E9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adic Mete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eteors that can be seen on any given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associated with any particular meteor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from random directions in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502E-B4B0-471C-B910-B34D3A14DF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displays of meteors that recur from year to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er meteors’ come from the same general point in the sk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hower is the point in the sky from which the meteors appear to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CB0-62BE-4E16-869E-3C90F55CC5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(co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Perseid shower = Pers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Leonid shower = 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Geminid shower =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13E1-14D3-492C-83CC-706F18F2BE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Meteor Show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impressive showers throughout a given year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g.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drantids – early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yrids – mid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eids – early/mid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ionids – mid/late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onids – mid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minids – mid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BBD-8F38-4C9D-BC60-0BFF16E0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8D9-5058-4A9A-8C49-7D85F67B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E59-6B98-414D-9D6F-E5B8314A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591-8134-4147-A90D-BFFE2208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97E7-A983-4E12-9814-D223EA88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B70E-CB51-41B3-BF7E-6A67E5B2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36F0-D35F-40E0-A4C3-863E3CC9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C0E5-83E3-4522-92C1-4852E1EE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A354-4061-45E7-8A9D-CA84295C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F14E-043B-4937-B041-9245467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C132-6D50-413D-8FF3-D0E318B2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338-7AE2-479E-8E98-52FFE770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36CB-236C-405E-BCE1-82CE1C2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3C30-0B43-4399-9358-06F780F2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29DD-27C2-437F-B34F-46ABEE5A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8D34-5B5F-4677-9EE9-9245F376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4A3D-112C-4031-BA2A-CD897C6B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8C1-CB1E-4A5A-853F-9CCED591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1C2-1B36-4E0B-B503-203022BE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D0A-F244-470A-86F4-2AAD317F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B03-816C-48EF-B813-F1B811EE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C31-9134-4249-8010-D2A7B89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F59-44B3-4C51-9BCA-75B58FEF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F11-D5D8-4CD4-AE9D-633F6D13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722F-E7D9-4A2C-A73B-1EF09BA31E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9D49-7CC2-4EF3-85CB-E79ECDA475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p10.phys.utk.edu/astr161/lect/meteors/showers.html" TargetMode="External"/><Relationship Id="rId2" Type="http://schemas.openxmlformats.org/officeDocument/2006/relationships/hyperlink" Target="http://www.sky-watch.com/meteor.html" TargetMode="External"/><Relationship Id="rId3" Type="http://schemas.openxmlformats.org/officeDocument/2006/relationships/hyperlink" Target="http://hometown.aol.com/theleonids/" TargetMode="External"/><Relationship Id="rId4" Type="http://schemas.openxmlformats.org/officeDocument/2006/relationships/hyperlink" Target="http://www.geocities.com/~starwanderer/meteor.htm" TargetMode="External"/><Relationship Id="rId5" Type="http://schemas.openxmlformats.org/officeDocument/2006/relationships/hyperlink" Target="http://www.meteorobs.org/showers.html" TargetMode="External"/><Relationship Id="rId6" Type="http://schemas.openxmlformats.org/officeDocument/2006/relationships/hyperlink" Target="http://www.amsmeteors.org/shower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/varros1_movie.gif" TargetMode="External"/><Relationship Id="rId2" Type="http://schemas.openxmlformats.org/officeDocument/2006/relationships/hyperlink" Target="http://www.spaceweather.com/meteors/images/18nov01_page3/Ponder1.M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_page3/cordiale1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Anderson1"/>
          <p:cNvPicPr/>
          <p:nvPr/>
        </p:nvPicPr>
        <p:blipFill>
          <a:blip r:embed="rId1"/>
          <a:srcRect l="0" t="43543" r="0" b="0"/>
          <a:stretch/>
        </p:blipFill>
        <p:spPr>
          <a:xfrm>
            <a:off x="2743200" y="380880"/>
            <a:ext cx="274320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Ryan1"/>
          <p:cNvPicPr/>
          <p:nvPr/>
        </p:nvPicPr>
        <p:blipFill>
          <a:blip r:embed="rId2"/>
          <a:srcRect l="0" t="15594" r="10657" b="0"/>
          <a:stretch/>
        </p:blipFill>
        <p:spPr>
          <a:xfrm>
            <a:off x="5791320" y="380880"/>
            <a:ext cx="3352680" cy="229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Toth1"/>
          <p:cNvPicPr/>
          <p:nvPr/>
        </p:nvPicPr>
        <p:blipFill>
          <a:blip r:embed="rId3"/>
          <a:srcRect l="17828" t="25081" r="0" b="0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teors &amp; Meteor Show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varros2_strip_big"/>
          <p:cNvPicPr/>
          <p:nvPr/>
        </p:nvPicPr>
        <p:blipFill>
          <a:blip r:embed="rId4"/>
          <a:stretch/>
        </p:blipFill>
        <p:spPr>
          <a:xfrm>
            <a:off x="304920" y="3276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elsh1"/>
          <p:cNvPicPr/>
          <p:nvPr/>
        </p:nvPicPr>
        <p:blipFill>
          <a:blip r:embed="rId5"/>
          <a:stretch/>
        </p:blipFill>
        <p:spPr>
          <a:xfrm>
            <a:off x="3886200" y="30481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Larmay1"/>
          <p:cNvPicPr/>
          <p:nvPr/>
        </p:nvPicPr>
        <p:blipFill>
          <a:blip r:embed="rId1"/>
          <a:stretch/>
        </p:blipFill>
        <p:spPr>
          <a:xfrm>
            <a:off x="5448240" y="1514520"/>
            <a:ext cx="3695760" cy="511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amilton1"/>
          <p:cNvPicPr/>
          <p:nvPr/>
        </p:nvPicPr>
        <p:blipFill>
          <a:blip r:embed="rId2"/>
          <a:stretch/>
        </p:blipFill>
        <p:spPr>
          <a:xfrm>
            <a:off x="0" y="1143000"/>
            <a:ext cx="322884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All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12" descr="Anderson1"/>
          <p:cNvPicPr/>
          <p:nvPr/>
        </p:nvPicPr>
        <p:blipFill>
          <a:blip r:embed="rId3"/>
          <a:stretch/>
        </p:blipFill>
        <p:spPr>
          <a:xfrm>
            <a:off x="2895480" y="1752480"/>
            <a:ext cx="2743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 Questi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is major meteor shower has a peak time around early/mid Aug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Gemi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e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ri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csep10.phys.utk.edu/astr161/lect/meteors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ky-watch.com/meteo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hometown.aol.com/theleonid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geocities.com/~starwanderer/meteo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://www.meteorob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http://www.amsmeteor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if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id, Meteorite, Meteor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mall, solid body moving within the sola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lid remains of a meteor that falls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s (meteoroids) are the debris associated with comets or astero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 given night (with favorable conditions), you can see 1 meteor every 1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eba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olid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ireballs that explode with a thunderous s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or yoursel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/varros1_movie.g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Fire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paceweather.com/meteors/images/18nov01_page3/Ponder1.MP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Bo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meteors have a streak of light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ripped atoms recapture electrons, light is emit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e all meteors the same color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dium = orange-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ron =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gnesium = blue-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lcium = 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licon =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adic Mete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meteors that can be seen on any given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not associated with any particular meteor 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e from random direction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displays of meteors that recur from year to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r meteors’ come from the same general point in the sk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shower is the point in the sky from which the meteors appear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Perseid shower = Pers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Leonid shower = 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Geminid shower = Ge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Meteor Shower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more impressive showers throughout a given year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g.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Quadrantids – early Janu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yrids – mid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erseids – early/mid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onids – mid/late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eonids – mid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Geminids – mid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* Historically, the Perseids in August &amp; the Leonids in November have been the most impressive meteor showers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_page3/cordiale1.m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2:17:23Z</dcterms:created>
  <dc:creator>s1250620</dc:creator>
  <dc:description/>
  <dc:language>en-US</dc:language>
  <cp:lastModifiedBy>RomaK</cp:lastModifiedBy>
  <dcterms:modified xsi:type="dcterms:W3CDTF">2015-07-31T22:47:23Z</dcterms:modified>
  <cp:revision>37</cp:revision>
  <dc:subject/>
  <dc:title>Meteor Showers</dc:title>
</cp:coreProperties>
</file>