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E96DF-5F26-477F-8A16-141543B69CF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Ancient Mexico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ayan, Incan, and Aztec Civilization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By: Mrs. Meredith Sander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cient Mex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an, Incan, and Aztec Civil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 Mrs. Meredith San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Aztec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is ancient tribe wandered for many year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Founded their greatest city, Tenochtitlan (this is the site of modern Mexico City)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belonged to a large family group called calpolli, meaning “big house” or clan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zt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ncient tribe wandered for many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their greatest city, Tenochtitlan (this is the site of modern Mexico C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belonged to a large family group called calpolli, meaning “big house” or c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Calpolli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Each calpolli elected its own officials to run its business. They were a true democracy and voted on decision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Women did not have a vote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Calpolli expected all of its able-bodied men to fight any wars.  The men considered it an honor to fight for their clan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family arranged for all marriages.  A young person could only marry someone outside the clan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A woman who married now joined her husband’s clan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pol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calpolli elected its own officials to run its business. They were a true democracy and voted on deci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men did not have a vo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polli expected all of its able-bodied men to fight any wars.  The men considered it an honor to fight for their c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amily arranged for all marriages.  A young person could only marry someone outside the c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oman who married now joined her husband’s c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Times New Roman"/>
              </a:rPr>
              <a:t>Th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Times New Roman"/>
              </a:rPr>
              <a:t>End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eotihuaca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4 well-known buildings in this ancient city: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Pyramid of the Su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Pyramid of the Mo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emple of Quetzalcoatl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emple of the Jaguar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otihua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well-known buildings in this ancient c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 of the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le of Quetzalcoat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le of the Jagu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Olmec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were the first major Indian Tribe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Olmec means “rubber people.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wo major cities were San Lorenzo and La Venta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used a form of picture writing; had a number system and calendar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m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the first major Indian Tri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mec means “rubber peopl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major cities were San Lorenzo and La Ven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ed a form of picture writing; had a number system and calend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Rubber people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Aztec Indians gave the tribe this name because the Olmecs supplied them with sap from rubber tree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bber peopl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ztec Indians gave the tribe this name because the Olmecs supplied them with sap from rubber tre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aya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Appearance: Short in height, straight black hair, painted their bodies, had tattoos, valued crossed-eyes and flat forehead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ree eras: pre-classic, classic, and post-classic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ayans used glyphs in their writing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earance: Short in height, straight black hair, painted their bodies, had tattoos, valued crossed-eyes and flat foreh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eras: pre-classic, classic, and post-clas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ans used glyphs in their wri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Glyph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ir glyph writing (picture) expanded largely using about 800 different glyph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y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glyph writing (picture) expanded largely using about 800 different glyp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ayan Relig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Worshipped many different god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Each day, month, city, and occupation had its special god or goddes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Had a variety of religious festivals and celebration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ost ceremonies includes human sacrifice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In many ceremonies, the priests cut themselves to get blood to present to the god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ir religion taught that there were 13 layers of heaven above the earth &amp; 9 underworlds below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Worshipped the dead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an Reli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shipped many different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day, month, city, and occupation had its special god or godd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a variety of religious festivals and celeb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eremonies includes human sacrif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ny ceremonies, the priests cut themselves to get blood to present to the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religion taught that there were 13 layers of heaven above the earth &amp; 9 underworlds be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shipped the d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Human Sacrifice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Mayas had 3 methods of giving the human sacrifices: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priests took the victim to the altar at the temple and cut the heart out of the living victim and presented it to the god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priests tied the victim to a wooden pole and threw spears and arrows at the victim’s chest in the area of the heart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threw the victim into a sacred well.  If they survived the fall and did not drown, the priests pulled them back out of the well; believing that the god spared that victim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Sacrif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yas had 3 methods of giving the human sacrific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iests took the victim to the altar at the temple and cut the heart out of the living victim and presented it to the g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iests tied the victim to a wooden pole and threw spears and arrows at the victim’s chest in the area of the he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threw the victim into a sacred well.  If they survived the fall and did not drown, the priests pulled them back out of the well; believing that the god spared that victi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Worshipping the Dead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believed the dead became one with the god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worshipped their ancestors at many religious ceremonie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also built pyramids over the sacred remains of their dead ruler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shipping the D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believed the dead became one with the go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orshipped their ancestors at many religious ceremon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lso built pyramids over the sacred remains of their dead rul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BE4D-D40E-4724-BC48-69969A322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8EED-8868-4084-8156-096D8397B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90E0B6-20DE-4B65-878E-F61B65E6C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BA398B-16AC-4DC8-9002-43ECAE5D8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4F0CD3-9D51-4E31-B8DC-96BBC04A7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C0C453-DE4C-4216-91EA-5571B4D6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9C54BC-AEEC-473A-B955-953A7EB8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B35D91-9F6E-423F-B268-DBC71BD6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EB22D9-6318-4651-BE89-AC6817A77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40001D-FB9C-4604-9993-88B93E5A1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2E4EB6-B220-47EF-B053-72792175D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F55DED-44EA-46FD-8CCD-FCB81A6B8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57EE-63A9-46F6-B69A-9956AEF53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D0E009-D53C-4298-B5AE-1B254ADF5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04C790-1285-46DF-A8AC-4CA13CE14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29264D-20A6-4422-8E71-E3D32DA5D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70F84C-5E4D-4B65-A465-F51BB6397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D88A04-1E59-43FE-9042-23CB6A57D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6E311C-2F57-4879-8F9A-5E76F73E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A3CA55-96F7-4149-9FB4-4AAC50BB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DEFA4E-8A96-4B81-B772-44C7F30D8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06633A-43DC-41C7-9ED2-A62AAE2C3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F0342C-B172-430F-A8EB-BA6EACE62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83FB-635C-43A7-8B8C-87C68DC04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B7EE37-1169-4712-B2E4-3D4EEB9A7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273149-CFAD-46CE-ABFA-69D46FA90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7EBDFF-A7DB-446F-99C8-F19E072EC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809A9C-1DC1-4615-8648-A40CFCB4B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381589-98E7-434E-96E6-D5087B62F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F7EB50-B4BC-46AE-91F7-D3A79BC36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ADAE79-49C7-4FC5-A1A5-6E05F74B6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36282A-CF1D-4467-B747-5A2DD47D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55234F-1992-4E47-8687-88EA804A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E9F90F-B2F6-4CE1-9B2F-C7EA190A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C4FBB-8D68-4149-9133-3201CBEBA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3578F1-BB94-4767-AD16-242912152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A8346F-1940-4620-8C23-1386B3B68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8775FA-A8D2-4ECA-971A-3C57A1A3F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5827DC-A48D-4564-8288-1E7F27C6B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B2AADC-5F44-4561-A42E-C2C1CD631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44740D-E2BD-4FF3-BEBE-E6101D253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08787D-E372-4FAB-8FF1-2395863FA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C0BD18-22D8-4A0E-917F-5ACE58A91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93D402-CFDD-4CA9-9FD7-23A867FCE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5E8ED3-1ECF-4119-93ED-7AB16A1E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EA691-32C8-4332-BABC-2BBE1D7D4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63B628-7D6B-4B11-A16F-A3AEC17F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E7232B-5300-4E64-B93C-AC4D85AA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18E549-AB45-4E64-882A-5E643194A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E2F4C6-A64A-411D-A162-22926F4C5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5EB172-DED9-4386-9C1A-251E1DE1E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12260F-916A-4530-876D-F015AAD83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0AE6AD-DBA9-48B1-BC2F-C748AAFD6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B05415-64B6-453B-B9B7-E1DD5934D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F37A86-47F3-4718-9033-09967B72F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6DFF5E-D53B-4FCA-B43D-FA283679D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29028-B49A-417B-90EF-67CAAF476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382B1D-760A-48A1-9237-E4A924431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DF3319-96EC-405E-98BB-159AD786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7C1502-CDF6-481C-BADC-6238AB67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B91696-0D35-4AD4-8705-A6120BF3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351172-30DC-4740-9846-CA80D9F9C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D984B6-3382-49FF-9AE1-2C9ADA740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D4741C-C0D4-4E52-A4D1-F7A1BC1FE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B46B4F-E7DB-4AD4-B1B6-0C27BB046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F8ABA9-7613-409F-A9CD-AB48E1AE9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9D8AAA-14D1-43C6-9D1D-E4962147F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69B91-2E36-44BC-91D9-C3E695156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2F29AB-7499-43CA-8CB2-C9CBA5200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BC4E33-43EC-49EC-A6AD-7F003CD4C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E018BE-C5B0-480A-A779-36B73C190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3A5321-2DB3-4B42-BC0F-26D88195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96AFA1-23A3-4BE2-91D5-B0CD6A00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10067F-FF7F-4346-A938-47901F1A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9AA577-B7EB-4D2E-9FFC-7B8327C26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B9B5D1-1B5A-4326-AC35-4B6ECB433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98FFCF-855B-4B27-B16C-6FCE160BA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1F71D-8EEC-419D-814B-474FDC881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78A1F-B2CD-4E29-8B01-4981B53E3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5B680-EA02-44FC-94F4-0E38EED3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71E8-49E4-4D9E-B592-68724FB6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CFB8C-FE7F-47FC-96F2-F7C37EEC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659B0-ACEC-4C1C-A2EF-C06D5402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EF109-048D-4FAE-8D94-63E0EA11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206B7-CFD5-4F01-87EE-35D2AC808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1C2A8-C84A-4E54-955B-6B28D03FC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0B373-7B06-4616-917E-CB6932EA8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8D5D1-7F40-47A9-8878-E9B1A4F3B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69B62-A82A-4695-BEB2-70CEB4299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66312-811C-4E21-BCE0-7C42FFACF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BCDD5-CB73-446D-A406-A349A4FB2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05B5-737D-49DA-AA25-1E680772E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411AC-C144-4904-9C72-EB813D372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C7065-D27A-4A05-9D05-CAA37977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2573A-C35A-428E-BCF4-CA8318D0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8C455-3F65-4094-9D63-F4A8275C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E4B20-56B8-4BDC-9688-D96D10A6C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F8FAC-6DCC-4429-9CFB-449242A9C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AD7AD-75CA-435C-9641-038E34D92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A9B69-6A84-4DE0-86C6-D4D203F76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03815-44B7-48B4-A374-D8B9E7B71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E0A25-8B81-4CD6-87E6-B8B7DDEFE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A3BD-4902-4572-B0B9-C94D7393C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DC1BB-430D-406E-8640-2F03BCEA8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51D60-AD66-4535-B68D-E37C3F699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7820B-087E-4990-A0ED-EAD86314A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648CD-0A27-430A-A3B9-48FE16C2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E93C4-303B-47D9-B2C5-A346FAB2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39CF0-CC45-4C46-9C1C-F61ED3E8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79B8E-4686-4BC2-B406-CB69ABD00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EB1C9-3ED5-44F9-A8E5-82EC3ABF1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212D0-21C4-4D90-A67F-05A4A01E9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AC2D9-8C26-4A6E-8EAB-5658E8834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1C72-F6D0-4353-822D-2CEE623C4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7112D-0F70-4B84-B985-82E599DB6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FD505-F7AF-4697-BFE3-B01E7F83F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8401E-AC23-4838-B33E-18EA67FA2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12D48-B434-4CFA-BE89-5EE665D09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08784-71EA-4B12-8DFB-6B084320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11A24-5F1C-4605-8345-04E6471A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6CC9A-1892-4ADE-9860-31EC27ED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5057D-2B24-43F1-92CD-2E0A71E7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96609-96AC-4A7E-9356-BBF29D4D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77FFF-4F5E-4B84-9795-282F995D1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68E7-F4DA-4823-A919-7A94D24A5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A2B46-1C03-4629-88E1-2C83FABE0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78847C-ABC1-4451-B8F0-5A7111BD5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3FE87-D5F4-4FBE-AA1D-F92AE654C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6E5F0-59C0-4971-87B8-1FC60B87D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FE496-75A3-46F2-9AE2-38C32C73E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AFB49-4A67-4378-B1FF-ADBAD106D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2B8C9-FB34-4877-A0A6-F1044D1A3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3960F-9D13-462A-9F0D-7AB234B3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CC530-ACC2-4778-ADA4-99E9E9F2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C7438-F884-43E2-9EFB-B4C41BD8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1FF5-7B27-44F9-A5C8-833972B3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C621D-7AAE-4EEE-B6AA-A5AA2DFD1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37F7E-1133-41B4-91D2-5229A830D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F15CC-00A9-4A24-A1EE-71F3639EC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3CAEE-A53F-4B6E-BD56-D1EB90576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E582F-DED2-46F3-B93E-7385EC33B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2293E2-4B1D-4A6A-87A0-04BCBB709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33ADF-940F-4B27-97AA-2B743A075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BA6E5-E39B-4A0B-BFB1-83907A203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2AFACB-4309-494F-8DD6-0BAA5F4AD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E48FBD-0679-4ACB-83A0-AFFDD7DF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FB24-7E51-4886-A242-E628BD0C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62F7C8-F74D-4BEF-8D84-C1D8078B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932FC2-1B40-444E-A741-E480A5ED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C1A34-2065-49EA-B5D3-1B1453FC6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0F333-166B-41AD-88BE-6166A0F8E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1E0D7-7FEA-4A8E-A018-C131BA647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67F668-B93D-4955-A124-3CF4FEEDA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4C6743-6038-4F17-9C66-F431F745A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418773-1909-4428-AFDB-59ADF5703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87FD14-1578-41DB-BBC9-C23611A99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044549-AE46-467E-B8AB-D934433F6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DBAB-D2FE-48D8-A1A5-3EB1A1EA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2D8164-D975-47B6-81FE-ED95A9A0E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4DE3FE-CB9A-4ABE-9C96-D9F09BA3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DC7B5E-C9F4-4A6F-B82D-63F03EF5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511DDC-DC0A-4C0D-85A6-A72B56EE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B2BBBF-8402-4B16-838C-EB3ED93B1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8FA4E5-9FF2-44E4-8A2A-4753C6F1A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1C341-2003-403A-960D-40B985B1B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01EBD3-FC75-49CC-A38F-6EE0D7F1C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CEE015-9B03-4595-9137-DECFAE88E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09DFD1-41FB-4F53-AB83-7ACBAC4C5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5D5F6-F872-4CAC-BEA0-9D75EE0006C5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462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463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5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6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7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8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9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470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28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29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0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CD768-230D-46A1-9794-BEF83063C0D5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513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14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16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17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18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19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20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521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33DEF-24AC-42BB-887B-8C1C8ACE946E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564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65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67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68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69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0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1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572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dt" idx="34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ftr" idx="35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sldNum" idx="36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6D063-6AB7-4FFD-AA30-1021FEAF2141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4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615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616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8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9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0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1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2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23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37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38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39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ED44C-127A-4D0C-84B6-ECF11E3D9F80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5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666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667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8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69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70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71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72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73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74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dt" idx="40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ftr" idx="41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sldNum" idx="42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0B7A4-4197-4AE9-823D-5052B95B9426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32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Rectangle 28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3" name="Rectangle 9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13127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" name="Rectangle 10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5" name="Picture 11" descr="Astonbnr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Rectangle 14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" name="Rectangle 12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8" name="Rectangle 13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9" name="Line 18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" name="Line 19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" name="Freeform 26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0DFEB-9DD9-4CA0-B9B2-A6544D0B2763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05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06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0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1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13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5C600-87FA-47F5-9AF1-CC5E21CECCD6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56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57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59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0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1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2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3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64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42BFE-72FB-49AF-AC91-1A22C4278E5D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207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08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0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1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2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3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4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15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74D0F-C5B0-486B-936B-67F0C13FB075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258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59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3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4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66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6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7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8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4A11F-C7E4-4FC0-AA4B-0558ABA7DC6B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309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310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2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3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4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5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6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317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19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0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1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1C76C-C209-4913-86C2-EC4D4D6C8FE7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360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361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3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4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5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6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7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368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2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3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4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EB2F3-D8CA-49AD-8A9F-C9D0F0C160E5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411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412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4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5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6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7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8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419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5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6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7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B9525-8E00-4E7D-A06A-FAAC2EC817B5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767088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Bookman Old Style"/>
              </a:rPr>
              <a:t>Ancient Mexico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3333"/>
                </a:solidFill>
                <a:latin typeface="Monotype Corsiva"/>
              </a:rPr>
              <a:t>Mayan, Incan, and Aztec Civilizations</a:t>
            </a:r>
            <a:endParaRPr b="0" lang="en-US" sz="65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Monotype Corsiva"/>
              </a:rPr>
              <a:t>By: Mrs. Meredith Sanders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Місце для нижнього колонтитула 1"/>
          <p:cNvSpPr/>
          <p:nvPr/>
        </p:nvSpPr>
        <p:spPr>
          <a:xfrm>
            <a:off x="3700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" dur="50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" dur="500"/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ztec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his ancient tribe wandered for many years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Founded their greatest city, Tenochtitlan (this is the site of modern Mexico City)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hey belonged to a large family group called </a:t>
            </a:r>
            <a:r>
              <a:rPr b="0" i="1" lang="en-US" sz="2500" spc="-1" strike="noStrike">
                <a:solidFill>
                  <a:srgbClr val="333333"/>
                </a:solidFill>
                <a:latin typeface="Arial"/>
              </a:rPr>
              <a:t>calpolli</a:t>
            </a: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, meaning “big house” or clan.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66" name="Picture 5" descr="bl00158_"/>
          <p:cNvPicPr/>
          <p:nvPr/>
        </p:nvPicPr>
        <p:blipFill>
          <a:blip r:embed="rId1"/>
          <a:stretch/>
        </p:blipFill>
        <p:spPr>
          <a:xfrm>
            <a:off x="4419720" y="2590920"/>
            <a:ext cx="4724280" cy="3396960"/>
          </a:xfrm>
          <a:prstGeom prst="rect">
            <a:avLst/>
          </a:prstGeom>
          <a:ln w="0">
            <a:noFill/>
          </a:ln>
        </p:spPr>
      </p:pic>
      <p:sp>
        <p:nvSpPr>
          <p:cNvPr id="767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Arial"/>
              </a:rPr>
              <a:t>Calpoll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12574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Each calpolli elected its own officials to run its business. They were a true democracy and voted on decisions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Women did not have a vote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Calpolli expected all of its able-bodied men to fight any wars.  The men considered it an honor to fight for their clan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The family arranged for all marriages.  A young person could only marry someone outside the clan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A woman who married now joined her husband’s clan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7797600" cy="17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Monotype Corsiva"/>
              </a:rPr>
              <a:t>Th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1930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333333"/>
                </a:solidFill>
                <a:latin typeface="Monotype Corsiva"/>
              </a:rPr>
              <a:t>End</a:t>
            </a:r>
            <a:endParaRPr b="0" lang="en-US" sz="10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3" name="Місце для нижнього колонтитула 1"/>
          <p:cNvSpPr/>
          <p:nvPr/>
        </p:nvSpPr>
        <p:spPr>
          <a:xfrm>
            <a:off x="3700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otihuac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334120" y="1600200"/>
            <a:ext cx="36957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4 well-known buildings in this ancient city: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28" name="Picture 5" descr="j0232310"/>
          <p:cNvPicPr/>
          <p:nvPr/>
        </p:nvPicPr>
        <p:blipFill>
          <a:blip r:embed="rId1"/>
          <a:stretch/>
        </p:blipFill>
        <p:spPr>
          <a:xfrm>
            <a:off x="1257480" y="2413080"/>
            <a:ext cx="4076640" cy="3049560"/>
          </a:xfrm>
          <a:prstGeom prst="rect">
            <a:avLst/>
          </a:prstGeom>
          <a:ln w="0">
            <a:noFill/>
          </a:ln>
        </p:spPr>
      </p:pic>
      <p:sp>
        <p:nvSpPr>
          <p:cNvPr id="729" name="Rectangle 8"/>
          <p:cNvSpPr/>
          <p:nvPr/>
        </p:nvSpPr>
        <p:spPr>
          <a:xfrm>
            <a:off x="5562720" y="2743200"/>
            <a:ext cx="2884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Pyramid of the Sun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Text Box 9"/>
          <p:cNvSpPr/>
          <p:nvPr/>
        </p:nvSpPr>
        <p:spPr>
          <a:xfrm>
            <a:off x="5334120" y="3733920"/>
            <a:ext cx="32763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Pyramid of the Moon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Text Box 10"/>
          <p:cNvSpPr/>
          <p:nvPr/>
        </p:nvSpPr>
        <p:spPr>
          <a:xfrm>
            <a:off x="5105520" y="4572000"/>
            <a:ext cx="40384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emple of Quetzalcoatl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Text Box 11"/>
          <p:cNvSpPr/>
          <p:nvPr/>
        </p:nvSpPr>
        <p:spPr>
          <a:xfrm>
            <a:off x="5334120" y="5486400"/>
            <a:ext cx="35049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emple of the Jaguars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7" dur="500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lmec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hey were the first major Indian Tribe.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Olmec means “rubber people.”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wo major cities were San Lorenzo and La Venta.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hey used a form of picture writing; had a number system and calendar.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36" name="Picture 5" descr="na01441_"/>
          <p:cNvPicPr/>
          <p:nvPr/>
        </p:nvPicPr>
        <p:blipFill>
          <a:blip r:embed="rId1"/>
          <a:stretch/>
        </p:blipFill>
        <p:spPr>
          <a:xfrm>
            <a:off x="6934320" y="609480"/>
            <a:ext cx="1890720" cy="213372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6" descr="j0215761"/>
          <p:cNvPicPr/>
          <p:nvPr/>
        </p:nvPicPr>
        <p:blipFill>
          <a:blip r:embed="rId2"/>
          <a:stretch/>
        </p:blipFill>
        <p:spPr>
          <a:xfrm>
            <a:off x="5334120" y="3352680"/>
            <a:ext cx="3124080" cy="2673360"/>
          </a:xfrm>
          <a:prstGeom prst="rect">
            <a:avLst/>
          </a:prstGeom>
          <a:ln w="0">
            <a:noFill/>
          </a:ln>
        </p:spPr>
      </p:pic>
      <p:sp>
        <p:nvSpPr>
          <p:cNvPr id="738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3" dur="500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8" dur="500"/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3" dur="500"/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8" dur="500"/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ubber people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21964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The Aztec Indians gave the tribe this name because the Olmecs supplied them with sap from rubber trees.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41" name="Picture 5" descr="na01441_"/>
          <p:cNvPicPr/>
          <p:nvPr/>
        </p:nvPicPr>
        <p:blipFill>
          <a:blip r:embed="rId1"/>
          <a:stretch/>
        </p:blipFill>
        <p:spPr>
          <a:xfrm>
            <a:off x="1338120" y="1981080"/>
            <a:ext cx="3646800" cy="4114800"/>
          </a:xfrm>
          <a:prstGeom prst="rect">
            <a:avLst/>
          </a:prstGeom>
          <a:ln w="0">
            <a:noFill/>
          </a:ln>
        </p:spPr>
      </p:pic>
      <p:sp>
        <p:nvSpPr>
          <p:cNvPr id="742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ay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257800" y="1981080"/>
            <a:ext cx="3772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Appearance: Short in height, straight black hair, painted their bodies, had tattoos, valued crossed-eyes and flat foreheads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hree eras: pre-classic, classic, and post-classic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Mayans used glyphs in their writing.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45" name="Picture 7" descr="bd08510_"/>
          <p:cNvPicPr/>
          <p:nvPr/>
        </p:nvPicPr>
        <p:blipFill>
          <a:blip r:embed="rId1"/>
          <a:stretch/>
        </p:blipFill>
        <p:spPr>
          <a:xfrm>
            <a:off x="1447920" y="2438280"/>
            <a:ext cx="3276360" cy="3073680"/>
          </a:xfrm>
          <a:prstGeom prst="rect">
            <a:avLst/>
          </a:prstGeom>
          <a:ln w="0">
            <a:noFill/>
          </a:ln>
        </p:spPr>
      </p:pic>
      <p:sp>
        <p:nvSpPr>
          <p:cNvPr id="746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0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7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7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lyph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6582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ir glyph writing (picture) expanded largely using about 800 different glyph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49" name="Picture 1028" descr="sy01455_"/>
          <p:cNvPicPr/>
          <p:nvPr/>
        </p:nvPicPr>
        <p:blipFill>
          <a:blip r:embed="rId1"/>
          <a:stretch/>
        </p:blipFill>
        <p:spPr>
          <a:xfrm>
            <a:off x="4343400" y="3689280"/>
            <a:ext cx="1789200" cy="316872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1029" descr="an02038_"/>
          <p:cNvPicPr/>
          <p:nvPr/>
        </p:nvPicPr>
        <p:blipFill>
          <a:blip r:embed="rId2"/>
          <a:stretch/>
        </p:blipFill>
        <p:spPr>
          <a:xfrm>
            <a:off x="1600200" y="380880"/>
            <a:ext cx="1495440" cy="173376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1030" descr="an02044_"/>
          <p:cNvPicPr/>
          <p:nvPr/>
        </p:nvPicPr>
        <p:blipFill>
          <a:blip r:embed="rId3"/>
          <a:stretch/>
        </p:blipFill>
        <p:spPr>
          <a:xfrm>
            <a:off x="7010280" y="380880"/>
            <a:ext cx="1689120" cy="165888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1031" descr="an02045_"/>
          <p:cNvPicPr/>
          <p:nvPr/>
        </p:nvPicPr>
        <p:blipFill>
          <a:blip r:embed="rId4"/>
          <a:stretch/>
        </p:blipFill>
        <p:spPr>
          <a:xfrm>
            <a:off x="1219320" y="4724280"/>
            <a:ext cx="1827000" cy="196236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1032" descr="an02041_"/>
          <p:cNvPicPr/>
          <p:nvPr/>
        </p:nvPicPr>
        <p:blipFill>
          <a:blip r:embed="rId5"/>
          <a:stretch/>
        </p:blipFill>
        <p:spPr>
          <a:xfrm>
            <a:off x="7162920" y="5410080"/>
            <a:ext cx="1457280" cy="954360"/>
          </a:xfrm>
          <a:prstGeom prst="rect">
            <a:avLst/>
          </a:prstGeom>
          <a:ln w="0">
            <a:noFill/>
          </a:ln>
        </p:spPr>
      </p:pic>
      <p:sp>
        <p:nvSpPr>
          <p:cNvPr id="754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ayan Relig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orshipped many different god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ach day, month, city, and occupation had its special god or goddes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ad a variety of religious festivals and celebra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ost ceremonies includes human sacrific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n many ceremonies, the priests cut themselves to get blood to present to the god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ir religion taught that there were 13 layers of heaven above the earth &amp; 9 underworlds below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orshipped the dea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0" fill="hold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0" fill="hold"/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0" fill="hold"/>
                                        <p:tgtEl>
                                          <p:spTgt spid="7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0" fill="hold"/>
                                        <p:tgtEl>
                                          <p:spTgt spid="7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0" fill="hold"/>
                                        <p:tgtEl>
                                          <p:spTgt spid="7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0" fill="hold"/>
                                        <p:tgtEl>
                                          <p:spTgt spid="7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0" fill="hold"/>
                                        <p:tgtEl>
                                          <p:spTgt spid="7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0" fill="hold"/>
                                        <p:tgtEl>
                                          <p:spTgt spid="7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7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7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7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7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uman Sacrific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7886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33"/>
                </a:solidFill>
                <a:latin typeface="Arial"/>
              </a:rPr>
              <a:t>The Mayas had 3 methods of giving the human sacrifices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priests took the victim to the altar at the temple and cut the heart out of the living victim and presented it to the god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priests tied the victim to a wooden pole and threw spears and arrows at the victim’s chest in the area of the heart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y threw the victim into a sacred well.  If they survived the fall and did not drown, the priests pulled them back out of the well; believing that the god spared that victim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5" dur="500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0" dur="500"/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5" dur="500"/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0" dur="500"/>
                                        <p:tgtEl>
                                          <p:spTgt spid="7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orshipping the Dea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y believed the dead became one with the god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y worshipped their ancestors at many religious ceremonie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y also built pyramids over the sacred remains of their dead ruler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15:29:38Z</dcterms:created>
  <dc:creator>Pam Tucker</dc:creator>
  <dc:description/>
  <dc:language>en-US</dc:language>
  <cp:lastModifiedBy>LEGION</cp:lastModifiedBy>
  <dcterms:modified xsi:type="dcterms:W3CDTF">2017-07-03T10:04:04Z</dcterms:modified>
  <cp:revision>16</cp:revision>
  <dc:subject/>
  <dc:title>Ancient Mexico</dc:title>
</cp:coreProperties>
</file>