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0B06-F5C7-4300-945D-8C4899E8F6BA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A91-0BF0-42E7-B18C-2B77AE2A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20E-0E47-4323-92B5-0DA4A924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404-C51D-4B34-A799-BF2D5157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439-A7B1-4FB1-A25B-21FD4613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D758-5813-4553-8BDB-48F0F0C0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2281-83D6-4C55-9926-F92B6AD6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592A-C9C4-4C5A-9425-1343CAA4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AACF-3660-4824-94D3-C81A45F6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5FE-A50E-4A58-8415-CC4F7A8B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6CCB-9410-45BE-A664-32833214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6845-ABD8-472E-9585-E399FAF7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880-C072-40E5-B820-DDEEE1DE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442F-F321-45D8-B467-9D66F727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A9FB-7159-4DB4-8AB9-1DC97EA9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19EE-7ABC-4BF0-8494-DFC67173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0E5-0595-48AA-B416-A2291BA8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93D1-F17F-4A93-98E6-A167BBCA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6ED1-98DD-431F-B60B-529BE7DD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C1F5F-F1EF-4BF5-B9AB-2B60660C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B8B5-DB81-46CA-8671-1F4DD921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63AC-0E6F-4896-9804-E315B22D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9F51-44CE-4F88-8B47-83C10D81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41E-E298-471F-9857-7A65B11B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8130-F7B4-48B8-9E0F-2EBE3FE5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F958-5B7A-4A97-A48C-19A5476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9CEB-CEE6-495A-898D-E1E609EA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B282-64A8-48A8-ABCB-8783F11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B22EC-B50C-4FC7-9B0C-5600DE28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120D-077A-4580-A20A-F45675B3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151B-4857-4D0F-8B77-1FBB8C78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A55C-63CB-4C8D-B97A-B0EBD1E9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7D40-16BA-4BD5-ACBD-254B45E0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8EBA-D2CB-4561-834D-B1519AD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8F3-96BE-42CB-B56B-66C06815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F6C0-63CE-4537-A4B7-A75238DF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194C-B4B2-435C-AEAD-71A1DC5F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9D17-2262-44B4-9E93-C4BFEBB5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92E74-2720-45C9-9A7A-132A5BE9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F019-130A-44DE-831C-3B39A55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64AD2-42C9-4873-A815-15837EBC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8BBC-397C-48B7-B931-72994AA3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352D-26C5-4B1B-84BE-61DC2A1F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D0C71-8683-4E04-8190-E446BC9D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1D6-0432-4052-B7CC-CB564E19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4A1-C915-43EA-947D-47A4C9A3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E60-2684-42AA-8C17-CE46982E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E71-68C6-4CB3-9021-6787F55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38E-410C-4FDF-858D-3CF3B81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2E5A-2989-4D0A-A9A3-86C2094ACD2E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8A3D-D7B0-432E-BEE4-66F69E728CFF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907F-63E9-46CF-AE37-3AB8B2729122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1436-C05B-4080-853D-99904EDB19E1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4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20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LEGION</cp:lastModifiedBy>
  <dcterms:modified xsi:type="dcterms:W3CDTF">2017-07-03T10:07:26Z</dcterms:modified>
  <cp:revision>114</cp:revision>
  <dc:subject/>
  <dc:title>Bhopal Gas Tragedy</dc:title>
</cp:coreProperties>
</file>