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4D70-28BB-49EF-8A2B-A474FD773060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14B-5269-47E8-ACF8-8E257CC9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EE1-5FCD-42E7-A549-1A518A5D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C70-1B39-4D3F-B77F-CBEAC6DB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E4D-12C7-41C3-933F-C084BE0A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CE24-B612-4A8C-AF1F-82E64ABB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555F-7647-451F-9BB7-2F90B763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7EAE-942D-43B4-BDF1-5C862077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27DC-96EA-4E71-BE1C-4D07DD75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4B82-F027-4E95-B907-48C306E7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3C18-7BEF-40FD-B50A-22B05D69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0E3E-C4AE-47FE-9C21-39A2DC82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3A9-75B1-487C-9583-B38BA6C8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A1F3-E0E9-4061-A8DE-16CA251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8BCA-CC70-491A-B3FF-545DBC54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B99C-BEF7-4086-96ED-62CA86ED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1656-1A9B-4AD0-B6A6-DB294C80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3331-78F1-4D8C-BF66-246BB260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27DBB-D3C9-4F1B-B079-AB39AF8C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13C1-2316-424A-BB07-24147D57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47BE-56BF-4DB0-89DD-53F1CFA0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A20F5-58CD-4211-A5B5-6B522FF3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CCF5-1F5A-4305-A2D9-29060D7F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22F-5D4A-4A81-A95F-9E4A6D13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F0A9-F149-4169-9964-4408FC32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B99F-3B93-4FC2-876B-D367DF4E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2CE18-F18A-463D-92AB-D5405E2C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F00E-EA25-4B1F-A8D1-24ED15C3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738C-4F62-48B8-B20E-B566C278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CE12-497D-41C6-BB39-D0397DF1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AAB4-E0F9-4C63-9EB0-1BCB47B7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48F7-7600-4418-ADB5-D67B8F22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51A9-47D7-476F-B817-F261D5A6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9380-5376-4361-9613-2F65CA04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3E6-286F-4608-B215-E580F0D3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8CEC-32AB-4A21-B345-9B71FE02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B2DC9-F936-4550-AAEF-56A56CE3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A743-71C0-4033-907D-1ECC5271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27F4A-B909-4368-90DB-A6D7771B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AFFEE-C8B4-4DD3-926A-9FC8800A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4742F-87B9-4F66-BF08-22A5AE14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B96D-CCCC-4D82-AEBE-33752B83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2338-CCB6-410E-B4DD-19AD00FF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A91E-9D3A-48B8-A8D9-F99D3DA2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40F-5F35-4A54-8D10-6B72CD80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0A6-2920-46BE-94FB-6725965D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C51-EE57-4D52-A493-9ACBE712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6E9-7EC1-4508-896D-6EAB471A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352-52B2-48D5-ACA5-CC2C6457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C143-754B-457F-A0B9-00EE5F904D90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0CB9-6A4A-429E-85D8-AA99F31B7757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9A77-2F04-4D19-A26F-9A39714784EA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4885-15B7-477F-85AF-F69999259B6C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4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20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LEGION</cp:lastModifiedBy>
  <dcterms:modified xsi:type="dcterms:W3CDTF">2017-07-03T10:07:26Z</dcterms:modified>
  <cp:revision>114</cp:revision>
  <dc:subject/>
  <dc:title>Bhopal Gas Tragedy</dc:title>
</cp:coreProperties>
</file>