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308E-409E-497F-A8DE-842C7E5B8696}" type="slidenum">
              <a:rPr b="0" lang="en-I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Bhopal Gas Trag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hopal Gas Trag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 to you Anike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yl Isocyanat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sical  and Chemical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yl Isocyanate (C2H3N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quid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lati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ur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, sharp od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sh Point – -7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lecular weight: 57.05 dal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iling point (760 mm Hg): 102ºF (39.1º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eezing point: -49ºF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por pressure: 348 mm Hg at 68ºF (20º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por density: 1.42 (air = 1.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 solubility: Reactive 6.7% at 68ºF (20º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mability: Highly flammab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mable Range: 5.3% to 26% (concentration in air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C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yl Isocyanate is on the Hazardous Substances List and is regulated by OSHA and cited by ACGIH, DOT, EPA and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 the Special Health Hazard Substance List because it is flammable and rea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ergency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s Dumped by Union Carbide in Bho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hazard dumping of Hazardous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c Materials in Soil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s in parts per billion (pp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ly, Dichlorobenzenes and Trichlorobenzenes were found in the soil and water samp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c Materials in Soil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, Nickel, Copper, Chromium, Hexachlorocyclohexane and chlorobenzenes were found in soil sam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 was found to be between 20,000 to 6,000,000 times the standard level in so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nsation and Legal Asp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nsation of $470 million ($500 per dea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nty years of passive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was reviewed and put up in American Co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 Refused Union Carbide’s Liabilities in Bhopal, In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,000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0,000 SEVERELY AFF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you thought only weap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cause Mass De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e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ngst the worst Industrail Disasters of its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rence: 3rd December 198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of occurrence: Bhopal, Madhya Pradesh, In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: Union Carbide Corpo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: Methyl Isocyanate (27 ton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ng the 500,000 people exposed to the gas, 20,000 have died till date and 120,000 continue to suffer devastating health effects as a result of their expo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hopal Scen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on Carbide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on Carbide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rted in 1969 in bho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gene, Monomethlyamine, Methyl Isocyanate (MIC) and the pesticide Carbaryl, also known as Sev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ken over by DOW Chemicals in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W refused Union Carbide’s Liabilities in Bhopal, In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c Materials in Soil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 Vent Scrub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 Vent Scrubber St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on Human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ory Disorders – Irritation to the lungs, causing coughing and/or shortness of breathing. Higher exposure caused build up of fluids (pulmonary edema). Caused Astha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Hazard – Caused mutation (genetic changes). It caused canc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Hazard – Association between exposure to Methyl Isocyanate and miscarriages. It may damage the growing fetus.May also affect fertility in men and wom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s of many toxins were found in the Brest Milk of mothers and were inturn transmitted to the recepient bab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l Slaugh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22DF-0A63-4BA2-B586-231DCF154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E74F-C9D0-42F8-8A0C-248449E2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4DB1-E25A-40B5-86B3-ADDCB2B14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2C1C-B7A3-4B0E-A62C-C800E788E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1E89-01F2-4393-A294-53B1DAE43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2F05-62F8-43E3-A3E2-90A5E1BE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3A4EB-FF03-46E9-BEE5-09B321AE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678B-2BD1-4CC8-83DC-8571C558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17CD-114A-4501-A777-ED9106D4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9280-C5AA-4F9B-8D40-E81CB84F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8AB2-0DCF-4E9B-A6A9-02883AB2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43E3-4C3A-4B31-BF98-9E45BB42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6155-93E4-4634-B810-E4A1F524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2ACF-B68E-4451-B19D-71C6DA10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7B67-3CD2-4DCD-8370-59512D5E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D909-8C67-4467-9814-82E105C9E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79A1-B2BB-43BC-946F-2DAA7A161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58A0A-7331-4F8E-BF76-3BB04AB1A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EB3F7-5B3C-4DE0-AAB2-93E55F86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12C71-2E89-465F-BBFF-5EC84AAE4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5A7A7-A480-4178-ABE1-96AB8376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D6888-0C8D-463B-ABEC-A88F04B9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220B-DFFA-44A3-BBD9-3896C469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53381-6218-4AB2-8490-23337463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42FF4-E977-40F7-9E16-D5F3BF01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66EF7-D1B3-474C-81E4-3DE60581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A75A5-6919-4D52-BF5C-426D3332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678C4-1EBD-4B07-9C20-D3441FAB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D8AE1-CBF1-4884-A0AC-F98B91BD7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F5A47-0FEC-4671-9D31-C7EAD102A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456CC-7977-4798-AC8C-05024629C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1649B-FFD6-4CAD-997A-1559BCDF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67037-545D-4BF3-95F4-1973A246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64A2-B920-45C4-9210-8D759C1F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F1C90-186B-4C08-8054-7A3DD54D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F1E16-88E9-420C-9553-1923CD84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770DD-AB85-4F73-92C1-4F17778B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16E3F-32E2-4019-B7C6-D51A2CD7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2AC8C-2968-49B3-9DD2-1DF6350B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76AD4-9881-4617-A184-C9D2FD74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BB45F-BD4A-4C5C-AD3C-164DC2FA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4A15C-3E49-4C40-AE49-F37EAEF38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F3F8B-B9F2-436A-A102-CBA471514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A395-3B83-42F2-9BEA-A71DD781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AC29-E25F-4BC6-A7E9-18EC392B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2D26-944C-4C88-90AD-5B120B19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C7F0-92AD-4426-8767-0D5FB4CC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35EB-8495-4D9E-8D83-4ABF072D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72AC-0004-4652-B3DB-B174A551D6E4}" type="slidenum"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237B-100D-4B72-8176-2332C869F549}" type="slidenum">
              <a:rPr b="0" lang="en-I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70F4-018E-4881-AD97-A4CE6F4C648B}" type="slidenum"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33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B4FF-4D4D-4C7E-B521-F76C2B68052B}" type="slidenum">
              <a:rPr b="0" lang="en-I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4800" spc="-1" strike="noStrike">
                <a:solidFill>
                  <a:srgbClr val="ff6600"/>
                </a:solidFill>
                <a:latin typeface="Monotype Corsiva"/>
              </a:rPr>
              <a:t>Bhopal Gas Tragedy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66280" y="32000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Over to you Aniket…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800" spc="-1" strike="noStrike">
                <a:solidFill>
                  <a:srgbClr val="ff6600"/>
                </a:solidFill>
                <a:latin typeface="Monotype Corsiva"/>
              </a:rPr>
              <a:t>Methyl Isocyanate </a:t>
            </a:r>
            <a:br>
              <a:rPr sz="3800"/>
            </a:br>
            <a:r>
              <a:rPr b="0" i="1" lang="en-IN" sz="3800" spc="-1" strike="noStrike">
                <a:solidFill>
                  <a:srgbClr val="ff6600"/>
                </a:solidFill>
                <a:latin typeface="Monotype Corsiva"/>
              </a:rPr>
              <a:t>Physical  and Chemical Characteristic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Methyl Isocyanate (C</a:t>
            </a:r>
            <a:r>
              <a:rPr b="0" lang="en-IN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IN" sz="18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N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Liquid for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Volatil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Colourl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Strong, sharp odou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lash Point – -7</a:t>
            </a:r>
            <a:r>
              <a:rPr b="0" lang="en-IN" sz="18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Molecular weight: 57.05 dalton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Boiling point (760 mm Hg): 102ºF (39.1ºC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reezing point: -49ºF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Vapor pressure: 348 mm Hg at 68ºF (20ºC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Vapor density: 1.42 (air = 1.00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Water solubility: Reactive 6.7% at 68ºF (20º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lammability: Highly flammabl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lammable Range: 5.3% to 26% (concentration in air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Reason for Cit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Methyl Isocyanate is on the Hazardous Substances List and is regulated by OSHA and cited by ACGIH, DOT, EPA and other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Is on the Special Health Hazard Substance List because it is flammable and reactiv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Emergency Inform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838080" y="1787400"/>
          <a:ext cx="7162920" cy="3776760"/>
        </p:xfrm>
        <a:graphic>
          <a:graphicData uri="http://schemas.openxmlformats.org/drawingml/2006/table">
            <a:tbl>
              <a:tblPr/>
              <a:tblGrid>
                <a:gridCol w="2362320"/>
                <a:gridCol w="2413080"/>
                <a:gridCol w="23875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Hazard R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JDH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F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mmabil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ctiv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584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mmable and Reactiv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ison Inhalation Hazar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 not use wat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isionous Gases are produced in fi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ainers may explode in fi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IN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zard Rating Key: 0-minimal, 1-slight, 2-moderate, 3-serious, 4-seve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1600200" y="762120"/>
          <a:ext cx="6248520" cy="5673600"/>
        </p:xfrm>
        <a:graphic>
          <a:graphicData uri="http://schemas.openxmlformats.org/drawingml/2006/table">
            <a:tbl>
              <a:tblPr/>
              <a:tblGrid>
                <a:gridCol w="533520"/>
                <a:gridCol w="1523880"/>
                <a:gridCol w="914400"/>
                <a:gridCol w="1143000"/>
                <a:gridCol w="2133720"/>
              </a:tblGrid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.No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emical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ou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e in factory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ure of original pollu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ylene 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an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tho-idichlorobenz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bon tetra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ofor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i methylam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taly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o benzyl 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o chloro tolu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lu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dicar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bary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nzene Hexa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3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rc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o methyl am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osg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ydro chloric ac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o sulphonic ac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pha Naphthol 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pthal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emical waste Ta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yl Isocyan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</a:tbl>
          </a:graphicData>
        </a:graphic>
      </p:graphicFrame>
      <p:sp>
        <p:nvSpPr>
          <p:cNvPr id="237" name="Text Box 769"/>
          <p:cNvSpPr/>
          <p:nvPr/>
        </p:nvSpPr>
        <p:spPr>
          <a:xfrm>
            <a:off x="304920" y="2286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ff6600"/>
                </a:solidFill>
                <a:latin typeface="Monotype Corsiva"/>
              </a:rPr>
              <a:t>Chemicals Dumped by Union Carbide in Bhop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800" spc="-1" strike="noStrike">
                <a:solidFill>
                  <a:srgbClr val="ff6600"/>
                </a:solidFill>
                <a:latin typeface="Monotype Corsiva"/>
              </a:rPr>
              <a:t>Haphazard dumping of Hazardous Materi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35" descr="cycleshed"/>
          <p:cNvPicPr/>
          <p:nvPr/>
        </p:nvPicPr>
        <p:blipFill>
          <a:blip r:embed="rId1"/>
          <a:stretch/>
        </p:blipFill>
        <p:spPr>
          <a:xfrm>
            <a:off x="60948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6" descr="soapstoneshed"/>
          <p:cNvPicPr/>
          <p:nvPr/>
        </p:nvPicPr>
        <p:blipFill>
          <a:blip r:embed="rId2"/>
          <a:stretch/>
        </p:blipFill>
        <p:spPr>
          <a:xfrm>
            <a:off x="327672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7" descr="formulationshed"/>
          <p:cNvPicPr/>
          <p:nvPr/>
        </p:nvPicPr>
        <p:blipFill>
          <a:blip r:embed="rId3"/>
          <a:stretch/>
        </p:blipFill>
        <p:spPr>
          <a:xfrm>
            <a:off x="327672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8" descr="poisonwastetanks"/>
          <p:cNvPicPr/>
          <p:nvPr/>
        </p:nvPicPr>
        <p:blipFill>
          <a:blip r:embed="rId4"/>
          <a:stretch/>
        </p:blipFill>
        <p:spPr>
          <a:xfrm>
            <a:off x="60948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9" descr="small-shed"/>
          <p:cNvPicPr/>
          <p:nvPr/>
        </p:nvPicPr>
        <p:blipFill>
          <a:blip r:embed="rId5"/>
          <a:stretch/>
        </p:blipFill>
        <p:spPr>
          <a:xfrm>
            <a:off x="586728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0" descr="bhc_store"/>
          <p:cNvPicPr/>
          <p:nvPr/>
        </p:nvPicPr>
        <p:blipFill>
          <a:blip r:embed="rId6"/>
          <a:stretch/>
        </p:blipFill>
        <p:spPr>
          <a:xfrm>
            <a:off x="5867280" y="41148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Toxic Materials in Soil and Wa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523880" y="1752480"/>
          <a:ext cx="5181840" cy="3276720"/>
        </p:xfrm>
        <a:graphic>
          <a:graphicData uri="http://schemas.openxmlformats.org/drawingml/2006/table">
            <a:tbl>
              <a:tblPr/>
              <a:tblGrid>
                <a:gridCol w="3084480"/>
                <a:gridCol w="209736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enzene, oxyb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, 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chlorobenzen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7,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lynuclear Aromatic Hydrocarbon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,3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hthalat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,9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ichlorobenze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,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imethyl Trianzintr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4,4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-Napthalen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9,09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</a:tbl>
          </a:graphicData>
        </a:graphic>
      </p:graphicFrame>
      <p:sp>
        <p:nvSpPr>
          <p:cNvPr id="249" name="Rectangle 91"/>
          <p:cNvSpPr/>
          <p:nvPr/>
        </p:nvSpPr>
        <p:spPr>
          <a:xfrm>
            <a:off x="1447920" y="5181480"/>
            <a:ext cx="7086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Units in parts per billion (ppb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Additionally, Dichlorobenzenes and Trichlorobenzenes were found in the soil and water samples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Toxic Materials in Soil and Wa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32"/>
          <p:cNvSpPr/>
          <p:nvPr/>
        </p:nvSpPr>
        <p:spPr>
          <a:xfrm>
            <a:off x="762120" y="2209680"/>
            <a:ext cx="81532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Lead, Nickel, Copper, Chromium, Hexachlorocyclohexane and chlorobenzenes were found in soil sampl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Mercury was found to be between 20,000 to 6,000,000 times the standard level in soi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Compensation and Legal Aspec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ompensation of $470 million ($500 per dead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Twenty years of passivenes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ase was reviewed and put up in American Court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DOW Refused Union Carbide’s Liabilities in Bhopal, Indi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20,000 KILLE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120,000 SEVERELY AFFECTE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…</a:t>
            </a: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And you thought only weapons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could cause Mass Destr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Preview</a:t>
            </a:r>
            <a:br>
              <a:rPr sz="3400"/>
            </a:b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Amongst the worst Industrail Disasters of its time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Occurrence: 3</a:t>
            </a:r>
            <a:r>
              <a:rPr b="0" lang="en-IN" sz="17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December 1984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Place of occurrence: Bhopal, Madhya Pradesh, Indi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ompany: Union Carbide Corporatio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hemical: Methyl Isocyanate (27 tons)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520" y="4876560"/>
            <a:ext cx="853452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mong the 500,000 people exposed to the gas, 20,000 have died till date and 120,000 continue to suffer devastating health effects as a result of their exposur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8"/>
          <p:cNvGrpSpPr/>
          <p:nvPr/>
        </p:nvGrpSpPr>
        <p:grpSpPr>
          <a:xfrm>
            <a:off x="457200" y="304920"/>
            <a:ext cx="8381880" cy="3962160"/>
            <a:chOff x="457200" y="304920"/>
            <a:chExt cx="8381880" cy="3962160"/>
          </a:xfrm>
        </p:grpSpPr>
        <p:pic>
          <p:nvPicPr>
            <p:cNvPr id="194" name="Picture 4" descr="pic2"/>
            <p:cNvPicPr/>
            <p:nvPr/>
          </p:nvPicPr>
          <p:blipFill>
            <a:blip r:embed="rId1"/>
            <a:stretch/>
          </p:blipFill>
          <p:spPr>
            <a:xfrm>
              <a:off x="457200" y="304920"/>
              <a:ext cx="3886200" cy="39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7" descr="pic1"/>
            <p:cNvPicPr/>
            <p:nvPr/>
          </p:nvPicPr>
          <p:blipFill>
            <a:blip r:embed="rId2"/>
            <a:stretch/>
          </p:blipFill>
          <p:spPr>
            <a:xfrm>
              <a:off x="4800600" y="304920"/>
              <a:ext cx="4038480" cy="396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Bhopal Scenari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Picture 3" descr="Union Carbide"/>
          <p:cNvPicPr/>
          <p:nvPr/>
        </p:nvPicPr>
        <p:blipFill>
          <a:blip r:embed="rId1"/>
          <a:stretch/>
        </p:blipFill>
        <p:spPr>
          <a:xfrm>
            <a:off x="2031840" y="1752480"/>
            <a:ext cx="5080320" cy="36450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2057400" y="548640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Union Carbide Corpor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Union Carbide Corpo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Started in 1969 in bhopa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Phosgene, Monomethlyamine, Methyl Isocyanate (MIC) and the pesticide Carbaryl, also known as Sevi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Taken over by DOW Chemicals in 2001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DOW refused Union Carbide’s Liabilities in Bhopal, Indi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Toxic Materials in Soil and Wa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5" descr="ScanImage001"/>
          <p:cNvPicPr/>
          <p:nvPr/>
        </p:nvPicPr>
        <p:blipFill>
          <a:blip r:embed="rId1"/>
          <a:srcRect l="0" t="0" r="23562" b="216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gasventscrubber"/>
          <p:cNvPicPr/>
          <p:nvPr/>
        </p:nvPicPr>
        <p:blipFill>
          <a:blip r:embed="rId1"/>
          <a:stretch/>
        </p:blipFill>
        <p:spPr>
          <a:xfrm>
            <a:off x="609480" y="438120"/>
            <a:ext cx="3714840" cy="55054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gasventscrubberstack"/>
          <p:cNvPicPr/>
          <p:nvPr/>
        </p:nvPicPr>
        <p:blipFill>
          <a:blip r:embed="rId2"/>
          <a:stretch/>
        </p:blipFill>
        <p:spPr>
          <a:xfrm>
            <a:off x="4800600" y="457200"/>
            <a:ext cx="3714840" cy="53722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6"/>
          <p:cNvSpPr/>
          <p:nvPr/>
        </p:nvSpPr>
        <p:spPr>
          <a:xfrm>
            <a:off x="609480" y="609588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Gas Vent Scrubb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4876920" y="61102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Gas Vent Scrubber Stac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Effects on Human Health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ff6600"/>
                </a:solidFill>
                <a:latin typeface="Verdana"/>
              </a:rPr>
              <a:t>Respiratory Disorders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– Irritation to the lungs, causing coughing and/or shortness of breathing. Higher exposure caused build up of fluids (</a:t>
            </a:r>
            <a:r>
              <a:rPr b="0" lang="en-IN" sz="1700" spc="-1" strike="noStrike">
                <a:solidFill>
                  <a:srgbClr val="ff0000"/>
                </a:solidFill>
                <a:latin typeface="Verdana"/>
              </a:rPr>
              <a:t>pulmonary edema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). Caused Astham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ff6600"/>
                </a:solidFill>
                <a:latin typeface="Verdana"/>
              </a:rPr>
              <a:t>Cancer Hazard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– Caused mutation (genetic changes). It caused cancer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ff6600"/>
                </a:solidFill>
                <a:latin typeface="Verdana"/>
              </a:rPr>
              <a:t>Reproductive Hazard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– Association between exposure to Methyl Isocyanate and miscarriages. It may damage the growing fetus.May also affect fertility in men and wome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Traces of many toxins were found in the Brest Milk of mothers and were inturn transmitted to the recepient babi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9" name="Group 8"/>
          <p:cNvGrpSpPr/>
          <p:nvPr/>
        </p:nvGrpSpPr>
        <p:grpSpPr>
          <a:xfrm>
            <a:off x="111240" y="1828800"/>
            <a:ext cx="8956080" cy="3200400"/>
            <a:chOff x="111240" y="1828800"/>
            <a:chExt cx="8956080" cy="3200400"/>
          </a:xfrm>
        </p:grpSpPr>
        <p:pic>
          <p:nvPicPr>
            <p:cNvPr id="220" name="Picture 4" descr="bhopal14"/>
            <p:cNvPicPr/>
            <p:nvPr/>
          </p:nvPicPr>
          <p:blipFill>
            <a:blip r:embed="rId1"/>
            <a:stretch/>
          </p:blipFill>
          <p:spPr>
            <a:xfrm>
              <a:off x="111240" y="1828800"/>
              <a:ext cx="44604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6" descr="bhopal09"/>
            <p:cNvPicPr/>
            <p:nvPr/>
          </p:nvPicPr>
          <p:blipFill>
            <a:blip r:embed="rId2"/>
            <a:stretch/>
          </p:blipFill>
          <p:spPr>
            <a:xfrm>
              <a:off x="4606560" y="1828800"/>
              <a:ext cx="4460760" cy="320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Animal Slaugh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18:50:55Z</dcterms:created>
  <dc:creator>Creative</dc:creator>
  <dc:description/>
  <dc:language>en-US</dc:language>
  <cp:lastModifiedBy>LEGION</cp:lastModifiedBy>
  <dcterms:modified xsi:type="dcterms:W3CDTF">2017-07-03T10:07:26Z</dcterms:modified>
  <cp:revision>114</cp:revision>
  <dc:subject/>
  <dc:title>Bhopal Gas Tragedy</dc:title>
</cp:coreProperties>
</file>