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2D47-085C-469A-B7FE-2CDF0B8F9C0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v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ucleu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rot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pro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ctr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met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lle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ll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pou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c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neutraliz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neutr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busti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bust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dens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d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lu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olu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l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tom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molecul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8D6B0-34D9-4403-B098-F3E5460BC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823A8-7881-46E7-975F-2C5CFB6F5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72ED4-BBEE-4532-93AE-7E7EF8101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9D1E9-BA37-4D56-972E-69458FFB8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E720E-3EC8-45C0-A550-D3C2DD7DA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BFCD0-0A26-4D2E-9D3F-4F75EC4BD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549B4-1ACE-4479-BBD8-9231FE809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2852E-1DE6-429C-B93C-C552F0880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29DDB-0AA8-48E8-B980-D8D075F3B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C0D4A-A380-43CB-85ED-487B0213B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917B0-BA01-4565-A201-DA7906E34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9920D-8B49-492A-9B99-9A0C1F3A3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50FC-BF01-499C-A416-12F505AE6534}"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olids, liquids and ga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wo different ways that matter can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hysical or chemical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react chemicall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activ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609480" y="6094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mallest unit of a pure substance that still has the properties of that subst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enter of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nucle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very atom’s nucleus contains at least one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rot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negatively charged subatomic partic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ctr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umber of protons in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ure substance that is made of only one kind of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 element that conducts heat and electricity we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met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roperty of metal that allows it to be bent and rolled into shee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llea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atoms of the same element have this in comm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ame number of prot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thod of organizing elements by their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eriodic t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ubstance formed from the atoms of two or more eleme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mp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ompound the reacts easily with other substances and turns blue litmus paper 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c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trength of acids and bases are measured by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Frien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atom</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cids and </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mpound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nd bas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Oh, My!</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t’s a Gas!</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r is it?</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lementary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dear</a:t>
            </a:r>
            <a:endParaRPr b="1" lang="en-US" sz="2400" spc="-1" strike="noStrike">
              <a:solidFill>
                <a:srgbClr val="ff9933"/>
              </a:solidFill>
              <a:latin typeface="Times New Roman"/>
            </a:endParaRPr>
          </a:p>
        </p:txBody>
      </p:sp>
      <p:pic>
        <p:nvPicPr>
          <p:cNvPr id="86" name="boar423.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hat’s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atter?</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H Sc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qual strength acids and bases do this to each o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eutraliz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ee uses of acids and bases in manufactur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foods, medicines, fertilizers, explosives or dy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hemical property of being able to bur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busti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anges a substance from gas to a liqu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dens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mount of matter in an obje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is made up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emperature of a liquid at which it changes to a ga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oiling poi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be dissolv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olu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of matter in which the particles are closest toge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ol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atom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oms bond together to form these larger uni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molecul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exists in these 3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5:53:43Z</dcterms:modified>
  <cp:revision>32</cp:revision>
  <dc:subject/>
  <dc:title>No Slide Title</dc:title>
</cp:coreProperties>
</file>