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15.png" ContentType="image/png"/>
  <Override PartName="/ppt/media/image5.jpeg" ContentType="image/jpeg"/>
  <Override PartName="/ppt/media/image1.jpeg" ContentType="image/jpeg"/>
  <Override PartName="/ppt/media/image3.png" ContentType="image/png"/>
  <Override PartName="/ppt/media/image14.wmf" ContentType="image/x-wmf"/>
  <Override PartName="/ppt/media/image6.png" ContentType="image/png"/>
  <Override PartName="/ppt/media/image7.jpeg" ContentType="image/jpeg"/>
  <Override PartName="/ppt/media/image10.wmf" ContentType="image/x-wmf"/>
  <Override PartName="/ppt/media/image2.png" ContentType="image/png"/>
  <Override PartName="/ppt/media/image4.jpeg" ContentType="image/jpeg"/>
  <Override PartName="/ppt/media/image8.jpeg" ContentType="image/jpeg"/>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A8A8E-02D2-4D21-B509-70F74859FAB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ty-States of Greec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and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 W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ine of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ty-States of Greec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and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 W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ine of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tle of Marath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s were defeated by the Athenians at the Battle of Marathon.  The Athenians were so joyful in victory that they sent a professional runner, Pheidippides, back to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tle of Marath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s were defeated by the Athenians at the Battle of Marathon.  The Athenians were so joyful in victory that they sent a professional runner, Pheidippides, back to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un extraordinaire.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eidippidies ran about 26 miles to Athens to report the victory.  When he arrived, he cried out, “Nike!” and died from exhaustion.  Nike is the goddess of vic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un extraordinair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eidippidies ran about 26 miles to Athens to report the victory.  When he arrived, he cried out, “Nike!” and died from exhaustion.  Nike is the goddess of vic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rath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1896 Olympic marathon distance of 24.8 miles was based on the distance run by Pheidippides.  At the 1908 Olympic Games in London, the marathon distance was changed to 26.2 miles to cover the ground from Windsor Castle to White City Stadium, with the 2.2 miles added on so the race could finish in front of royal family's viewing box. This added two miles to the course, and is the origin of the Marathon tradition of shouting "God save the Queen!" (or other words relating to the Queen) as mile post 24 is passed. After 16 years of sometimes angry discussion, this 26.2 mile distance was established at the 1924 Olympics in Paris as the official marathon dist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rath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1896 Olympic marathon distance of 24.8 miles was based on the distance run by Pheidippides.  At the 1908 Olympic Games in London, the marathon distance was changed to 26.2 miles to cover the ground from Windsor Castle to White City Stadium, with the 2.2 miles added on so the race could finish in front of royal family's viewing box. This added two miles to the course, and is the origin of the Marathon tradition of shouting "God save the Queen!" (or other words relating to the Queen) as mile post 24 is passed. After 16 years of sometimes angry discussion, this 26.2 mile distance was established at the 1924 Olympics in Paris as the official marathon d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known for its great army and was a rival of Athens.  Their army was known for holding off  the Persian army of 250,000 at Thermopylae for three days with only 7000 soldiers.  This gave the people of Athens time to escape before the Persians invaded t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known for its great army and was a rival of Athens.  Their army was known for holding off  the Persian army of 250,000 at Thermopylae for three days with only 7000 soldiers.  This gave the people of Athens time to escape before the Persians invaded t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mopyla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mopyl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n Go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tried to become the strongest people in Greece.  They also disliked change.  This would later prove to be a weakness for them.  Spartans preferred actions to words.  A “Spartan lifestyle” both then and today is one that is simple and highly disciplined with few luxur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n Go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tried to become the strongest people in Greece.  They also disliked change.  This would later prove to be a weakness for them.  Spartans preferred actions to words.  A “Spartan lifestyle” both then and today is one that is simple and highly disciplined with few luxu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 based on the island of Delos, was formed to unite the Greek city-states to defend against the Persians.  Athens lead the league and gained more and more power over the other city states.  Sparta refused to jo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 based on the island of Delos, was formed to unite the Greek city-states to defend against the Persians.  Athens lead the league and gained more and more power over the other city states.  Sparta refused to jo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city-states became resentful of Athens’ power over them.  A group of city-states led by Sparta waged the Peloponnesian War against Athens for 30 years until Athens surrendered to Sparta.  Later, under Spartan control, the Athenians revolted and once more set up a democracy;  but they never regained the power they once h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city-states became resentful of Athens’ power over them.  A group of city-states led by Sparta waged the Peloponnesian War against Athens for 30 years until Athens surrendered to Sparta.  Later, under Spartan control, the Athenians revolted and once more set up a democracy;  but they never regained the power they once h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Decl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began to lose their sense of community and fought with one another.  In 338 B.C.  Philip II of Macedonia north of Greece  (Alexander the Great’s father) conquered Gree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Dec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began to lose their sense of community and fought with one another.  In 338 B.C.  Philip II of Macedonia north of Greece  (Alexander the Great’s father) conquered Gree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In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cient Greek city-states never united because the land was very mountainous and hilly making travel difficult.  This is one case where geography influenced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In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cient Greek city-states never united because the land was very mountainous and hilly making travel difficult.  This is one case where geography influenced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ty-States of </a:t>
            </a:r>
            <a:br>
              <a:rPr sz="1200"/>
            </a:br>
            <a:r>
              <a:rPr b="0" lang="en-US" sz="1200" spc="-1" strike="noStrike">
                <a:solidFill>
                  <a:srgbClr val="000000"/>
                </a:solidFill>
                <a:latin typeface="Times New Roman"/>
              </a:rPr>
              <a:t>Ancient Gree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and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 W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ine of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ty-States of </a:t>
            </a:r>
            <a:br>
              <a:rPr sz="1200"/>
            </a:br>
            <a:r>
              <a:rPr b="0" lang="en-US" sz="1200" spc="-1" strike="noStrike">
                <a:solidFill>
                  <a:srgbClr val="000000"/>
                </a:solidFill>
                <a:latin typeface="Times New Roman"/>
              </a:rPr>
              <a:t>Ancient Gree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and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 W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ine of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s toug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story about a Spartan boy who, in order to conceal a fox which he had stolen, hid it beneath his cloak and allowed the fox to gnaw him rather than let the theft be revealed. He died of the wounds. If he had been discovered, the disgrace would not have been in the stealing, but in allowing it to be detected. The boy's action illustrates the main purpose of the Spartan educational system, which was to produce men capable of showing such bravery as soldiers. Military strength was felt to be necessary to Sparta for their very surviv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s t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story about a Spartan boy who, in order to conceal a fox which he had stolen, hid it beneath his cloak and allowed the fox to gnaw him rather than let the theft be revealed. He died of the wounds. If he had been discovered, the disgrace would not have been in the stealing, but in allowing it to be detected. The boy's action illustrates the main purpose of the Spartan educational system, which was to produce men capable of showing such bravery as soldiers. Military strength was felt to be necessary to Sparta for their very surviv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s = City-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was divided into city-states, each known as a polis.  The two main city-states were Sparta and Athens.  The greatest of these was Athens which was a center of intellectual and cultural development - “the nursery of western civilization.”  What do you think that me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s = City-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was divided into city-states, each known as a polis.  The two main city-states were Sparta and Athens.  The greatest of these was Athens which was a center of intellectual and cultural development - “the nursery of western civilization.”  What do you think that m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ernment &amp; Educ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ian democracy was for free, male Athenians only.  Education for men was highly valued.  Only boys of wealthy families attended schools.  The term academy comes from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ernment &amp; Edu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ian democracy was for free, male Athenians only.  Education for men was highly valued.  Only boys of wealthy families attended schools.  The term academy comes from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of the Pol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olis was built around an acropolis, a fortified hill with the temple of the local god at the to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of the Pol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olis was built around an acropolis, a fortified hill with the temple of the local god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of the Pol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foot of the acropolis was the agora, an open area used as a marketplace.  By 700 B.C. this inner part of the polis had become a city.  With the villages and farmland around it, it made up a city-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of the Pol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foot of the acropolis was the agora, an open area used as a marketplace.  By 700 B.C. this inner part of the polis had become a city.  With the villages and farmland around it, it made up a city-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 was knows for its great navy and was a rival of Sparta.  Its ships were known as triremes because they had three levels of ro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 was knows for its great navy and was a rival of Sparta.  Its ships were known as triremes because they had three levels of ro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8C8A97-E534-4F98-86B4-7CF9AD000A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F9DD70-ED03-4E86-B7A6-AFCE82E462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371EB2-9A11-4510-BE75-10F68415AE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85CD99-3C12-4853-90CC-DC4C93A1AC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28D14B-85EE-40AC-A4B2-42E5BA49B6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38DCAF-0AB8-4D05-90CF-9D995CA917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52AAF8-C48F-47B3-98FC-8420485DA8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26A385-460B-4723-ADBA-4A2729B1A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55CD50-844F-43C5-88D2-4906C293EC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04672-F2CF-423F-9339-632E2300B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E6C25-2A15-453E-B170-9B204DFDCB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7C089-2AFE-49D3-95C2-C81F1EF724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3BF0F-6464-4F4C-8398-1FDE8167FC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ity-States of Greec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arta and Athen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ersian War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elian League</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ecline of Athens</a:t>
            </a:r>
            <a:endParaRPr b="0" lang="en-US" sz="3200" spc="-1" strike="noStrike">
              <a:solidFill>
                <a:srgbClr val="000000"/>
              </a:solidFill>
              <a:latin typeface="Times New Roman"/>
            </a:endParaRPr>
          </a:p>
        </p:txBody>
      </p:sp>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tle of Marathon</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rsians were defeated by the Athenians at the Battle of Marathon.  The Athenians were so joyful in victory that they sent a professional runner, Pheidippides, back to Athens.</a:t>
            </a:r>
            <a:endParaRPr b="0" lang="en-US" sz="2800" spc="-1" strike="noStrike">
              <a:solidFill>
                <a:srgbClr val="000000"/>
              </a:solidFill>
              <a:latin typeface="Times New Roman"/>
            </a:endParaRPr>
          </a:p>
        </p:txBody>
      </p:sp>
      <p:pic>
        <p:nvPicPr>
          <p:cNvPr id="82" name="Picture 13" descr=""/>
          <p:cNvPicPr/>
          <p:nvPr/>
        </p:nvPicPr>
        <p:blipFill>
          <a:blip r:embed="rId1"/>
          <a:stretch/>
        </p:blipFill>
        <p:spPr>
          <a:xfrm>
            <a:off x="3059280" y="1981080"/>
            <a:ext cx="3024000" cy="1981440"/>
          </a:xfrm>
          <a:prstGeom prst="rect">
            <a:avLst/>
          </a:prstGeom>
          <a:ln w="0">
            <a:noFill/>
          </a:ln>
        </p:spPr>
      </p:pic>
      <p:sp>
        <p:nvSpPr>
          <p:cNvPr id="8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run extraordinaire. . .</a:t>
            </a:r>
            <a:endParaRPr b="0" lang="en-US" sz="4400" spc="-1" strike="noStrike">
              <a:solidFill>
                <a:srgbClr val="000000"/>
              </a:solidFill>
              <a:latin typeface="Times New Roman"/>
            </a:endParaRPr>
          </a:p>
        </p:txBody>
      </p:sp>
      <p:sp>
        <p:nvSpPr>
          <p:cNvPr id="8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eidippidies ran about 26 miles to Athens to report the victory.  When he arrived, he cried out, “Nike!” and died from exhaustion.  Nike is the goddess of victory.</a:t>
            </a:r>
            <a:endParaRPr b="0" lang="en-US" sz="2800" spc="-1" strike="noStrike">
              <a:solidFill>
                <a:srgbClr val="000000"/>
              </a:solidFill>
              <a:latin typeface="Times New Roman"/>
            </a:endParaRPr>
          </a:p>
        </p:txBody>
      </p:sp>
      <p:pic>
        <p:nvPicPr>
          <p:cNvPr id="86" name="Picture 5" descr=""/>
          <p:cNvPicPr/>
          <p:nvPr/>
        </p:nvPicPr>
        <p:blipFill>
          <a:blip r:embed="rId1"/>
          <a:stretch/>
        </p:blipFill>
        <p:spPr>
          <a:xfrm>
            <a:off x="4648320" y="1909800"/>
            <a:ext cx="3809880" cy="4103640"/>
          </a:xfrm>
          <a:prstGeom prst="rect">
            <a:avLst/>
          </a:prstGeom>
          <a:ln w="0">
            <a:noFill/>
          </a:ln>
        </p:spPr>
      </p:pic>
      <p:sp>
        <p:nvSpPr>
          <p:cNvPr id="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Marathon</a:t>
            </a:r>
            <a:endParaRPr b="0" lang="en-US" sz="4400" spc="-1" strike="noStrike">
              <a:solidFill>
                <a:srgbClr val="000000"/>
              </a:solidFill>
              <a:latin typeface="Times New Roman"/>
            </a:endParaRPr>
          </a:p>
        </p:txBody>
      </p:sp>
      <p:sp>
        <p:nvSpPr>
          <p:cNvPr id="8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e 1896 Olympic marathon distance of 24.8 miles was based on the distance run by Pheidippides.  At the 1908 Olympic Games in London, the marathon distance was changed to 26.2 miles to cover the ground from Windsor Castle to White City Stadium, with the 2.2 miles added on so the race could finish in front of royal family's viewing box. This added two miles to the course, and is the origin of the Marathon tradition of shouting "God save the Queen!" (or other words relating to the Queen) as mile post 24 is passed. After 16 years of sometimes angry discussion, this 26.2 mile distance was established at the 1924 Olympics in Paris as the official marathon distance.</a:t>
            </a:r>
            <a:endParaRPr b="0" lang="en-US" sz="1300" spc="-1" strike="noStrike">
              <a:solidFill>
                <a:srgbClr val="000000"/>
              </a:solidFill>
              <a:latin typeface="Times New Roman"/>
            </a:endParaRPr>
          </a:p>
        </p:txBody>
      </p:sp>
      <p:pic>
        <p:nvPicPr>
          <p:cNvPr id="90" name="Picture 5" descr=""/>
          <p:cNvPicPr/>
          <p:nvPr/>
        </p:nvPicPr>
        <p:blipFill>
          <a:blip r:embed="rId1"/>
          <a:stretch/>
        </p:blipFill>
        <p:spPr>
          <a:xfrm>
            <a:off x="5824440" y="1981080"/>
            <a:ext cx="1457280" cy="4114800"/>
          </a:xfrm>
          <a:prstGeom prst="rect">
            <a:avLst/>
          </a:prstGeom>
          <a:ln w="0">
            <a:noFill/>
          </a:ln>
        </p:spPr>
      </p:pic>
      <p:sp>
        <p:nvSpPr>
          <p:cNvPr id="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arta</a:t>
            </a:r>
            <a:endParaRPr b="0" lang="en-US" sz="4400" spc="-1" strike="noStrike">
              <a:solidFill>
                <a:srgbClr val="000000"/>
              </a:solidFill>
              <a:latin typeface="Times New Roman"/>
            </a:endParaRPr>
          </a:p>
        </p:txBody>
      </p:sp>
      <p:sp>
        <p:nvSpPr>
          <p:cNvPr id="9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arta was known for its great army and was a rival of Athens.  Their army was known for holding off  the Persian army of 250,000 at Thermopylae for three days with only 7000 soldiers.  This gave the people of Athens time to escape before the Persians invaded there.</a:t>
            </a:r>
            <a:endParaRPr b="0" lang="en-US" sz="2400" spc="-1" strike="noStrike">
              <a:solidFill>
                <a:srgbClr val="000000"/>
              </a:solidFill>
              <a:latin typeface="Times New Roman"/>
            </a:endParaRPr>
          </a:p>
        </p:txBody>
      </p:sp>
      <p:pic>
        <p:nvPicPr>
          <p:cNvPr id="94" name="Picture 7" descr=""/>
          <p:cNvPicPr/>
          <p:nvPr/>
        </p:nvPicPr>
        <p:blipFill>
          <a:blip r:embed="rId1"/>
          <a:stretch/>
        </p:blipFill>
        <p:spPr>
          <a:xfrm>
            <a:off x="4935600" y="1981080"/>
            <a:ext cx="3233520" cy="4114800"/>
          </a:xfrm>
          <a:prstGeom prst="rect">
            <a:avLst/>
          </a:prstGeom>
          <a:ln w="0">
            <a:noFill/>
          </a:ln>
        </p:spPr>
      </p:pic>
      <p:sp>
        <p:nvSpPr>
          <p:cNvPr id="9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rmopylae</a:t>
            </a:r>
            <a:endParaRPr b="0" lang="en-US" sz="4400" spc="-1" strike="noStrike">
              <a:solidFill>
                <a:srgbClr val="000000"/>
              </a:solidFill>
              <a:latin typeface="Times New Roman"/>
            </a:endParaRPr>
          </a:p>
        </p:txBody>
      </p:sp>
      <p:pic>
        <p:nvPicPr>
          <p:cNvPr id="97" name="Picture 4" descr=""/>
          <p:cNvPicPr/>
          <p:nvPr/>
        </p:nvPicPr>
        <p:blipFill>
          <a:blip r:embed="rId1"/>
          <a:stretch/>
        </p:blipFill>
        <p:spPr>
          <a:xfrm>
            <a:off x="2666880" y="1981080"/>
            <a:ext cx="3581640" cy="2338560"/>
          </a:xfrm>
          <a:prstGeom prst="rect">
            <a:avLst/>
          </a:prstGeom>
          <a:ln w="0">
            <a:noFill/>
          </a:ln>
        </p:spPr>
      </p:pic>
      <p:sp>
        <p:nvSpPr>
          <p:cNvPr id="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artan Goal</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arta tried to become the strongest people in Greece.  They also disliked change.  This would later prove to be a weakness for them.  Spartans preferred actions to words.  A “Spartan lifestyle” both then and today is one that is simple and highly disciplined with few luxuries.  </a:t>
            </a:r>
            <a:endParaRPr b="0" lang="en-US" sz="3200" spc="-1" strike="noStrike">
              <a:solidFill>
                <a:srgbClr val="000000"/>
              </a:solidFill>
              <a:latin typeface="Times New Roman"/>
            </a:endParaRPr>
          </a:p>
        </p:txBody>
      </p:sp>
      <p:sp>
        <p:nvSpPr>
          <p:cNvPr id="1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elian League</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elian League, based on the island of Delos, was formed to unite the Greek city-states to defend against the Persians.  Athens lead the league and gained more and more power over the other city states.  Sparta refused to join.</a:t>
            </a:r>
            <a:endParaRPr b="0" lang="en-US" sz="2400" spc="-1" strike="noStrike">
              <a:solidFill>
                <a:srgbClr val="000000"/>
              </a:solidFill>
              <a:latin typeface="Times New Roman"/>
            </a:endParaRPr>
          </a:p>
        </p:txBody>
      </p:sp>
      <p:pic>
        <p:nvPicPr>
          <p:cNvPr id="104" name="Picture 5" descr=""/>
          <p:cNvPicPr/>
          <p:nvPr/>
        </p:nvPicPr>
        <p:blipFill>
          <a:blip r:embed="rId1"/>
          <a:stretch/>
        </p:blipFill>
        <p:spPr>
          <a:xfrm>
            <a:off x="3271680" y="1981080"/>
            <a:ext cx="2600640" cy="1981440"/>
          </a:xfrm>
          <a:prstGeom prst="rect">
            <a:avLst/>
          </a:prstGeom>
          <a:ln w="0">
            <a:noFill/>
          </a:ln>
        </p:spPr>
      </p:pic>
      <p:sp>
        <p:nvSpPr>
          <p:cNvPr id="1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elian League</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ther city-states became resentful of Athens’ power over them.  A group of city-states led by Sparta waged the Peloponnesian War against Athens for 30 years until Athens surrendered to Sparta.  Later, under Spartan control, the Athenians revolted and once more set up a democracy;  but they never regained the power they once had.</a:t>
            </a:r>
            <a:endParaRPr b="0" lang="en-US" sz="3200" spc="-1" strike="noStrike">
              <a:solidFill>
                <a:srgbClr val="000000"/>
              </a:solidFill>
              <a:latin typeface="Times New Roman"/>
            </a:endParaRPr>
          </a:p>
        </p:txBody>
      </p:sp>
      <p:sp>
        <p:nvSpPr>
          <p:cNvPr id="1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eek Decline</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reeks began to lose their sense of community and fought with one another.  In 338 B.C.  Philip II of Macedonia north of Greece  (Alexander the Great’s father) conquered Greece.</a:t>
            </a:r>
            <a:endParaRPr b="0" lang="en-US" sz="3200" spc="-1" strike="noStrike">
              <a:solidFill>
                <a:srgbClr val="000000"/>
              </a:solidFill>
              <a:latin typeface="Times New Roman"/>
            </a:endParaRPr>
          </a:p>
        </p:txBody>
      </p:sp>
      <p:sp>
        <p:nvSpPr>
          <p:cNvPr id="1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ography In History</a:t>
            </a:r>
            <a:endParaRPr b="0" lang="en-US" sz="4400" spc="-1" strike="noStrike">
              <a:solidFill>
                <a:srgbClr val="000000"/>
              </a:solidFill>
              <a:latin typeface="Times New Roman"/>
            </a:endParaRPr>
          </a:p>
        </p:txBody>
      </p:sp>
      <p:sp>
        <p:nvSpPr>
          <p:cNvPr id="113"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ncient Greek city-states never united because the land was very mountainous and hilly making travel difficult.  This is one case where geography influenced history.</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4" name="Picture 5" descr=""/>
          <p:cNvPicPr/>
          <p:nvPr/>
        </p:nvPicPr>
        <p:blipFill>
          <a:blip r:embed="rId1"/>
          <a:stretch/>
        </p:blipFill>
        <p:spPr>
          <a:xfrm>
            <a:off x="685800" y="2270160"/>
            <a:ext cx="3809880" cy="3535200"/>
          </a:xfrm>
          <a:prstGeom prst="rect">
            <a:avLst/>
          </a:prstGeom>
          <a:ln w="0">
            <a:noFill/>
          </a:ln>
        </p:spPr>
      </p:pic>
      <p:sp>
        <p:nvSpPr>
          <p:cNvPr id="1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ity-States of </a:t>
            </a:r>
            <a:br>
              <a:rPr sz="4400"/>
            </a:br>
            <a:r>
              <a:rPr b="0" lang="en-US" sz="4400" spc="-1" strike="noStrike">
                <a:solidFill>
                  <a:srgbClr val="000000"/>
                </a:solidFill>
                <a:latin typeface="Times New Roman"/>
              </a:rPr>
              <a:t>Ancient Greece</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arta and Athe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rsian War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lian Leagu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cline of Athens</a:t>
            </a:r>
            <a:endParaRPr b="0" lang="en-US" sz="2800" spc="-1" strike="noStrike">
              <a:solidFill>
                <a:srgbClr val="000000"/>
              </a:solidFill>
              <a:latin typeface="Times New Roman"/>
            </a:endParaRPr>
          </a:p>
        </p:txBody>
      </p:sp>
      <p:pic>
        <p:nvPicPr>
          <p:cNvPr id="53" name="Picture 13" descr=""/>
          <p:cNvPicPr/>
          <p:nvPr/>
        </p:nvPicPr>
        <p:blipFill>
          <a:blip r:embed="rId1"/>
          <a:stretch/>
        </p:blipFill>
        <p:spPr>
          <a:xfrm>
            <a:off x="3048120" y="1981080"/>
            <a:ext cx="3047760" cy="1981440"/>
          </a:xfrm>
          <a:prstGeom prst="rect">
            <a:avLst/>
          </a:prstGeom>
          <a:ln w="0">
            <a:noFill/>
          </a:ln>
        </p:spPr>
      </p:pic>
      <p:sp>
        <p:nvSpPr>
          <p:cNvPr id="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End.</a:t>
            </a:r>
            <a:endParaRPr b="0" lang="en-US" sz="4400" spc="-1" strike="noStrike">
              <a:solidFill>
                <a:srgbClr val="000000"/>
              </a:solidFill>
              <a:latin typeface="Times New Roman"/>
            </a:endParaRPr>
          </a:p>
        </p:txBody>
      </p:sp>
      <p:pic>
        <p:nvPicPr>
          <p:cNvPr id="117" name="Picture 4" descr=""/>
          <p:cNvPicPr/>
          <p:nvPr/>
        </p:nvPicPr>
        <p:blipFill>
          <a:blip r:embed="rId1"/>
          <a:stretch/>
        </p:blipFill>
        <p:spPr>
          <a:xfrm>
            <a:off x="1376280" y="1981080"/>
            <a:ext cx="6391440" cy="4114800"/>
          </a:xfrm>
          <a:prstGeom prst="rect">
            <a:avLst/>
          </a:prstGeom>
          <a:ln w="0">
            <a:noFill/>
          </a:ln>
        </p:spPr>
      </p:pic>
      <p:sp>
        <p:nvSpPr>
          <p:cNvPr id="1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w that’s tough!</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solidFill>
            <a:srgbClr val="bbe0e3"/>
          </a:solidFill>
          <a:ln w="0">
            <a:noFill/>
          </a:ln>
        </p:spPr>
        <p:txBody>
          <a:bodyPr anchor="t">
            <a:normAutofit/>
          </a:bodyPr>
          <a:p>
            <a:pPr marL="343080" indent="-343080">
              <a:lnSpc>
                <a:spcPct val="100000"/>
              </a:lnSpc>
              <a:spcBef>
                <a:spcPts val="4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There is a story about a Spartan boy who, in order to conceal a fox which he had stolen, hid it beneath his cloak and allowed the fox to gnaw him rather than let the theft be revealed. He died of the wounds. If he had been discovered, the disgrace would not have been in the stealing, but in allowing it to be detected. The boy's action illustrates the main purpose of the Spartan educational system, which was to produce men capable of showing such bravery as soldiers. Military strength was felt to be necessary to Sparta for their very survival.</a:t>
            </a:r>
            <a:endParaRPr b="0" lang="en-US" sz="2000" spc="-1" strike="noStrike">
              <a:solidFill>
                <a:srgbClr val="000000"/>
              </a:solidFill>
              <a:latin typeface="Times New Roman"/>
            </a:endParaRPr>
          </a:p>
        </p:txBody>
      </p:sp>
      <p:sp>
        <p:nvSpPr>
          <p:cNvPr id="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lis = City-State</a:t>
            </a:r>
            <a:endParaRPr b="0" lang="en-US" sz="4400" spc="-1" strike="noStrike">
              <a:solidFill>
                <a:srgbClr val="000000"/>
              </a:solidFill>
              <a:latin typeface="Times New Roman"/>
            </a:endParaRPr>
          </a:p>
        </p:txBody>
      </p:sp>
      <p:sp>
        <p:nvSpPr>
          <p:cNvPr id="5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ce was divided into city-states, each known as a polis.  The two main city-states were Sparta and Athens.  The greatest of these was Athens which was a center of intellectual and cultural development - “the nursery of western civilization.”  What do you think that means?</a:t>
            </a:r>
            <a:endParaRPr b="0" lang="en-US" sz="2400" spc="-1" strike="noStrike">
              <a:solidFill>
                <a:srgbClr val="000000"/>
              </a:solidFill>
              <a:latin typeface="Times New Roman"/>
            </a:endParaRPr>
          </a:p>
        </p:txBody>
      </p:sp>
      <p:pic>
        <p:nvPicPr>
          <p:cNvPr id="60" name="Picture 5" descr=""/>
          <p:cNvPicPr/>
          <p:nvPr/>
        </p:nvPicPr>
        <p:blipFill>
          <a:blip r:embed="rId1"/>
          <a:stretch/>
        </p:blipFill>
        <p:spPr>
          <a:xfrm>
            <a:off x="4648320" y="2666880"/>
            <a:ext cx="3809880" cy="2743200"/>
          </a:xfrm>
          <a:prstGeom prst="rect">
            <a:avLst/>
          </a:prstGeom>
          <a:ln w="0">
            <a:noFill/>
          </a:ln>
        </p:spPr>
      </p:pic>
      <p:sp>
        <p:nvSpPr>
          <p:cNvPr id="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3" descr=""/>
          <p:cNvPicPr/>
          <p:nvPr/>
        </p:nvPicPr>
        <p:blipFill>
          <a:blip r:embed="rId1"/>
          <a:stretch/>
        </p:blipFill>
        <p:spPr>
          <a:xfrm>
            <a:off x="609480" y="1914480"/>
            <a:ext cx="7772400" cy="2874960"/>
          </a:xfrm>
          <a:prstGeom prst="rect">
            <a:avLst/>
          </a:prstGeom>
          <a:ln w="0">
            <a:noFill/>
          </a:ln>
        </p:spPr>
      </p:pic>
      <p:sp>
        <p:nvSpPr>
          <p:cNvPr id="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vernment &amp; Education</a:t>
            </a:r>
            <a:endParaRPr b="0" lang="en-US" sz="4400" spc="-1" strike="noStrike">
              <a:solidFill>
                <a:srgbClr val="000000"/>
              </a:solidFill>
              <a:latin typeface="Times New Roman"/>
            </a:endParaRPr>
          </a:p>
        </p:txBody>
      </p:sp>
      <p:sp>
        <p:nvSpPr>
          <p:cNvPr id="65"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henian democracy was for free, male Athenians only.  Education for men was highly valued.  Only boys of wealthy families attended schools.  The term academy comes from Athens.</a:t>
            </a:r>
            <a:endParaRPr b="0" lang="en-US" sz="2800" spc="-1" strike="noStrike">
              <a:solidFill>
                <a:srgbClr val="000000"/>
              </a:solidFill>
              <a:latin typeface="Times New Roman"/>
            </a:endParaRPr>
          </a:p>
        </p:txBody>
      </p:sp>
      <p:pic>
        <p:nvPicPr>
          <p:cNvPr id="66" name="Picture 7" descr=""/>
          <p:cNvPicPr/>
          <p:nvPr/>
        </p:nvPicPr>
        <p:blipFill>
          <a:blip r:embed="rId1"/>
          <a:stretch/>
        </p:blipFill>
        <p:spPr>
          <a:xfrm>
            <a:off x="685800" y="2949480"/>
            <a:ext cx="3809880" cy="2176560"/>
          </a:xfrm>
          <a:prstGeom prst="rect">
            <a:avLst/>
          </a:prstGeom>
          <a:ln w="0">
            <a:noFill/>
          </a:ln>
        </p:spPr>
      </p:pic>
      <p:sp>
        <p:nvSpPr>
          <p:cNvPr id="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ucture of the Polis</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polis was built around an acropolis, a fortified hill with the temple of the local god at the top.</a:t>
            </a:r>
            <a:endParaRPr b="0" lang="en-US" sz="2800" spc="-1" strike="noStrike">
              <a:solidFill>
                <a:srgbClr val="000000"/>
              </a:solidFill>
              <a:latin typeface="Times New Roman"/>
            </a:endParaRPr>
          </a:p>
        </p:txBody>
      </p:sp>
      <p:pic>
        <p:nvPicPr>
          <p:cNvPr id="70" name="Picture 5" descr=""/>
          <p:cNvPicPr/>
          <p:nvPr/>
        </p:nvPicPr>
        <p:blipFill>
          <a:blip r:embed="rId1"/>
          <a:stretch/>
        </p:blipFill>
        <p:spPr>
          <a:xfrm>
            <a:off x="2801880" y="1981080"/>
            <a:ext cx="3538440" cy="1981440"/>
          </a:xfrm>
          <a:prstGeom prst="rect">
            <a:avLst/>
          </a:prstGeom>
          <a:ln w="0">
            <a:noFill/>
          </a:ln>
        </p:spPr>
      </p:pic>
      <p:sp>
        <p:nvSpPr>
          <p:cNvPr id="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ucture of the Polis</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the foot of the acropolis was the agora, an open area used as a marketplace.  By 700 B.C. this inner part of the polis had become a city.  With the villages and farmland around it, it made up a city-state.</a:t>
            </a:r>
            <a:endParaRPr b="0" lang="en-US" sz="2400" spc="-1" strike="noStrike">
              <a:solidFill>
                <a:srgbClr val="000000"/>
              </a:solidFill>
              <a:latin typeface="Times New Roman"/>
            </a:endParaRPr>
          </a:p>
        </p:txBody>
      </p:sp>
      <p:pic>
        <p:nvPicPr>
          <p:cNvPr id="74" name="Picture 5" descr=""/>
          <p:cNvPicPr/>
          <p:nvPr/>
        </p:nvPicPr>
        <p:blipFill>
          <a:blip r:embed="rId1"/>
          <a:stretch/>
        </p:blipFill>
        <p:spPr>
          <a:xfrm>
            <a:off x="3292560" y="4114800"/>
            <a:ext cx="2557440" cy="1981080"/>
          </a:xfrm>
          <a:prstGeom prst="rect">
            <a:avLst/>
          </a:prstGeom>
          <a:ln w="0">
            <a:noFill/>
          </a:ln>
        </p:spPr>
      </p:pic>
      <p:sp>
        <p:nvSpPr>
          <p:cNvPr id="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hens</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hens was knows for its great navy and was a rival of Sparta.  Its ships were known as triremes because they had three levels of rower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8" name="Picture 5" descr=""/>
          <p:cNvPicPr/>
          <p:nvPr/>
        </p:nvPicPr>
        <p:blipFill>
          <a:blip r:embed="rId1"/>
          <a:stretch/>
        </p:blipFill>
        <p:spPr>
          <a:xfrm>
            <a:off x="2954160" y="4114800"/>
            <a:ext cx="3235680" cy="1981080"/>
          </a:xfrm>
          <a:prstGeom prst="rect">
            <a:avLst/>
          </a:prstGeom>
          <a:ln w="0">
            <a:noFill/>
          </a:ln>
        </p:spPr>
      </p:pic>
      <p:sp>
        <p:nvSpPr>
          <p:cNvPr id="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7T12:48:17Z</dcterms:created>
  <dc:creator>acsd acsd</dc:creator>
  <dc:description/>
  <dc:language>en-US</dc:language>
  <cp:lastModifiedBy>LEGION</cp:lastModifiedBy>
  <dcterms:modified xsi:type="dcterms:W3CDTF">2017-07-03T10:09:24Z</dcterms:modified>
  <cp:revision>45</cp:revision>
  <dc:subject/>
  <dc:title>The City-States of Greece </dc:title>
</cp:coreProperties>
</file>